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7F4-05F6-4366-80E3-B0526DE2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3B2-03E1-4E1E-A7D2-21F41C4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2CC-613D-4B5C-A17D-A2E46EA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922-E984-4CD4-AE49-2FC709F5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4B03-F858-4D4F-91EE-72DF46E7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CD0-579D-41BC-8BC4-053421A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6389-9371-491F-958D-57B6AAD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B0BF-E207-42D1-AC6C-FFDED496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442D-ACFA-476C-A5E5-442A4ECD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8799-71F8-4C51-B724-C39BEE24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3771-3087-4CA2-8494-90700FBD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688-8CD3-41C5-B71F-36634E1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255F-06AF-4E44-8A6A-E3FF955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424-D3AD-473B-A19C-8502F50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0EE-C87A-437B-A24D-27984FCE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0623-9247-414E-B745-8C03A86B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F8C-E75A-4F28-9F63-3F2184EB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98A-7340-4031-96C6-9553F85B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E1-E661-4C6E-BBE0-553511A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C46-CC71-4C3F-83A7-E28134C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ED6-CDEB-4853-A2C6-A7B70635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F54-B155-4431-8EE3-2216E3D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845-4D18-4E2B-A7B4-81648DB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0B4-7BED-4051-9D89-96943A1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B57-3FCE-42B0-852C-EB2331D6107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ABD-BE85-4228-97F5-1D355160DDE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糖尿病病人的护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杨润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699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目前强调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早期治疗、长期治疗、综合治疗、个体化治疗的原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体措施以饮食治疗和合适的体育锻炼为基础，根据不同病情给予药物治疗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4560" y="1267920"/>
            <a:ext cx="7345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一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、饮食疗法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出标准体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准体重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高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总热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公斤体重热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准体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每公斤体重热量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休  息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轻体力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体力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体力 ——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卡以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34136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二、运动锻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适当参加体育运动和体力劳动，可增加胰岛素敏感性促进糖的利用，使血糖下降减轻胰岛的负担。也能降低血脂，减轻体重改善生理状况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77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三、药物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㈠磺脲类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用机理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刺激胰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分泌胰岛素，可改善胰岛素受体，增强靶细胞对胰岛素的敏感性，故认为可能有胰外降血糖作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应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，较轻、无合并症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02920" y="1196640"/>
            <a:ext cx="676908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㈡双胍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用机理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葡萄糖酵解，抑制葡萄糖异生，促进肌肉等外周组织摄取葡萄糖，抑制或延缓葡萄糖的吸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应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，较轻，无合并症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于磺脲类合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三、胰岛素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适应症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继发性糖尿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所有重症、有特殊情况的糖尿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胰岛素的种类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效（正规、普通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效（中性鱼精蛋白锌胰岛素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效（鱼精蛋白锌胰岛素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669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四、酮症酸中毒的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输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纠正电解质及酸碱平衡失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积极治疗诱因和并发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治疗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7280" y="1699920"/>
            <a:ext cx="64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五、高渗性昏迷的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：同酮症酸中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㈡补液纠正休克和脱水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㈢止抽：安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mg  i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㈣治疗诱因和并发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㈤预后：死亡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常用护理诊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38200" y="1341360"/>
            <a:ext cx="626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．营养失调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低于或高于机体需要量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．有感染的危险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与血糖增高等因素有关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3</a:t>
            </a:r>
            <a:r>
              <a:rPr b="1" lang="zh-CN" sz="3000" spc="-1" strike="noStrike">
                <a:solidFill>
                  <a:srgbClr val="ff6600"/>
                </a:solidFill>
                <a:latin typeface="Tahoma"/>
              </a:rPr>
              <a:t>．潜在并发症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酮症酸中毒、高渗性昏迷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．营养失调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既可表现为低于机体需要量，又可表现为高于机体需要量。在临床护理中，作出恰当的护理诊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饮食护理  合适的饮食有利于减轻体重，控制高血糖和防止低血糖，改善脂代谢紊乱和高血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定    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626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糖尿病是一个由于胰岛素绝对或相对不足，或者伴有靶细胞对胰岛素敏感性降低，导致血糖增高，进而引起三大物质代谢紊乱的内分泌代谢性疾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69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计算总热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碳水化合物、蛋白质和脂肪的分配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碳水化合物约占饮食总热量的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-60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，蛋白质含量一般不超过总热量的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，脂肪约占总热量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％。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每餐热量合理分配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糖尿病病人饮食注意事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严格定时进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控制饮食的关键在于控制总热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严格限制各种甜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病人进行体育锻炼时不宜空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⑤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保持大便通畅、多食含纤维素高的食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每周定期测量体重一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2920" y="155700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休息与运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锻炼的方式 最好做有氧运动，如步行、慢跑、骑自行车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的注意事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动前评估糖尿病的控制情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随身携带糖果，不宜空腹运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(3)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</a:rPr>
              <a:t>口服降糖药物护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护士除了解各类降糖药物的作用、剂量、用法外，还应掌握药物的副作用和注意事项。①磺脲类药物主要副作用是低血糖反应。②双胍类药物不良反应有腹部不适、口中金属味、恶心、畏食、腹泻等。因双胍类药物促进无氧糖酵解，产生乳酸，在肝、肾功能不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休克或心力衰竭者可诱发乳酸性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观察病人血糖、尿糖、尿量和体重变化，评价药物疗效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导病人按时进餐，切勿提前或推后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(4)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胰岛素治疗的护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准确执行医嘱  做到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制剂种类正确，剂量准确，按时注射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注射时间、部位和方法  掌握胰岛素的注射时间，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普通胰岛素于饭前半小时皮下注射，低精蛋白锌胰岛素在早餐前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1h</a:t>
            </a:r>
            <a:r>
              <a:rPr b="0" lang="zh-CN" sz="2800" spc="-1" strike="noStrike">
                <a:solidFill>
                  <a:srgbClr val="ff6600"/>
                </a:solidFill>
                <a:latin typeface="Tahoma"/>
              </a:rPr>
              <a:t>皮下注射。长、短效胰岛素混合使用时，应先抽吸短效胰岛素，再抽吸长效胰岛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注射胰岛素时应严格无菌操作，防止发生感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胰岛素不良反应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①低血糖反应，是最主要的不良反应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与剂量过大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饮食失调有关。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表现有头昏、心悸、多汗、饥饿甚至昏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②胰岛素过敏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③注射部位皮下脂肪萎缩或增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使用胰岛素治疗过程中应定期监测尿糖、血糖变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．有感染的危险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皮肤护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呼吸道、口鼻腔的护理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泌尿道的护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足部护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护理措施及依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6600"/>
                </a:solidFill>
                <a:latin typeface="Tahoma"/>
              </a:rPr>
              <a:t>．潜在并发症       酮症酸中毒、高渗性昏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监测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急救护理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①立即建立两条静脉通路，准确执医嘱，确保液体和胰岛素的入。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　②病人绝对卧床休息，注意保暖，预防压疮和继发感染。昏迷者按昏迷常规护理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保健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指导病人提高自我监测和自我护理的能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帮助糖尿病病人家属了解有关糖尿病的知识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指导病人定期复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教导病人外出时随身携带识别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病    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1844640"/>
            <a:ext cx="4680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遗传易感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自身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病毒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诱发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7640" y="155700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代谢紊乱综合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典型症状“三多一少”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多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多饮、多食、体重下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糖尿病急性并发症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糖尿病酮症酸中毒（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DKA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渗性昏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临床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11280" y="155700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、糖尿病慢性并发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心血管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肾脏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神经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眼部病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糖尿病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常眼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09564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024000" cy="273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40360" y="907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眼底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68000" y="549000"/>
            <a:ext cx="44643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糖尿病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18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辅助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57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尿糖测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血糖测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空腹及餐后血糖增高是诊断糖尿病的主要依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口服葡萄糖耐量试验（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OGTT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适应症：可疑糖尿病患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法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验前三天进碳水化合物不少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0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验前日晚餐后禁食，禁食至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验当日晨取血后将葡萄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50-3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水中，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服下，服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80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采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血标本一同送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四、</a:t>
            </a:r>
            <a:r>
              <a:rPr b="1" lang="zh-CN" sz="2400" spc="-1" strike="noStrike">
                <a:solidFill>
                  <a:srgbClr val="cc00cc"/>
                </a:solidFill>
                <a:latin typeface="Tahoma"/>
              </a:rPr>
              <a:t>糖化血红蛋白</a:t>
            </a:r>
            <a:r>
              <a:rPr b="1" lang="zh-CN" sz="2400" spc="-1" strike="noStrike">
                <a:solidFill>
                  <a:srgbClr val="cc00cc"/>
                </a:solidFill>
                <a:latin typeface="Tahoma"/>
              </a:rPr>
              <a:t>A1</a:t>
            </a:r>
            <a:r>
              <a:rPr b="1" lang="zh-CN" sz="2400" spc="-1" strike="noStrike">
                <a:solidFill>
                  <a:srgbClr val="cc00cc"/>
                </a:solidFill>
                <a:latin typeface="Tahoma"/>
              </a:rPr>
              <a:t>和糖化血浆白蛋白测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诊断要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20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年美国糖尿病协会建议修改标准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  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有糖尿病症状，加上一天中任何时候血糖≥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11.1 mmo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／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L 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，（或）空腹≥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7.0 mmo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／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，或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OGTT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中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2HPG ≥ 11.1 mmo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／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L</a:t>
            </a:r>
            <a:r>
              <a:rPr b="1" lang="zh-CN" sz="3000" spc="-1" strike="noStrike">
                <a:solidFill>
                  <a:srgbClr val="cc00cc"/>
                </a:solidFill>
                <a:latin typeface="宋体"/>
              </a:rPr>
              <a:t>可诊断为糖尿病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54:15Z</dcterms:created>
  <dc:creator>Gamp</dc:creator>
  <dc:description/>
  <dc:language>en-US</dc:language>
  <cp:lastModifiedBy>汤召兵</cp:lastModifiedBy>
  <dcterms:modified xsi:type="dcterms:W3CDTF">2010-04-16T09:01:31Z</dcterms:modified>
  <cp:revision>35</cp:revision>
  <dc:subject/>
  <dc:title>糖尿病的护理</dc:title>
</cp:coreProperties>
</file>