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35B-1209-4885-B37B-8CFAAF00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9BD-6FED-4700-8FAA-8EB197BC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B66-0DE9-48BB-AD2B-AC9F61DF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C44-EFF2-4794-A666-1AF79BCD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8FCB-3B2E-4D21-8294-2F9462BB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739E-3123-47F9-8CD8-5385399B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28AE-EB54-4BF7-AD64-737AA878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19A2-FEE2-4A4D-8274-16ADDC3F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8834-7BC2-424A-8835-85C2026A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8380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B059-E2FC-445B-BFDB-47648EC9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7FEE-E498-49A2-881E-6A4244FF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863-A46F-496A-A73C-89AF606D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EB79-947F-4C8D-97FB-72D9B91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0EFC-C1D6-4A8E-9B51-DD0F48D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E4DC-1C8D-41E1-8B4D-F3915170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6BDB-1B96-411C-97C8-F9829AA1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AE89-2178-4C80-B141-F7445E03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002-4E2F-4CC1-AEC8-A913B264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8B8-30DC-45E8-8A74-EF01352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3EB-5B36-4201-9748-96D16AE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8380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F51-CF88-4681-AFCC-153D742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0AB-59DC-47EA-80B4-3DA718A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571-0882-4489-A94C-F5250CD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44C-AD3E-4175-A1BA-F0FF7589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292D-F2D1-4B81-AF85-D9C728C712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14B4-EBB8-45F5-A862-FDE076BF79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5546880"/>
            <a:ext cx="1440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635280" y="2492280"/>
            <a:ext cx="1946520" cy="1949400"/>
            <a:chOff x="3635280" y="2492280"/>
            <a:chExt cx="1946520" cy="1949400"/>
          </a:xfrm>
        </p:grpSpPr>
        <p:sp>
          <p:nvSpPr>
            <p:cNvPr id="84" name="Oval 4"/>
            <p:cNvSpPr/>
            <p:nvPr/>
          </p:nvSpPr>
          <p:spPr>
            <a:xfrm>
              <a:off x="3635280" y="249228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"/>
            <p:cNvSpPr/>
            <p:nvPr/>
          </p:nvSpPr>
          <p:spPr>
            <a:xfrm>
              <a:off x="3635280" y="249228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"/>
            <p:cNvSpPr/>
            <p:nvPr/>
          </p:nvSpPr>
          <p:spPr>
            <a:xfrm>
              <a:off x="3762720" y="26197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"/>
            <p:cNvSpPr/>
            <p:nvPr/>
          </p:nvSpPr>
          <p:spPr>
            <a:xfrm>
              <a:off x="3762720" y="26197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a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8"/>
            <p:cNvSpPr/>
            <p:nvPr/>
          </p:nvSpPr>
          <p:spPr>
            <a:xfrm>
              <a:off x="3847320" y="2704680"/>
              <a:ext cx="1522440" cy="152424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Oval 9"/>
          <p:cNvSpPr/>
          <p:nvPr/>
        </p:nvSpPr>
        <p:spPr>
          <a:xfrm>
            <a:off x="1908000" y="836640"/>
            <a:ext cx="5399280" cy="52563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556000" y="50846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43505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5508720" y="494172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6588000" y="285264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5580000" y="7650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56000" y="6206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54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1258920" y="2924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200810151751210407563173"/>
          <p:cNvPicPr/>
          <p:nvPr/>
        </p:nvPicPr>
        <p:blipFill>
          <a:blip r:embed="rId1"/>
          <a:stretch/>
        </p:blipFill>
        <p:spPr>
          <a:xfrm>
            <a:off x="3635280" y="2060640"/>
            <a:ext cx="1944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38 0.01296 C 0.12396 -0.11204 0.30746 -0.07454 0.39791 0.09907 C 0.48975 0.27083 0.45399 0.51435 0.31962 0.63981 C 0.18541 0.7662 0.00347 0.72685 -0.08768 0.55324 C -0.17865 0.38032 -0.14479 0.13866 -0.00938 0.01296 Z">
                                      <p:cBhvr>
                                        <p:cTn id="12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C 0.12604 0.13357 0.1467 0.3801 0.04583 0.55 C -0.05539 0.71991 -0.24063 0.74931 -0.3665 0.61621 C -0.49271 0.48264 -0.51302 0.23565 -0.41216 0.06621 C -0.31094 -0.10393 -0.12605 -0.13379 3.88889E-006 -4.81481E-006 Z">
                                      <p:cBhvr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21713 -0.13281 0.39398 -0.29601 0.39398 C -0.4592 0.39398 -0.59219 0.21713 -0.59219 0 C -0.59219 -0.21736 -0.4592 -0.39352 -0.29601 -0.39352 C -0.13281 -0.39352 0 -0.21736 0 0 Z">
                                      <p:cBhvr>
                                        <p:cTn id="30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417 C -0.12378 0.13148 -0.30781 0.10764 -0.4085 -0.0581 C -0.5085 -0.22407 -0.4875 -0.46991 -0.36111 -0.60579 C -0.23507 -0.7412 -0.05069 -0.7162 0.04966 -0.55023 C 0.14983 -0.38426 0.12882 -0.13958 0.00278 -0.00417 Z">
                                      <p:cBhvr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C -0.13525 -0.12083 -0.175 -0.35996 -0.08785 -0.53357 C -0.00122 -0.70625 0.18021 -0.74908 0.31545 -0.62824 C 0.45104 -0.50718 0.48958 -0.26806 0.40278 -0.09514 C 0.31562 0.07824 0.13541 0.12083 2.22222E-006 1.48148E-006 Z">
                                      <p:cBhvr>
                                        <p:cTn id="48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C -2.77778E-007 -0.21667 0.13056 -0.39375 0.29132 -0.39375 C 0.45191 -0.39375 0.58281 -0.21667 0.58281 1.85185E-006 C 0.58281 0.21759 0.45191 0.39375 0.29132 0.39375 C 0.13056 0.39375 -2.77778E-007 0.21759 -2.77778E-007 1.85185E-006 Z">
                                      <p:cBhvr>
                                        <p:cTn id="57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79640" y="2204640"/>
            <a:ext cx="472428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f3ede"/>
                </a:solidFill>
                <a:latin typeface="Arial"/>
                <a:ea typeface="宋体"/>
              </a:rPr>
              <a:t>说说有哪些关于集体力量大的俗语，谚语，名言</a:t>
            </a:r>
            <a:endParaRPr b="0" lang="en-US" sz="40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18" name="Picture 5" descr="but1_up"/>
          <p:cNvPicPr/>
          <p:nvPr/>
        </p:nvPicPr>
        <p:blipFill>
          <a:blip r:embed="rId1"/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宋体"/>
              </a:rPr>
              <a:t>俗语，谚语：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：柴多火焰高，人多办法好。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3ede"/>
                </a:solidFill>
                <a:latin typeface="Arial"/>
                <a:ea typeface="宋体"/>
              </a:rPr>
              <a:t>星多天空亮，人多智慧广。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3ede"/>
                </a:solidFill>
                <a:latin typeface="Arial"/>
                <a:ea typeface="宋体"/>
              </a:rPr>
              <a:t>暴风可以吹断一棵大树，但在森林面前却是无能为力的。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3ede"/>
                </a:solidFill>
                <a:latin typeface="Arial"/>
                <a:ea typeface="宋体"/>
              </a:rPr>
              <a:t>一花独放不是春，百花齐放春满园。 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3ede"/>
                </a:solidFill>
                <a:latin typeface="Arial"/>
                <a:ea typeface="宋体"/>
              </a:rPr>
              <a:t>一只手，提个篮；两只手，端个盘；十只手，推动船；百只手，把河拦；千只手，推倒山。 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3ede"/>
                </a:solidFill>
                <a:latin typeface="Arial"/>
                <a:ea typeface="宋体"/>
              </a:rPr>
              <a:t>一根竹竿容易弯，三缕麻线扯难断。 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3ede"/>
                </a:solidFill>
                <a:latin typeface="Arial"/>
                <a:ea typeface="宋体"/>
              </a:rPr>
              <a:t>人心齐，泰山移，众志成城。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086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宋体"/>
              </a:rPr>
              <a:t>名言：</a:t>
            </a:r>
            <a:endParaRPr b="0" lang="en-US" sz="48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：朋友间的不和，就是敌人进攻的机会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伊索</a:t>
            </a:r>
            <a:endParaRPr b="0" lang="en-US" sz="24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一致是强有力的，而纷争易于被征服</a:t>
            </a: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伊索</a:t>
            </a:r>
            <a:endParaRPr b="0" lang="en-US" sz="24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一滴水只有放在大海里才永远不会干涸，一个人只有当把自己和集体事业融合在一起时候才能最有力量</a:t>
            </a: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雷锋</a:t>
            </a:r>
            <a:endParaRPr b="0" lang="en-US" sz="24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天时不如地利，地利不如人和</a:t>
            </a: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孟子</a:t>
            </a:r>
            <a:endParaRPr b="0" lang="en-US" sz="24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单丝不成线，独木不成林。</a:t>
            </a: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俗语</a:t>
            </a:r>
            <a:endParaRPr b="0" lang="en-US" sz="24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5.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二人同心，其力断金。</a:t>
            </a: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——《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易语</a:t>
            </a: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》</a:t>
            </a:r>
            <a:endParaRPr b="0" lang="en-US" sz="24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6.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上下同欲者胜</a:t>
            </a: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孙武</a:t>
            </a:r>
            <a:endParaRPr b="0" lang="en-US" sz="24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7.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唯宽可以容人，唯厚可以载物。</a:t>
            </a:r>
            <a:r>
              <a:rPr b="1" lang="en-US" sz="2400" spc="-1" strike="noStrike">
                <a:solidFill>
                  <a:srgbClr val="cf3ede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cf3ede"/>
                </a:solidFill>
                <a:latin typeface="Arial"/>
                <a:ea typeface="宋体"/>
              </a:rPr>
              <a:t>薛宣</a:t>
            </a:r>
            <a:endParaRPr b="0" lang="en-US" sz="24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活动二：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阳光伙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086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8216"/>
                </a:solidFill>
                <a:latin typeface="Arial"/>
                <a:ea typeface="宋体"/>
              </a:rPr>
              <a:t>游戏规则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把全班同学分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比赛组，分别是天鹅组（女生），青蛙组（男生）。每组两个人，都用绳子绑住相邻的左右脚，然后一起走到教室对面。哪组谁最先到达谁就赢。 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25" name="Picture 4" descr="but1_up"/>
          <p:cNvPicPr/>
          <p:nvPr/>
        </p:nvPicPr>
        <p:blipFill>
          <a:blip r:embed="rId1"/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9214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蝼蚁壮歌</a:t>
            </a:r>
            <a:r>
              <a:rPr b="1" lang="en-US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en-US" sz="4400" spc="-1" strike="noStrike">
                <a:solidFill>
                  <a:srgbClr val="339933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27" name="Picture 5" descr="but1_up"/>
          <p:cNvPicPr/>
          <p:nvPr/>
        </p:nvPicPr>
        <p:blipFill>
          <a:blip r:embed="rId1"/>
          <a:stretch/>
        </p:blipFill>
        <p:spPr>
          <a:xfrm>
            <a:off x="8820000" y="6539040"/>
            <a:ext cx="324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.0368 L 0 -0.07222 E">
                                      <p:cBhvr>
                                        <p:cTn id="4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147160" cy="71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南美洲一个森林边缘发生的故事：那一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天，由于游客的不慎，使临河的一片草丛起火了，顺着风势游走着的火舌活像一只红色的项链，开始围向一个小小的丘陵。这时，一位明眼的巴西向导忽然向我们叫道：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一群蚂蚁被火包围了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!"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我们随着他指点的方向看去，可不是，被火舌缩小着的包围圈里已经变成了黑压压的一片。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这群可怜的蚂蚁肯定要葬身火海了。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6480" y="-360"/>
            <a:ext cx="81471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心里惋惜地想着。火神肆虐的热浪里已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夹杂着蚂蚁被焚烧而发出的焦臭气味。可万万没想到，这区区的弱者并没有束手待毙，竟开始迅速地扭成一团，突然向河岸的方向突围滚去。蚁团在火舌舐动的草丛间越来越迅速地滚动着，并不断发出外层蚂蚁被烧焦后身体爆裂的声响，但是蚁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不见缩小，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2000" y="189000"/>
            <a:ext cx="781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显然，这外层被灼焦的蚁国英雄们至死也不松动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丝毫，肝胆俱裂也不放弃自己的岗位。一会儿，蚁团冲进了河流里，随着向对岸的滚动，河面上升腾起一小层薄薄的烟雾</a:t>
            </a:r>
            <a:r>
              <a:rPr b="1" lang="en-US" sz="3200" spc="-1" strike="noStrike">
                <a:solidFill>
                  <a:srgbClr val="cb33c0"/>
                </a:solidFill>
                <a:latin typeface="宋体"/>
                <a:ea typeface="楷体_GB2312"/>
              </a:rPr>
              <a:t>……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听着这则蚁国发生的真实故事，像听着一曲最悲壮的生命之歌。小小的蚂蚁，其重不足毫克，真正是比毫毛还要轻上十倍、百倍。然而，在人类往往也要遭到重大伤亡的火灾面前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竟然能如此沉着、坚定、团结一致，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476000" y="189000"/>
            <a:ext cx="73436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惜个体牺牲，以求得种族的生存，其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斗争的韧性，其脱险方式的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机警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，又是如此无以复加地感人，怎能不发人深思，油然生出敬慕的情感来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逐渐地，我自感到原先那种认为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蝼蚁之命，何足挂齿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的想法，实在是太无知、太浅薄了。真是区区蝼蚁，可讴壮歌矣</a:t>
            </a:r>
            <a:r>
              <a:rPr b="1" lang="en-US" sz="3200" spc="-1" strike="noStrike">
                <a:solidFill>
                  <a:srgbClr val="cb33c0"/>
                </a:solidFill>
                <a:latin typeface="楷体_GB2312"/>
                <a:ea typeface="楷体_GB2312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6920" y="1483920"/>
            <a:ext cx="752508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9200"/>
                </a:solidFill>
                <a:latin typeface="Arial"/>
                <a:ea typeface="楷体_GB2312"/>
              </a:rPr>
              <a:t>团结友爱的前提在于人与人之间应当有礼貌，礼貌通常表现在语言和行动上，所以就有一个公式。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33" name="Picture 8" descr="98"/>
          <p:cNvPicPr/>
          <p:nvPr/>
        </p:nvPicPr>
        <p:blipFill>
          <a:blip r:embed="rId1"/>
          <a:stretch/>
        </p:blipFill>
        <p:spPr>
          <a:xfrm>
            <a:off x="3635280" y="4869000"/>
            <a:ext cx="1297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T031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476360" y="2276640"/>
            <a:ext cx="648036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小水滴的故事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99" name="Picture 4" descr="but1_up"/>
          <p:cNvPicPr/>
          <p:nvPr/>
        </p:nvPicPr>
        <p:blipFill>
          <a:blip r:embed="rId2"/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同学之间的相互礼貌转化成为友爱。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只有当整个班级里有强大的凝聚力的时候，才能取得辉煌。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同学之间的相互团结导致整个班级里有强大的凝聚力。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同学之间的相互友爱升华为团结。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35" name="Picture 4" descr="94"/>
          <p:cNvPicPr/>
          <p:nvPr/>
        </p:nvPicPr>
        <p:blipFill>
          <a:blip r:embed="rId1"/>
          <a:stretch/>
        </p:blipFill>
        <p:spPr>
          <a:xfrm>
            <a:off x="1619280" y="1159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99"/>
          <p:cNvPicPr/>
          <p:nvPr/>
        </p:nvPicPr>
        <p:blipFill>
          <a:blip r:embed="rId2"/>
          <a:stretch/>
        </p:blipFill>
        <p:spPr>
          <a:xfrm>
            <a:off x="4427640" y="2781360"/>
            <a:ext cx="865080" cy="79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95"/>
          <p:cNvPicPr/>
          <p:nvPr/>
        </p:nvPicPr>
        <p:blipFill>
          <a:blip r:embed="rId3"/>
          <a:stretch/>
        </p:blipFill>
        <p:spPr>
          <a:xfrm>
            <a:off x="3564000" y="4292640"/>
            <a:ext cx="936720" cy="86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97"/>
          <p:cNvPicPr/>
          <p:nvPr/>
        </p:nvPicPr>
        <p:blipFill>
          <a:blip r:embed="rId4"/>
          <a:stretch/>
        </p:blipFill>
        <p:spPr>
          <a:xfrm>
            <a:off x="7885080" y="4941720"/>
            <a:ext cx="79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051027628796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26366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339933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4800" spc="-1" strike="noStrike">
                <a:solidFill>
                  <a:srgbClr val="f83818"/>
                </a:solidFill>
                <a:latin typeface="Arial"/>
                <a:ea typeface="华文新魏"/>
              </a:rPr>
              <a:t>班级的不足之处及其原因。</a:t>
            </a:r>
            <a:r>
              <a:rPr b="0" lang="zh-CN" sz="4800" spc="-1" strike="noStrike">
                <a:solidFill>
                  <a:srgbClr val="339933"/>
                </a:solidFill>
                <a:latin typeface="Arial"/>
                <a:ea typeface="宋体"/>
              </a:rPr>
              <a:t> </a:t>
            </a:r>
            <a:endParaRPr b="0" lang="en-US" sz="48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672360" y="476280"/>
            <a:ext cx="1796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Times New Roman"/>
                <a:ea typeface="宋体"/>
              </a:rPr>
              <a:t>讨论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ut1_up"/>
          <p:cNvPicPr/>
          <p:nvPr/>
        </p:nvPicPr>
        <p:blipFill>
          <a:blip r:embed="rId2"/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00511132200039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级不足主要有三点：</a:t>
            </a:r>
            <a:r>
              <a:rPr b="1" lang="zh-CN" sz="24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有的同学习态度不端正，有不完成作业的习惯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课有打闹现象，玩的花样层出不穷，玩心太重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堂的纪律不够好。有的同学上课听讲不够专心，抠手指、玩橡皮、弄尺子、小声说话。</a:t>
            </a:r>
            <a:br>
              <a:rPr sz="2400"/>
            </a:br>
            <a:endParaRPr b="0" lang="en-US" sz="2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26920" y="443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405"/>
                </a:solidFill>
                <a:latin typeface="Arial"/>
                <a:ea typeface="宋体"/>
              </a:rPr>
              <a:t>… …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5"/>
          <p:cNvSpPr txBox="1"/>
          <p:nvPr/>
        </p:nvSpPr>
        <p:spPr>
          <a:xfrm rot="20535000">
            <a:off x="1476000" y="1989000"/>
            <a:ext cx="8074080" cy="32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7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788000"/>
                </a:gradFill>
                <a:latin typeface="楷体_GB2312"/>
              </a:rPr>
              <a:t>班主任寄语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788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明 天 会 更 好</a:t>
            </a:r>
            <a:endParaRPr b="0" lang="en-US" sz="96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48" name="Picture 3" descr="but1_up"/>
          <p:cNvPicPr/>
          <p:nvPr/>
        </p:nvPicPr>
        <p:blipFill>
          <a:blip r:embed="rId1"/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3"/>
          <p:cNvSpPr txBox="1"/>
          <p:nvPr/>
        </p:nvSpPr>
        <p:spPr>
          <a:xfrm>
            <a:off x="1908000" y="2781360"/>
            <a:ext cx="669636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11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asemic Symbol"/>
              </a:rPr>
              <a:t>Goodby</a:t>
            </a:r>
            <a:endParaRPr b="1" i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asemic Symbol"/>
              <a:ea typeface="Basemic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8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9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584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585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T031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167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30405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滴小水珠，从来没有离开过大海的怀抱。它对外面的世界非常好奇。一次偶然的机会，它被抛到了高处，刚被抛到高处</a:t>
            </a:r>
            <a:r>
              <a:rPr b="1" lang="zh-CN" sz="32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时还有些害怕，但渐渐地，它就被眼前的情景吸引住了。炫目的阳光、亮丽的彩虹、湛蓝的大海，它陶醉了，没想到空中的景色这么美！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T031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06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水珠在微风的吹拂下飘呀飘呀，忘却了一切。这时，传来了海妈妈焦急的声音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水珠，快回来，太阳会</a:t>
            </a:r>
            <a:r>
              <a:rPr b="1" lang="zh-CN" sz="36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把你晒干的！</a:t>
            </a:r>
            <a:r>
              <a:rPr b="1" lang="zh-CN" sz="3600" spc="-1" strike="noStrike">
                <a:solidFill>
                  <a:srgbClr val="99ff33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小水珠满不在乎地回答：</a:t>
            </a:r>
            <a:r>
              <a:rPr b="1" lang="zh-CN" sz="3600" spc="-1" strike="noStrike">
                <a:solidFill>
                  <a:srgbClr val="99ff33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妈妈，我再玩会，这儿太美了</a:t>
            </a:r>
            <a:r>
              <a:rPr b="1" lang="en-US" sz="3600" spc="-1" strike="noStrike">
                <a:solidFill>
                  <a:srgbClr val="99ff33"/>
                </a:solidFill>
                <a:latin typeface="Arial"/>
                <a:ea typeface="楷体_GB2312"/>
              </a:rPr>
              <a:t>……”</a:t>
            </a:r>
            <a:r>
              <a:rPr b="1" lang="en-US" sz="36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话音未落，小水珠便消失了。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T031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914400" y="23623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1, </a:t>
            </a: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为什么小水珠离开大海的怀抱后</a:t>
            </a: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会马上消失</a:t>
            </a:r>
            <a:r>
              <a:rPr b="1" lang="zh-CN" sz="4000" spc="-1" strike="noStrike">
                <a:solidFill>
                  <a:srgbClr val="030405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030405"/>
                </a:solidFill>
                <a:latin typeface="Times New Roman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066680" y="396252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05"/>
                </a:solidFill>
                <a:latin typeface="Arial"/>
                <a:ea typeface="宋体"/>
              </a:rPr>
              <a:t>2, </a:t>
            </a:r>
            <a:r>
              <a:rPr b="1" lang="zh-CN" sz="4400" spc="-1" strike="noStrike">
                <a:solidFill>
                  <a:srgbClr val="030405"/>
                </a:solidFill>
                <a:latin typeface="Arial"/>
                <a:ea typeface="宋体"/>
              </a:rPr>
              <a:t>如果小水珠不想在这个世界上消失</a:t>
            </a:r>
            <a:r>
              <a:rPr b="1" lang="en-US" sz="4400" spc="-1" strike="noStrike">
                <a:solidFill>
                  <a:srgbClr val="030405"/>
                </a:solidFill>
                <a:latin typeface="Arial"/>
                <a:ea typeface="宋体"/>
              </a:rPr>
              <a:t>,</a:t>
            </a:r>
            <a:r>
              <a:rPr b="1" lang="zh-CN" sz="4400" spc="-1" strike="noStrike">
                <a:solidFill>
                  <a:srgbClr val="030405"/>
                </a:solidFill>
                <a:latin typeface="Arial"/>
                <a:ea typeface="宋体"/>
              </a:rPr>
              <a:t>它该怎么办 </a:t>
            </a:r>
            <a:r>
              <a:rPr b="1" lang="en-US" sz="4400" spc="-1" strike="noStrike">
                <a:solidFill>
                  <a:srgbClr val="030405"/>
                </a:solidFill>
                <a:latin typeface="Arial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1476360" y="620640"/>
            <a:ext cx="60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125810"/>
                    </a:gs>
                    <a:gs pos="100000">
                      <a:srgbClr val="f4fc92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小水滴的故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125810"/>
                  </a:gs>
                  <a:gs pos="100000">
                    <a:srgbClr val="f4fc92"/>
                  </a:gs>
                </a:gsLst>
                <a:lin ang="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T031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00000" y="549360"/>
            <a:ext cx="741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小水珠的力量单薄</a:t>
            </a: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无法抵御强烈的太阳光</a:t>
            </a: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很容易被蒸发掉</a:t>
            </a: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.</a:t>
            </a: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但回到大海就不一样了</a:t>
            </a: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.</a:t>
            </a: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那里有无数的小水珠</a:t>
            </a: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它们紧紧团结在一起</a:t>
            </a: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共同抵御太阳光</a:t>
            </a: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30405"/>
                </a:solidFill>
                <a:latin typeface="Arial"/>
                <a:ea typeface="宋体"/>
              </a:rPr>
              <a:t>所以没有那么容易被蒸发掉</a:t>
            </a:r>
            <a:r>
              <a:rPr b="1" lang="en-US" sz="4000" spc="-1" strike="noStrike">
                <a:solidFill>
                  <a:srgbClr val="030405"/>
                </a:solidFill>
                <a:latin typeface="Arial"/>
                <a:ea typeface="宋体"/>
              </a:rPr>
              <a:t>.</a:t>
            </a:r>
            <a:r>
              <a:rPr b="1" lang="en-US" sz="2400" spc="-1" strike="noStrike">
                <a:solidFill>
                  <a:srgbClr val="030405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00510301659455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30405"/>
                </a:solidFill>
                <a:latin typeface="Arial"/>
                <a:ea typeface="宋体"/>
              </a:rPr>
              <a:t>活动一：</a:t>
            </a:r>
            <a:r>
              <a:rPr b="1" lang="zh-CN" sz="4400" spc="-1" strike="noStrike">
                <a:solidFill>
                  <a:srgbClr val="f83818"/>
                </a:solidFill>
                <a:latin typeface="Arial"/>
                <a:ea typeface="宋体"/>
              </a:rPr>
              <a:t>穿越过道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403280" y="2492280"/>
            <a:ext cx="647712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96e5"/>
                </a:solidFill>
                <a:latin typeface="Times New Roman"/>
                <a:ea typeface="宋体"/>
              </a:rPr>
              <a:t>活动要求</a:t>
            </a:r>
            <a:r>
              <a:rPr b="0" lang="zh-CN" sz="3600" spc="-1" strike="noStrike">
                <a:solidFill>
                  <a:srgbClr val="6596e5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两小组的人，每组五位同学，其中，一位是“明眼人”，四位是“盲人”，想办法使这五位同学以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型路线平安走过大组间的过道，看哪组用时最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but1_up"/>
          <p:cNvPicPr/>
          <p:nvPr/>
        </p:nvPicPr>
        <p:blipFill>
          <a:blip r:embed="rId2"/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626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身边有哪些事情可以见证团结就是力量呢？</a:t>
            </a:r>
            <a:r>
              <a:rPr b="0" lang="zh-CN" sz="4400" spc="-1" strike="noStrike">
                <a:solidFill>
                  <a:srgbClr val="339933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国家大事：如申奥成功</a:t>
            </a:r>
            <a:endParaRPr b="0" lang="en-US" sz="40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宋体"/>
              </a:rPr>
              <a:t>收复港澳、战胜非典和禽流感、神五神六的成功发射、“嫦娥”登月、十七大的胜利召开等。</a:t>
            </a: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13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宋体"/>
              </a:rPr>
              <a:t>身边小事：如学校运动会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Arial"/>
                <a:ea typeface="宋体"/>
              </a:rPr>
              <a:t>班级大扫除、班级板报、一节自习课、今天的主题班会等。</a:t>
            </a:r>
            <a:endParaRPr b="0" lang="en-US" sz="40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0:40:53Z</dcterms:created>
  <dc:creator>User</dc:creator>
  <dc:description/>
  <dc:language>en-US</dc:language>
  <cp:lastModifiedBy>Administrator</cp:lastModifiedBy>
  <dcterms:modified xsi:type="dcterms:W3CDTF">2010-12-12T04:37:38Z</dcterms:modified>
  <cp:revision>6</cp:revision>
  <dc:subject/>
  <dc:title>Reading Fun</dc:title>
</cp:coreProperties>
</file>