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0.png" ContentType="image/png"/>
  <Override PartName="/ppt/media/image27.jpeg" ContentType="image/jpeg"/>
  <Override PartName="/ppt/media/image25.wmf" ContentType="image/x-wmf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931-25EB-46B3-BB36-9C9E69D6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D6F-78A5-4635-B6DE-41BC691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2FD-09D2-4447-9A60-59A06E5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3FB-18F6-4868-9C8B-6E22051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A35-A539-441A-B579-DB0B615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1360" y="17280"/>
            <a:ext cx="6686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1FE-C5E3-4BDC-8CDF-6DF0583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F69-42F9-4D6C-9317-D700607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E24-E629-457E-98CF-338128D1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DE8-FE01-45C6-90EF-DDA84492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521-8A37-4D35-8763-F3ECA49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45D-A60A-407F-8F73-A193D51F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273-7EE3-4B51-995B-D9837310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157A-06C5-4BD9-98D9-D11712C6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AB28-9351-4129-A6C7-2514698B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411F-275C-4568-9161-5E8F80B5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CD83-DC99-4864-9F9C-05700BD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B1AB-5470-4E70-9D87-5DB09CAD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71360" y="17280"/>
            <a:ext cx="6686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2766-2D9B-4DFA-8D4C-2645F1C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9D8E-7C7E-4573-BA2D-E3CBA78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E49E-DF87-42BD-974E-B06C82AD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17C9-FE56-455F-8459-7FA477B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6513-6A8E-4BFF-B553-A1EDE714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FC9-C7C3-4DBC-B6DF-397EA94A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94FF-B39A-4B18-B0FD-B3DDC994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E3349-8468-44E3-8978-18E0DF6D97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EA508-6D69-4A3A-AF6E-C1ACEC048C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402B4-531B-40B7-B662-4C7F16CED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B0BCB-EFEB-45AD-8674-B42A07FD07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89642-A77C-4FDE-802F-FA1E10F98F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71360" y="17280"/>
            <a:ext cx="6686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C202C-F322-496D-8808-B5FB0ADAA4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D4E59-B2DF-43A6-8B33-82E02254A8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62884-6997-411B-87B8-58383A1560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54436-9347-4879-A684-67198FB8FB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7850F-BBD2-4A9A-8C24-AAA0F19C66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BDF2D-95E9-44E1-8C95-D2D21DD6B8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C6FB8-ADA1-4ED4-9A62-1DF19C8F8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1360" y="17280"/>
            <a:ext cx="668664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856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7CB0-4CEB-46CD-9ADF-04A1456CC0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C8A6-2725-4366-905B-5A33542C9F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1360" y="17280"/>
            <a:ext cx="66866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Franklin Gothic Medium"/>
              </a:rPr>
              <a:t>Click to edit the title text format</a:t>
            </a:r>
            <a:endParaRPr b="1" lang="en-US" sz="2800" spc="-1" strike="noStrike">
              <a:solidFill>
                <a:srgbClr val="ff66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ff66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ff66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-36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Franklin Gothic Medium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6EA-15B7-4333-BF2B-FFCBB3F6377D}" type="slidenum">
              <a:rPr b="0" lang="en-US" sz="1400" spc="-1" strike="noStrike">
                <a:solidFill>
                  <a:srgbClr val="808080"/>
                </a:solidFill>
                <a:latin typeface="Franklin Gothic Medium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wmf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6.png"/><Relationship Id="rId13" Type="http://schemas.openxmlformats.org/officeDocument/2006/relationships/image" Target="../media/image25.wmf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6.png"/><Relationship Id="rId17" Type="http://schemas.openxmlformats.org/officeDocument/2006/relationships/image" Target="../media/image25.wmf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6.png"/><Relationship Id="rId21" Type="http://schemas.openxmlformats.org/officeDocument/2006/relationships/image" Target="../media/image25.wmf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6.png"/><Relationship Id="rId25" Type="http://schemas.openxmlformats.org/officeDocument/2006/relationships/image" Target="../media/image25.wmf"/><Relationship Id="rId2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75000" y="2141280"/>
            <a:ext cx="46483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微软雅黑"/>
                <a:ea typeface="微软雅黑"/>
              </a:rPr>
              <a:t>同窗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268520" y="2819160"/>
            <a:ext cx="4646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新宋体"/>
                <a:ea typeface="新宋体"/>
              </a:rPr>
              <a:t>——</a:t>
            </a:r>
            <a:r>
              <a:rPr b="1" lang="zh-CN" sz="2400" spc="-1" strike="noStrike">
                <a:solidFill>
                  <a:srgbClr val="4d4d4d"/>
                </a:solidFill>
                <a:latin typeface="新宋体"/>
                <a:ea typeface="新宋体"/>
              </a:rPr>
              <a:t>校友社交新体验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3508200" y="14479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基于位置的手机互动社交平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标题 1"/>
          <p:cNvSpPr/>
          <p:nvPr/>
        </p:nvSpPr>
        <p:spPr>
          <a:xfrm>
            <a:off x="76320" y="117360"/>
            <a:ext cx="84582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同窗优势</a:t>
            </a:r>
            <a:r>
              <a:rPr b="1" lang="en-US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——</a:t>
            </a:r>
            <a:r>
              <a:rPr b="1" lang="zh-CN" sz="18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以专利保护自身的迅捷浏览模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831960" y="2666880"/>
            <a:ext cx="2081160" cy="3166560"/>
            <a:chOff x="831960" y="2666880"/>
            <a:chExt cx="2081160" cy="3166560"/>
          </a:xfrm>
        </p:grpSpPr>
        <p:sp>
          <p:nvSpPr>
            <p:cNvPr id="207" name="Oval 5"/>
            <p:cNvSpPr/>
            <p:nvPr/>
          </p:nvSpPr>
          <p:spPr>
            <a:xfrm>
              <a:off x="831960" y="2666880"/>
              <a:ext cx="2081160" cy="2091960"/>
            </a:xfrm>
            <a:prstGeom prst="ellipse">
              <a:avLst/>
            </a:prstGeom>
            <a:solidFill>
              <a:srgbClr val="999999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1473840" y="352620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Lucida Grande"/>
                  <a:ea typeface="幼圆"/>
                </a:rPr>
                <a:t>现实社交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 flipH="1" rot="10800000">
              <a:off x="1882800" y="4406040"/>
              <a:ext cx="206640" cy="74160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0" y="21600"/>
                  </a:moveTo>
                  <a:lnTo>
                    <a:pt x="0" y="4011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1295640" y="5346360"/>
              <a:ext cx="129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d4d4d"/>
                  </a:solidFill>
                  <a:latin typeface="Lucida Grande"/>
                  <a:ea typeface="华文细黑"/>
                </a:rPr>
                <a:t>基于</a:t>
              </a:r>
              <a:r>
                <a:rPr b="0" lang="en-US" sz="1600" spc="-1" strike="noStrike">
                  <a:solidFill>
                    <a:srgbClr val="4d4d4d"/>
                  </a:solidFill>
                  <a:latin typeface="Lucida Grande"/>
                  <a:ea typeface="华文细黑"/>
                </a:rPr>
                <a:t>LBS</a:t>
              </a:r>
              <a:r>
                <a:rPr b="0" lang="zh-CN" sz="1600" spc="-1" strike="noStrike">
                  <a:solidFill>
                    <a:srgbClr val="4d4d4d"/>
                  </a:solidFill>
                  <a:latin typeface="Lucida Grande"/>
                  <a:ea typeface="华文细黑"/>
                </a:rPr>
                <a:t>的社交应用在现实中每天都发生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1" name="Group 9"/>
          <p:cNvGrpSpPr/>
          <p:nvPr/>
        </p:nvGrpSpPr>
        <p:grpSpPr>
          <a:xfrm>
            <a:off x="2489040" y="2873520"/>
            <a:ext cx="1679400" cy="2959920"/>
            <a:chOff x="2489040" y="2873520"/>
            <a:chExt cx="1679400" cy="2959920"/>
          </a:xfrm>
        </p:grpSpPr>
        <p:sp>
          <p:nvSpPr>
            <p:cNvPr id="212" name="Oval 10"/>
            <p:cNvSpPr/>
            <p:nvPr/>
          </p:nvSpPr>
          <p:spPr>
            <a:xfrm>
              <a:off x="2489040" y="2873520"/>
              <a:ext cx="1679400" cy="1692000"/>
            </a:xfrm>
            <a:prstGeom prst="ellipse">
              <a:avLst/>
            </a:prstGeom>
            <a:solidFill>
              <a:srgbClr val="49a7d4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3021480" y="356040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Lucida Grande"/>
                  <a:ea typeface="幼圆"/>
                </a:rPr>
                <a:t>覆盖面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Freeform 12"/>
            <p:cNvSpPr/>
            <p:nvPr/>
          </p:nvSpPr>
          <p:spPr>
            <a:xfrm flipH="1" rot="10800000">
              <a:off x="3346200" y="4332240"/>
              <a:ext cx="206640" cy="825120"/>
            </a:xfrm>
            <a:custGeom>
              <a:avLst/>
              <a:gdLst>
                <a:gd name="textAreaLeft" fmla="*/ 360 w 206640"/>
                <a:gd name="textAreaRight" fmla="*/ 207360 w 20664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0" y="21600"/>
                  </a:moveTo>
                  <a:lnTo>
                    <a:pt x="0" y="4011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3200" y="5346360"/>
              <a:ext cx="1371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d4d4d"/>
                  </a:solidFill>
                  <a:latin typeface="Lucida Grande"/>
                  <a:ea typeface="华文细黑"/>
                </a:rPr>
                <a:t>覆盖范围包括全国所有高校及校外人群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3849840" y="2747880"/>
            <a:ext cx="1920600" cy="3085920"/>
            <a:chOff x="3849840" y="2747880"/>
            <a:chExt cx="1920600" cy="3085920"/>
          </a:xfrm>
        </p:grpSpPr>
        <p:sp>
          <p:nvSpPr>
            <p:cNvPr id="217" name="Oval 15"/>
            <p:cNvSpPr/>
            <p:nvPr/>
          </p:nvSpPr>
          <p:spPr>
            <a:xfrm>
              <a:off x="3849840" y="2747880"/>
              <a:ext cx="1920600" cy="1932120"/>
            </a:xfrm>
            <a:prstGeom prst="ellipse">
              <a:avLst/>
            </a:prstGeom>
            <a:solidFill>
              <a:srgbClr val="8dc0c4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>
              <a:off x="4583520" y="358488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Lucida Grande"/>
                  <a:ea typeface="幼圆"/>
                </a:rPr>
                <a:t>实用性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Freeform 17"/>
            <p:cNvSpPr/>
            <p:nvPr/>
          </p:nvSpPr>
          <p:spPr>
            <a:xfrm flipH="1" rot="10800000">
              <a:off x="4821120" y="4365720"/>
              <a:ext cx="204480" cy="799920"/>
            </a:xfrm>
            <a:custGeom>
              <a:avLst/>
              <a:gdLst>
                <a:gd name="textAreaLeft" fmla="*/ 360 w 204480"/>
                <a:gd name="textAreaRight" fmla="*/ 205200 w 2044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0" y="21600"/>
                  </a:moveTo>
                  <a:lnTo>
                    <a:pt x="0" y="4011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Rectangle 18"/>
            <p:cNvSpPr/>
            <p:nvPr/>
          </p:nvSpPr>
          <p:spPr>
            <a:xfrm>
              <a:off x="4267080" y="5346720"/>
              <a:ext cx="1294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d4d4d"/>
                  </a:solidFill>
                  <a:latin typeface="Lucida Grande"/>
                  <a:ea typeface="华文细黑"/>
                </a:rPr>
                <a:t>解决了进入所在高校繁杂，加强了直观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5415120" y="3025800"/>
            <a:ext cx="1656720" cy="2811240"/>
            <a:chOff x="5415120" y="3025800"/>
            <a:chExt cx="1656720" cy="2811240"/>
          </a:xfrm>
        </p:grpSpPr>
        <p:sp>
          <p:nvSpPr>
            <p:cNvPr id="222" name="Oval 20"/>
            <p:cNvSpPr/>
            <p:nvPr/>
          </p:nvSpPr>
          <p:spPr>
            <a:xfrm>
              <a:off x="5415120" y="3025800"/>
              <a:ext cx="1461600" cy="1474920"/>
            </a:xfrm>
            <a:prstGeom prst="ellipse">
              <a:avLst/>
            </a:prstGeom>
            <a:solidFill>
              <a:srgbClr val="1e5fae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>
              <a:off x="5905080" y="359424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扩展性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 flipH="1" rot="10800000">
              <a:off x="6156720" y="4338720"/>
              <a:ext cx="202680" cy="884160"/>
            </a:xfrm>
            <a:custGeom>
              <a:avLst/>
              <a:gdLst>
                <a:gd name="textAreaLeft" fmla="*/ -360 w 202680"/>
                <a:gd name="textAreaRight" fmla="*/ 202680 w 20268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0" y="21600"/>
                  </a:moveTo>
                  <a:lnTo>
                    <a:pt x="0" y="4011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Rectangle 23"/>
            <p:cNvSpPr/>
            <p:nvPr/>
          </p:nvSpPr>
          <p:spPr>
            <a:xfrm>
              <a:off x="5776560" y="5349960"/>
              <a:ext cx="129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d4d4d"/>
                  </a:solidFill>
                  <a:latin typeface="华文细黑"/>
                  <a:ea typeface="华文细黑"/>
                </a:rPr>
                <a:t>以社交为支点，扩展到各商业领域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6" name="Group 24"/>
          <p:cNvGrpSpPr/>
          <p:nvPr/>
        </p:nvGrpSpPr>
        <p:grpSpPr>
          <a:xfrm>
            <a:off x="6637320" y="2911320"/>
            <a:ext cx="1897200" cy="2818080"/>
            <a:chOff x="6637320" y="2911320"/>
            <a:chExt cx="1897200" cy="2818080"/>
          </a:xfrm>
        </p:grpSpPr>
        <p:sp>
          <p:nvSpPr>
            <p:cNvPr id="227" name="Oval 25"/>
            <p:cNvSpPr/>
            <p:nvPr/>
          </p:nvSpPr>
          <p:spPr>
            <a:xfrm>
              <a:off x="6637320" y="2911320"/>
              <a:ext cx="1692360" cy="1703520"/>
            </a:xfrm>
            <a:prstGeom prst="ellipse">
              <a:avLst/>
            </a:prstGeom>
            <a:solidFill>
              <a:srgbClr val="3ba1ce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Rectangle 26"/>
            <p:cNvSpPr/>
            <p:nvPr/>
          </p:nvSpPr>
          <p:spPr>
            <a:xfrm>
              <a:off x="7159320" y="361476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商业价值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 flipH="1" rot="10800000">
              <a:off x="7493040" y="4340160"/>
              <a:ext cx="208080" cy="87480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0" y="21600"/>
                  </a:moveTo>
                  <a:lnTo>
                    <a:pt x="0" y="4011"/>
                  </a:lnTo>
                  <a:lnTo>
                    <a:pt x="216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0" name="Rectangle 28"/>
            <p:cNvSpPr/>
            <p:nvPr/>
          </p:nvSpPr>
          <p:spPr>
            <a:xfrm>
              <a:off x="7238880" y="54856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d4d4d"/>
                  </a:solidFill>
                  <a:latin typeface="华文细黑"/>
                  <a:ea typeface="华文细黑"/>
                </a:rPr>
                <a:t>广告、游戏、旅游、招聘、教育和金融等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533520" y="134604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微软雅黑"/>
              </a:rPr>
              <a:t>用同窗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微软雅黑"/>
              </a:rPr>
              <a:t>更简单直接的进入到自己所想要进入的高校互动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76320" y="117360"/>
            <a:ext cx="84582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同窗平台模块结构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圆角矩形 10"/>
          <p:cNvSpPr/>
          <p:nvPr/>
        </p:nvSpPr>
        <p:spPr>
          <a:xfrm>
            <a:off x="1676520" y="1981080"/>
            <a:ext cx="6248160" cy="3962520"/>
          </a:xfrm>
          <a:prstGeom prst="roundRect">
            <a:avLst>
              <a:gd name="adj" fmla="val 10810"/>
            </a:avLst>
          </a:prstGeom>
          <a:solidFill>
            <a:srgbClr val="ffffff"/>
          </a:solidFill>
          <a:ln w="255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4572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2240" indent="-1890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支持平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圆角矩形 102"/>
          <p:cNvSpPr/>
          <p:nvPr/>
        </p:nvSpPr>
        <p:spPr>
          <a:xfrm>
            <a:off x="2057400" y="2362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iphon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圆角矩形 102"/>
          <p:cNvSpPr/>
          <p:nvPr/>
        </p:nvSpPr>
        <p:spPr>
          <a:xfrm>
            <a:off x="3581280" y="2362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Androi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圆角矩形 102"/>
          <p:cNvSpPr/>
          <p:nvPr/>
        </p:nvSpPr>
        <p:spPr>
          <a:xfrm>
            <a:off x="5029200" y="2362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WMobil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圆角矩形 102"/>
          <p:cNvSpPr/>
          <p:nvPr/>
        </p:nvSpPr>
        <p:spPr>
          <a:xfrm>
            <a:off x="6553080" y="2362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ymbia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Rectangle 39"/>
          <p:cNvSpPr/>
          <p:nvPr/>
        </p:nvSpPr>
        <p:spPr>
          <a:xfrm>
            <a:off x="4572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2240" indent="-1890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业务功能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457200" y="44895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2240" indent="-1890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基础支撑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057400" y="3352680"/>
            <a:ext cx="5638680" cy="646200"/>
          </a:xfrm>
          <a:prstGeom prst="roundRect">
            <a:avLst>
              <a:gd name="adj" fmla="val 13537"/>
            </a:avLst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240984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约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09564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友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378144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息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446724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07672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册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71500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心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133720" y="4343400"/>
            <a:ext cx="1447560" cy="63180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616200" y="4343400"/>
            <a:ext cx="1324080" cy="63324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057400" y="5334120"/>
            <a:ext cx="1905120" cy="304560"/>
          </a:xfrm>
          <a:prstGeom prst="roundRect">
            <a:avLst>
              <a:gd name="adj" fmla="val 13537"/>
            </a:avLst>
          </a:prstGeom>
          <a:noFill/>
          <a:ln w="38160">
            <a:solidFill>
              <a:srgbClr val="fe9802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幼圆"/>
                <a:ea typeface="幼圆"/>
              </a:rPr>
              <a:t>Google map </a:t>
            </a:r>
            <a:r>
              <a:rPr b="1" lang="zh-CN" sz="1400" spc="-1" strike="noStrike">
                <a:solidFill>
                  <a:srgbClr val="404040"/>
                </a:solidFill>
                <a:latin typeface="幼圆"/>
                <a:ea typeface="幼圆"/>
              </a:rPr>
              <a:t>接口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5916600" y="5334120"/>
            <a:ext cx="1752480" cy="304560"/>
          </a:xfrm>
          <a:prstGeom prst="roundRect">
            <a:avLst>
              <a:gd name="adj" fmla="val 13537"/>
            </a:avLst>
          </a:prstGeom>
          <a:noFill/>
          <a:ln w="38160">
            <a:solidFill>
              <a:srgbClr val="fe9802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040"/>
                </a:solidFill>
                <a:latin typeface="幼圆"/>
                <a:ea typeface="幼圆"/>
              </a:rPr>
              <a:t>合作商户接口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457200" y="5345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92240" indent="-1890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外部接口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4065480" y="5334120"/>
            <a:ext cx="1752840" cy="304560"/>
          </a:xfrm>
          <a:prstGeom prst="roundRect">
            <a:avLst>
              <a:gd name="adj" fmla="val 13537"/>
            </a:avLst>
          </a:prstGeom>
          <a:noFill/>
          <a:ln w="38160">
            <a:solidFill>
              <a:srgbClr val="fe9802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040"/>
                </a:solidFill>
                <a:latin typeface="幼圆"/>
                <a:ea typeface="幼圆"/>
              </a:rPr>
              <a:t>合作</a:t>
            </a:r>
            <a:r>
              <a:rPr b="1" lang="en-US" sz="1400" spc="-1" strike="noStrike">
                <a:solidFill>
                  <a:srgbClr val="404040"/>
                </a:solidFill>
                <a:latin typeface="幼圆"/>
                <a:ea typeface="幼圆"/>
              </a:rPr>
              <a:t>SNS</a:t>
            </a:r>
            <a:r>
              <a:rPr b="1" lang="zh-CN" sz="1400" spc="-1" strike="noStrike">
                <a:solidFill>
                  <a:srgbClr val="404040"/>
                </a:solidFill>
                <a:latin typeface="幼圆"/>
                <a:ea typeface="幼圆"/>
              </a:rPr>
              <a:t>接口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6324480" y="4343400"/>
            <a:ext cx="1398600" cy="63324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987800" y="4343400"/>
            <a:ext cx="1295640" cy="63324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166840" y="4378320"/>
            <a:ext cx="1324080" cy="5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理信息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引擎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630600" y="4392720"/>
            <a:ext cx="1324080" cy="5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统一消息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平台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952880" y="4365720"/>
            <a:ext cx="1324080" cy="5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活动发布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管理平台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357960" y="4357800"/>
            <a:ext cx="1324080" cy="5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商户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管理中心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296040" y="3429000"/>
            <a:ext cx="86688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购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惠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圆角矩形 10"/>
          <p:cNvSpPr/>
          <p:nvPr/>
        </p:nvSpPr>
        <p:spPr>
          <a:xfrm>
            <a:off x="2819520" y="4046400"/>
            <a:ext cx="5638680" cy="1676520"/>
          </a:xfrm>
          <a:prstGeom prst="roundRect">
            <a:avLst>
              <a:gd name="adj" fmla="val 10810"/>
            </a:avLst>
          </a:prstGeom>
          <a:solidFill>
            <a:srgbClr val="ffffff"/>
          </a:solidFill>
          <a:ln w="255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同窗社交经济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AutoShape 2"/>
          <p:cNvSpPr/>
          <p:nvPr/>
        </p:nvSpPr>
        <p:spPr>
          <a:xfrm>
            <a:off x="4538520" y="-181080"/>
            <a:ext cx="3049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4538520" y="-181080"/>
            <a:ext cx="3049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2833560" y="2065320"/>
            <a:ext cx="2576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推荐约会活动场所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推荐周边商户和优惠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推荐热门活动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右箭头 37"/>
          <p:cNvSpPr/>
          <p:nvPr/>
        </p:nvSpPr>
        <p:spPr>
          <a:xfrm>
            <a:off x="5973840" y="2185920"/>
            <a:ext cx="914400" cy="129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e9802"/>
          </a:solidFill>
          <a:ln w="0">
            <a:noFill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7305120" y="2090880"/>
            <a:ext cx="79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商户推荐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购优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右大括号 39"/>
          <p:cNvSpPr/>
          <p:nvPr/>
        </p:nvSpPr>
        <p:spPr>
          <a:xfrm>
            <a:off x="5530680" y="205740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46080 h 1447920"/>
              <a:gd name="textAreaBottom" fmla="*/ 14018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06"/>
                  <a:pt x="10800" y="2211"/>
                </a:cubicBezTo>
                <a:lnTo>
                  <a:pt x="10800" y="8589"/>
                </a:lnTo>
                <a:cubicBezTo>
                  <a:pt x="10800" y="9695"/>
                  <a:pt x="16200" y="10800"/>
                  <a:pt x="21600" y="10800"/>
                </a:cubicBezTo>
                <a:cubicBezTo>
                  <a:pt x="16200" y="10800"/>
                  <a:pt x="10800" y="11906"/>
                  <a:pt x="10800" y="13011"/>
                </a:cubicBezTo>
                <a:lnTo>
                  <a:pt x="10800" y="19389"/>
                </a:lnTo>
                <a:cubicBezTo>
                  <a:pt x="10800" y="2049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e9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100240" cy="38862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8"/>
          <p:cNvSpPr/>
          <p:nvPr/>
        </p:nvSpPr>
        <p:spPr>
          <a:xfrm>
            <a:off x="5334120" y="4351320"/>
            <a:ext cx="1295280" cy="38412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人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6934320" y="4351320"/>
            <a:ext cx="1295280" cy="38412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圣诞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5334120" y="5037120"/>
            <a:ext cx="1295280" cy="38412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日聚会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6934320" y="5037120"/>
            <a:ext cx="1295280" cy="384120"/>
          </a:xfrm>
          <a:prstGeom prst="roundRect">
            <a:avLst>
              <a:gd name="adj" fmla="val 16667"/>
            </a:avLst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婚纪念日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TextBox 56"/>
          <p:cNvSpPr/>
          <p:nvPr/>
        </p:nvSpPr>
        <p:spPr>
          <a:xfrm>
            <a:off x="3313800" y="451152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针对不同的约会类别，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提供丰富的优惠活动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6" name="Picture 15" descr=""/>
          <p:cNvPicPr/>
          <p:nvPr/>
        </p:nvPicPr>
        <p:blipFill>
          <a:blip r:embed="rId2"/>
          <a:stretch/>
        </p:blipFill>
        <p:spPr>
          <a:xfrm>
            <a:off x="762120" y="2394000"/>
            <a:ext cx="16556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同窗周边商户推荐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AutoShape 23"/>
          <p:cNvSpPr/>
          <p:nvPr/>
        </p:nvSpPr>
        <p:spPr>
          <a:xfrm>
            <a:off x="1447920" y="1371600"/>
            <a:ext cx="6172200" cy="1143000"/>
          </a:xfrm>
          <a:prstGeom prst="roundRect">
            <a:avLst>
              <a:gd name="adj" fmla="val 10894"/>
            </a:avLst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约会所关联的商业消费活动多，通过团购、优惠券、线下活动等方式能够创造巨大的商业价值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通过周边区域的商户推荐，能让用户方便地选择希望的约会场所。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147680" y="2670120"/>
            <a:ext cx="6853320" cy="3349800"/>
            <a:chOff x="1147680" y="2670120"/>
            <a:chExt cx="6853320" cy="3349800"/>
          </a:xfrm>
        </p:grpSpPr>
        <p:grpSp>
          <p:nvGrpSpPr>
            <p:cNvPr id="280" name="Group 5"/>
            <p:cNvGrpSpPr/>
            <p:nvPr/>
          </p:nvGrpSpPr>
          <p:grpSpPr>
            <a:xfrm>
              <a:off x="1147680" y="2670120"/>
              <a:ext cx="6853320" cy="3349800"/>
              <a:chOff x="1147680" y="2670120"/>
              <a:chExt cx="6853320" cy="3349800"/>
            </a:xfrm>
          </p:grpSpPr>
          <p:pic>
            <p:nvPicPr>
              <p:cNvPr id="28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7680" y="2670120"/>
                <a:ext cx="6853320" cy="334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455200" y="3028320"/>
                <a:ext cx="4176000" cy="26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Oval 6"/>
              <p:cNvSpPr/>
              <p:nvPr/>
            </p:nvSpPr>
            <p:spPr>
              <a:xfrm>
                <a:off x="3889440" y="3745080"/>
                <a:ext cx="684000" cy="658800"/>
              </a:xfrm>
              <a:prstGeom prst="ellipse">
                <a:avLst/>
              </a:prstGeom>
              <a:gradFill rotWithShape="0">
                <a:gsLst>
                  <a:gs pos="0">
                    <a:srgbClr val="761800"/>
                  </a:gs>
                  <a:gs pos="100000">
                    <a:srgbClr val="ff3300">
                      <a:alpha val="4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4" name="Rectangle 19"/>
              <p:cNvSpPr/>
              <p:nvPr/>
            </p:nvSpPr>
            <p:spPr>
              <a:xfrm>
                <a:off x="3079080" y="3745080"/>
                <a:ext cx="934200" cy="179280"/>
              </a:xfrm>
              <a:prstGeom prst="rect">
                <a:avLst/>
              </a:pr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54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望湘园鱼头特价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5" name="Rectangle 20"/>
              <p:cNvSpPr/>
              <p:nvPr/>
            </p:nvSpPr>
            <p:spPr>
              <a:xfrm>
                <a:off x="4449960" y="4522680"/>
                <a:ext cx="935280" cy="179280"/>
              </a:xfrm>
              <a:prstGeom prst="rect">
                <a:avLst/>
              </a:pr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54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85c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蛋糕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8</a:t>
                </a: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折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6" name="Rectangle 24"/>
              <p:cNvSpPr/>
              <p:nvPr/>
            </p:nvSpPr>
            <p:spPr>
              <a:xfrm>
                <a:off x="5010480" y="4223520"/>
                <a:ext cx="936720" cy="179280"/>
              </a:xfrm>
              <a:prstGeom prst="rect">
                <a:avLst/>
              </a:pr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54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必胜客情侣套餐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7" name="Rectangle 25"/>
              <p:cNvSpPr/>
              <p:nvPr/>
            </p:nvSpPr>
            <p:spPr>
              <a:xfrm>
                <a:off x="2766960" y="4701960"/>
                <a:ext cx="935280" cy="179280"/>
              </a:xfrm>
              <a:prstGeom prst="rect">
                <a:avLst/>
              </a:prstGeom>
              <a:gradFill rotWithShape="0">
                <a:gsLst>
                  <a:gs pos="0">
                    <a:srgbClr val="e4feff"/>
                  </a:gs>
                  <a:gs pos="100000">
                    <a:srgbClr val="f6ffff"/>
                  </a:gs>
                </a:gsLst>
                <a:lin ang="5400000"/>
              </a:gradFill>
              <a:ln w="9360">
                <a:solidFill>
                  <a:srgbClr val="d5e8ea"/>
                </a:solidFill>
                <a:miter/>
              </a:ln>
              <a:effectLst>
                <a:outerShdw dist="201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星巴克买一送一</a:t>
                </a:r>
                <a:endParaRPr b="0" lang="en-US" sz="12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pic>
          <p:nvPicPr>
            <p:cNvPr id="288" name="图片 54" descr="map_blue-S.png"/>
            <p:cNvPicPr/>
            <p:nvPr/>
          </p:nvPicPr>
          <p:blipFill>
            <a:blip r:embed="rId3"/>
            <a:stretch/>
          </p:blipFill>
          <p:spPr>
            <a:xfrm>
              <a:off x="3846960" y="3489840"/>
              <a:ext cx="3294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56" descr="map_blue-S.png"/>
            <p:cNvPicPr/>
            <p:nvPr/>
          </p:nvPicPr>
          <p:blipFill>
            <a:blip r:embed="rId4"/>
            <a:stretch/>
          </p:blipFill>
          <p:spPr>
            <a:xfrm>
              <a:off x="3583080" y="4438440"/>
              <a:ext cx="3294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57" descr="map_blue-S.png"/>
            <p:cNvPicPr/>
            <p:nvPr/>
          </p:nvPicPr>
          <p:blipFill>
            <a:blip r:embed="rId5"/>
            <a:stretch/>
          </p:blipFill>
          <p:spPr>
            <a:xfrm>
              <a:off x="4835880" y="3932640"/>
              <a:ext cx="3294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图片 58" descr="map_blue-S.png"/>
            <p:cNvPicPr/>
            <p:nvPr/>
          </p:nvPicPr>
          <p:blipFill>
            <a:blip r:embed="rId6"/>
            <a:stretch/>
          </p:blipFill>
          <p:spPr>
            <a:xfrm>
              <a:off x="4176720" y="4438440"/>
              <a:ext cx="329400" cy="3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用户推广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Oval 16"/>
          <p:cNvSpPr/>
          <p:nvPr/>
        </p:nvSpPr>
        <p:spPr>
          <a:xfrm>
            <a:off x="324000" y="1484280"/>
            <a:ext cx="8496000" cy="4608720"/>
          </a:xfrm>
          <a:prstGeom prst="ellipse">
            <a:avLst/>
          </a:prstGeom>
          <a:solidFill>
            <a:srgbClr val="eaeaea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2340000" y="1773360"/>
            <a:ext cx="4319640" cy="3960720"/>
          </a:xfrm>
          <a:prstGeom prst="ellipse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4000" y="1413000"/>
            <a:ext cx="1728720" cy="503280"/>
          </a:xfrm>
          <a:prstGeom prst="rect">
            <a:avLst/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产品官网下载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6804000" y="1341360"/>
            <a:ext cx="1728720" cy="503280"/>
          </a:xfrm>
          <a:prstGeom prst="rect">
            <a:avLst/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App Stor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468360" y="5732640"/>
            <a:ext cx="1728720" cy="502920"/>
          </a:xfrm>
          <a:prstGeom prst="rect">
            <a:avLst/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好友推荐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6804000" y="5734080"/>
            <a:ext cx="1728720" cy="503280"/>
          </a:xfrm>
          <a:prstGeom prst="rect">
            <a:avLst/>
          </a:prstGeom>
          <a:solidFill>
            <a:srgbClr val="fe980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网络推广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6327720" y="3276720"/>
            <a:ext cx="1368360" cy="43164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短信邀请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780000" y="5445000"/>
            <a:ext cx="1368360" cy="43200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件推送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332000" y="3284640"/>
            <a:ext cx="1368360" cy="43164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推广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3780000" y="1628640"/>
            <a:ext cx="1368360" cy="432000"/>
          </a:xfrm>
          <a:prstGeom prst="rect">
            <a:avLst/>
          </a:prstGeom>
          <a:solidFill>
            <a:srgbClr val="fe9802"/>
          </a:solidFill>
          <a:ln w="0">
            <a:noFill/>
          </a:ln>
          <a:effectLst>
            <a:outerShdw dist="20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0520" indent="-2905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博推荐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 flipH="1" flipV="1">
            <a:off x="6156000" y="5084640"/>
            <a:ext cx="647640" cy="6494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 flipH="1" flipV="1">
            <a:off x="5580000" y="4508640"/>
            <a:ext cx="1224000" cy="12254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 flipV="1">
            <a:off x="2195640" y="4436640"/>
            <a:ext cx="1439640" cy="1297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 flipH="1">
            <a:off x="5410080" y="1844640"/>
            <a:ext cx="1393920" cy="1050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2050920" y="1916280"/>
            <a:ext cx="144144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 flipV="1">
            <a:off x="2208240" y="5105160"/>
            <a:ext cx="679320" cy="610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9" name="Picture 15" descr="D:\UI设计\Version2\功能介绍页\IMG_0451_450.jpg"/>
          <p:cNvPicPr/>
          <p:nvPr/>
        </p:nvPicPr>
        <p:blipFill>
          <a:blip r:embed="rId1"/>
          <a:stretch/>
        </p:blipFill>
        <p:spPr>
          <a:xfrm>
            <a:off x="3657600" y="2438280"/>
            <a:ext cx="1625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开放的</a:t>
            </a:r>
            <a:r>
              <a:rPr b="1" lang="en-US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SNS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平台有助用户推广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04920" y="1209600"/>
            <a:ext cx="8229600" cy="4751280"/>
            <a:chOff x="304920" y="1209600"/>
            <a:chExt cx="8229600" cy="4751280"/>
          </a:xfrm>
        </p:grpSpPr>
        <p:pic>
          <p:nvPicPr>
            <p:cNvPr id="312" name="Picture 11" descr="msn1"/>
            <p:cNvPicPr/>
            <p:nvPr/>
          </p:nvPicPr>
          <p:blipFill>
            <a:blip r:embed="rId1"/>
            <a:stretch/>
          </p:blipFill>
          <p:spPr>
            <a:xfrm>
              <a:off x="3810240" y="1341360"/>
              <a:ext cx="5745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16"/>
            <p:cNvSpPr/>
            <p:nvPr/>
          </p:nvSpPr>
          <p:spPr>
            <a:xfrm rot="20241600">
              <a:off x="919440" y="2328840"/>
              <a:ext cx="6318000" cy="2512800"/>
            </a:xfrm>
            <a:custGeom>
              <a:avLst/>
              <a:gdLst>
                <a:gd name="textAreaLeft" fmla="*/ 0 w 6318000"/>
                <a:gd name="textAreaRight" fmla="*/ 6318360 w 6318000"/>
                <a:gd name="textAreaTop" fmla="*/ 0 h 2512800"/>
                <a:gd name="textAreaBottom" fmla="*/ 2513160 h 25128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61800"/>
                </a:gs>
                <a:gs pos="100000">
                  <a:srgbClr val="ff3300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Text Box 32"/>
            <p:cNvSpPr/>
            <p:nvPr/>
          </p:nvSpPr>
          <p:spPr>
            <a:xfrm>
              <a:off x="3030480" y="3216240"/>
              <a:ext cx="2391120" cy="5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微软雅黑"/>
                </a:rPr>
                <a:t>推荐好友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Line 33"/>
            <p:cNvSpPr/>
            <p:nvPr/>
          </p:nvSpPr>
          <p:spPr>
            <a:xfrm>
              <a:off x="2173320" y="1966680"/>
              <a:ext cx="168768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316" name="AutoShape 34"/>
            <p:cNvCxnSpPr/>
            <p:nvPr/>
          </p:nvCxnSpPr>
          <p:spPr>
            <a:xfrm flipH="1">
              <a:off x="394920" y="1966320"/>
              <a:ext cx="1789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7" name="Text Box 35"/>
            <p:cNvSpPr/>
            <p:nvPr/>
          </p:nvSpPr>
          <p:spPr>
            <a:xfrm>
              <a:off x="304920" y="1557360"/>
              <a:ext cx="20937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用户导入，邮件推荐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318" name="Picture 9" descr=""/>
            <p:cNvPicPr/>
            <p:nvPr/>
          </p:nvPicPr>
          <p:blipFill>
            <a:blip r:embed="rId2"/>
            <a:stretch/>
          </p:blipFill>
          <p:spPr>
            <a:xfrm>
              <a:off x="6878880" y="1763640"/>
              <a:ext cx="165564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10" descr=""/>
            <p:cNvPicPr/>
            <p:nvPr/>
          </p:nvPicPr>
          <p:blipFill>
            <a:blip r:embed="rId3"/>
            <a:stretch/>
          </p:blipFill>
          <p:spPr>
            <a:xfrm>
              <a:off x="5773680" y="4724280"/>
              <a:ext cx="158436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2" descr="1_111019_1"/>
            <p:cNvPicPr/>
            <p:nvPr/>
          </p:nvPicPr>
          <p:blipFill>
            <a:blip r:embed="rId4"/>
            <a:stretch/>
          </p:blipFill>
          <p:spPr>
            <a:xfrm>
              <a:off x="3036960" y="5373720"/>
              <a:ext cx="1224000" cy="38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Picture 2" descr=""/>
          <p:cNvPicPr/>
          <p:nvPr/>
        </p:nvPicPr>
        <p:blipFill>
          <a:blip r:embed="rId5"/>
          <a:stretch/>
        </p:blipFill>
        <p:spPr>
          <a:xfrm>
            <a:off x="609480" y="2286000"/>
            <a:ext cx="1371600" cy="5097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14"/>
          <p:cNvGrpSpPr/>
          <p:nvPr/>
        </p:nvGrpSpPr>
        <p:grpSpPr>
          <a:xfrm>
            <a:off x="1600200" y="2813040"/>
            <a:ext cx="1067760" cy="1122840"/>
            <a:chOff x="1600200" y="2813040"/>
            <a:chExt cx="1067760" cy="1122840"/>
          </a:xfrm>
        </p:grpSpPr>
        <p:grpSp>
          <p:nvGrpSpPr>
            <p:cNvPr id="323" name="Group 15"/>
            <p:cNvGrpSpPr/>
            <p:nvPr/>
          </p:nvGrpSpPr>
          <p:grpSpPr>
            <a:xfrm>
              <a:off x="1600200" y="2813040"/>
              <a:ext cx="1067760" cy="1122840"/>
              <a:chOff x="1600200" y="2813040"/>
              <a:chExt cx="1067760" cy="1122840"/>
            </a:xfrm>
          </p:grpSpPr>
          <p:grpSp>
            <p:nvGrpSpPr>
              <p:cNvPr id="324" name="Group 16"/>
              <p:cNvGrpSpPr/>
              <p:nvPr/>
            </p:nvGrpSpPr>
            <p:grpSpPr>
              <a:xfrm>
                <a:off x="1600200" y="2813040"/>
                <a:ext cx="1067760" cy="1122840"/>
                <a:chOff x="1600200" y="2813040"/>
                <a:chExt cx="1067760" cy="1122840"/>
              </a:xfrm>
            </p:grpSpPr>
            <p:pic>
              <p:nvPicPr>
                <p:cNvPr id="325" name="Picture 26" descr="light_shadow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4240" y="3695400"/>
                  <a:ext cx="87588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2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03080" y="2822040"/>
                  <a:ext cx="1063800" cy="1026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27" name="Group 19"/>
                <p:cNvGrpSpPr/>
                <p:nvPr/>
              </p:nvGrpSpPr>
              <p:grpSpPr>
                <a:xfrm>
                  <a:off x="1600200" y="2813040"/>
                  <a:ext cx="1067760" cy="1045080"/>
                  <a:chOff x="1600200" y="2813040"/>
                  <a:chExt cx="1067760" cy="1045080"/>
                </a:xfrm>
              </p:grpSpPr>
              <p:pic>
                <p:nvPicPr>
                  <p:cNvPr id="328" name="Oval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813040"/>
                    <a:ext cx="1067760" cy="10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9" name="Text Box 21"/>
                  <p:cNvSpPr/>
                  <p:nvPr/>
                </p:nvSpPr>
                <p:spPr>
                  <a:xfrm>
                    <a:off x="1757880" y="2972520"/>
                    <a:ext cx="747000" cy="72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30" name="Picture 29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1766520" y="2835720"/>
                <a:ext cx="843480" cy="36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1" name="Text Box 110"/>
            <p:cNvSpPr/>
            <p:nvPr/>
          </p:nvSpPr>
          <p:spPr>
            <a:xfrm>
              <a:off x="1723680" y="3150360"/>
              <a:ext cx="8395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rebuchet MS"/>
                  <a:ea typeface="微软雅黑"/>
                </a:rPr>
                <a:t>人人网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2" name="Group 24"/>
          <p:cNvGrpSpPr/>
          <p:nvPr/>
        </p:nvGrpSpPr>
        <p:grpSpPr>
          <a:xfrm>
            <a:off x="6705720" y="2286000"/>
            <a:ext cx="1067040" cy="1122840"/>
            <a:chOff x="6705720" y="2286000"/>
            <a:chExt cx="1067040" cy="1122840"/>
          </a:xfrm>
        </p:grpSpPr>
        <p:grpSp>
          <p:nvGrpSpPr>
            <p:cNvPr id="333" name="Group 25"/>
            <p:cNvGrpSpPr/>
            <p:nvPr/>
          </p:nvGrpSpPr>
          <p:grpSpPr>
            <a:xfrm>
              <a:off x="6705720" y="2286000"/>
              <a:ext cx="1067040" cy="1122840"/>
              <a:chOff x="6705720" y="2286000"/>
              <a:chExt cx="1067040" cy="1122840"/>
            </a:xfrm>
          </p:grpSpPr>
          <p:grpSp>
            <p:nvGrpSpPr>
              <p:cNvPr id="334" name="Group 26"/>
              <p:cNvGrpSpPr/>
              <p:nvPr/>
            </p:nvGrpSpPr>
            <p:grpSpPr>
              <a:xfrm>
                <a:off x="6705720" y="2286000"/>
                <a:ext cx="1067040" cy="1122840"/>
                <a:chOff x="6705720" y="2286000"/>
                <a:chExt cx="1067040" cy="1122840"/>
              </a:xfrm>
            </p:grpSpPr>
            <p:pic>
              <p:nvPicPr>
                <p:cNvPr id="335" name="Picture 26" descr="light_shadow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12640" y="3167640"/>
                  <a:ext cx="873720" cy="24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27" descr="circuler_1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711480" y="2291760"/>
                  <a:ext cx="1061280" cy="102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37" name="Group 29"/>
                <p:cNvGrpSpPr/>
                <p:nvPr/>
              </p:nvGrpSpPr>
              <p:grpSpPr>
                <a:xfrm>
                  <a:off x="6705720" y="2286000"/>
                  <a:ext cx="1065240" cy="1041840"/>
                  <a:chOff x="6705720" y="2286000"/>
                  <a:chExt cx="1065240" cy="1041840"/>
                </a:xfrm>
              </p:grpSpPr>
              <p:pic>
                <p:nvPicPr>
                  <p:cNvPr id="338" name="Oval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86000"/>
                    <a:ext cx="1065240" cy="10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9" name="Text Box 31"/>
                  <p:cNvSpPr/>
                  <p:nvPr/>
                </p:nvSpPr>
                <p:spPr>
                  <a:xfrm>
                    <a:off x="6865920" y="2443320"/>
                    <a:ext cx="745200" cy="73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40" name="Picture 29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6872040" y="2308680"/>
                <a:ext cx="843120" cy="36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1" name="Text Box 110"/>
            <p:cNvSpPr/>
            <p:nvPr/>
          </p:nvSpPr>
          <p:spPr>
            <a:xfrm>
              <a:off x="6829200" y="2623320"/>
              <a:ext cx="8391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rebuchet MS"/>
                  <a:ea typeface="微软雅黑"/>
                </a:rPr>
                <a:t>新浪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2" name="Group 34"/>
          <p:cNvGrpSpPr/>
          <p:nvPr/>
        </p:nvGrpSpPr>
        <p:grpSpPr>
          <a:xfrm>
            <a:off x="4419720" y="1295280"/>
            <a:ext cx="1067040" cy="1123200"/>
            <a:chOff x="4419720" y="1295280"/>
            <a:chExt cx="1067040" cy="1123200"/>
          </a:xfrm>
        </p:grpSpPr>
        <p:grpSp>
          <p:nvGrpSpPr>
            <p:cNvPr id="343" name="Group 35"/>
            <p:cNvGrpSpPr/>
            <p:nvPr/>
          </p:nvGrpSpPr>
          <p:grpSpPr>
            <a:xfrm>
              <a:off x="4419720" y="1295280"/>
              <a:ext cx="1067040" cy="1123200"/>
              <a:chOff x="4419720" y="1295280"/>
              <a:chExt cx="1067040" cy="1123200"/>
            </a:xfrm>
          </p:grpSpPr>
          <p:grpSp>
            <p:nvGrpSpPr>
              <p:cNvPr id="344" name="Group 36"/>
              <p:cNvGrpSpPr/>
              <p:nvPr/>
            </p:nvGrpSpPr>
            <p:grpSpPr>
              <a:xfrm>
                <a:off x="4419720" y="1295280"/>
                <a:ext cx="1067040" cy="1123200"/>
                <a:chOff x="4419720" y="1295280"/>
                <a:chExt cx="1067040" cy="1123200"/>
              </a:xfrm>
            </p:grpSpPr>
            <p:pic>
              <p:nvPicPr>
                <p:cNvPr id="345" name="Picture 26" descr="light_shadow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4526640" y="2176560"/>
                  <a:ext cx="873720" cy="24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27" descr="circuler_1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425480" y="1298160"/>
                  <a:ext cx="1061280" cy="103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7" name="Group 39"/>
                <p:cNvGrpSpPr/>
                <p:nvPr/>
              </p:nvGrpSpPr>
              <p:grpSpPr>
                <a:xfrm>
                  <a:off x="4419720" y="1295280"/>
                  <a:ext cx="1065240" cy="1044720"/>
                  <a:chOff x="4419720" y="1295280"/>
                  <a:chExt cx="1065240" cy="1044720"/>
                </a:xfrm>
              </p:grpSpPr>
              <p:pic>
                <p:nvPicPr>
                  <p:cNvPr id="348" name="Oval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1295280"/>
                    <a:ext cx="10652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" name="Text Box 41"/>
                  <p:cNvSpPr/>
                  <p:nvPr/>
                </p:nvSpPr>
                <p:spPr>
                  <a:xfrm>
                    <a:off x="4579920" y="1449720"/>
                    <a:ext cx="745200" cy="732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50" name="Picture 29" descr="Picture2"/>
              <p:cNvPicPr/>
              <p:nvPr/>
            </p:nvPicPr>
            <p:blipFill>
              <a:blip r:embed="rId17"/>
              <a:stretch/>
            </p:blipFill>
            <p:spPr>
              <a:xfrm>
                <a:off x="4586040" y="1317960"/>
                <a:ext cx="843120" cy="36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1" name="Text Box 110"/>
            <p:cNvSpPr/>
            <p:nvPr/>
          </p:nvSpPr>
          <p:spPr>
            <a:xfrm>
              <a:off x="4543200" y="1632600"/>
              <a:ext cx="8391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Trebuchet MS"/>
                  <a:ea typeface="微软雅黑"/>
                </a:rPr>
                <a:t>MS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2" name="Group 44"/>
          <p:cNvGrpSpPr/>
          <p:nvPr/>
        </p:nvGrpSpPr>
        <p:grpSpPr>
          <a:xfrm>
            <a:off x="5029200" y="3657600"/>
            <a:ext cx="1067400" cy="1122840"/>
            <a:chOff x="5029200" y="3657600"/>
            <a:chExt cx="1067400" cy="1122840"/>
          </a:xfrm>
        </p:grpSpPr>
        <p:grpSp>
          <p:nvGrpSpPr>
            <p:cNvPr id="353" name="Group 45"/>
            <p:cNvGrpSpPr/>
            <p:nvPr/>
          </p:nvGrpSpPr>
          <p:grpSpPr>
            <a:xfrm>
              <a:off x="5029200" y="3657600"/>
              <a:ext cx="1067400" cy="1122840"/>
              <a:chOff x="5029200" y="3657600"/>
              <a:chExt cx="1067400" cy="1122840"/>
            </a:xfrm>
          </p:grpSpPr>
          <p:grpSp>
            <p:nvGrpSpPr>
              <p:cNvPr id="354" name="Group 46"/>
              <p:cNvGrpSpPr/>
              <p:nvPr/>
            </p:nvGrpSpPr>
            <p:grpSpPr>
              <a:xfrm>
                <a:off x="5029200" y="3657600"/>
                <a:ext cx="1067400" cy="1122840"/>
                <a:chOff x="5029200" y="3657600"/>
                <a:chExt cx="1067400" cy="1122840"/>
              </a:xfrm>
            </p:grpSpPr>
            <p:pic>
              <p:nvPicPr>
                <p:cNvPr id="355" name="Picture 26" descr="light_shadow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136120" y="4539240"/>
                  <a:ext cx="874080" cy="241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27" descr="circuler_1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034960" y="3663360"/>
                  <a:ext cx="1061640" cy="102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7" name="Group 49"/>
                <p:cNvGrpSpPr/>
                <p:nvPr/>
              </p:nvGrpSpPr>
              <p:grpSpPr>
                <a:xfrm>
                  <a:off x="5029200" y="3657600"/>
                  <a:ext cx="1065600" cy="1041840"/>
                  <a:chOff x="5029200" y="3657600"/>
                  <a:chExt cx="1065600" cy="1041840"/>
                </a:xfrm>
              </p:grpSpPr>
              <p:pic>
                <p:nvPicPr>
                  <p:cNvPr id="358" name="Oval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29200" y="3657600"/>
                    <a:ext cx="1065600" cy="10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9" name="Text Box 51"/>
                  <p:cNvSpPr/>
                  <p:nvPr/>
                </p:nvSpPr>
                <p:spPr>
                  <a:xfrm>
                    <a:off x="5189400" y="3814920"/>
                    <a:ext cx="745200" cy="73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60" name="Picture 29" descr="Picture2"/>
              <p:cNvPicPr/>
              <p:nvPr/>
            </p:nvPicPr>
            <p:blipFill>
              <a:blip r:embed="rId21"/>
              <a:stretch/>
            </p:blipFill>
            <p:spPr>
              <a:xfrm>
                <a:off x="5195520" y="3680280"/>
                <a:ext cx="843480" cy="36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1" name="Text Box 110"/>
            <p:cNvSpPr/>
            <p:nvPr/>
          </p:nvSpPr>
          <p:spPr>
            <a:xfrm>
              <a:off x="5152680" y="3994920"/>
              <a:ext cx="8395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rebuchet MS"/>
                  <a:ea typeface="微软雅黑"/>
                </a:rPr>
                <a:t>腾讯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Group 54"/>
          <p:cNvGrpSpPr/>
          <p:nvPr/>
        </p:nvGrpSpPr>
        <p:grpSpPr>
          <a:xfrm>
            <a:off x="2057400" y="4495680"/>
            <a:ext cx="1067760" cy="1123200"/>
            <a:chOff x="2057400" y="4495680"/>
            <a:chExt cx="1067760" cy="1123200"/>
          </a:xfrm>
        </p:grpSpPr>
        <p:grpSp>
          <p:nvGrpSpPr>
            <p:cNvPr id="363" name="Group 55"/>
            <p:cNvGrpSpPr/>
            <p:nvPr/>
          </p:nvGrpSpPr>
          <p:grpSpPr>
            <a:xfrm>
              <a:off x="2057400" y="4495680"/>
              <a:ext cx="1067760" cy="1123200"/>
              <a:chOff x="2057400" y="4495680"/>
              <a:chExt cx="1067760" cy="1123200"/>
            </a:xfrm>
          </p:grpSpPr>
          <p:grpSp>
            <p:nvGrpSpPr>
              <p:cNvPr id="364" name="Group 56"/>
              <p:cNvGrpSpPr/>
              <p:nvPr/>
            </p:nvGrpSpPr>
            <p:grpSpPr>
              <a:xfrm>
                <a:off x="2057400" y="4495680"/>
                <a:ext cx="1067760" cy="1123200"/>
                <a:chOff x="2057400" y="4495680"/>
                <a:chExt cx="1067760" cy="1123200"/>
              </a:xfrm>
            </p:grpSpPr>
            <p:pic>
              <p:nvPicPr>
                <p:cNvPr id="365" name="Picture 26" descr="light_shadow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161440" y="5376960"/>
                  <a:ext cx="875880" cy="24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7" descr="circuler_1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060280" y="4498560"/>
                  <a:ext cx="1063800" cy="10324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7" name="Group 59"/>
                <p:cNvGrpSpPr/>
                <p:nvPr/>
              </p:nvGrpSpPr>
              <p:grpSpPr>
                <a:xfrm>
                  <a:off x="2057400" y="4495680"/>
                  <a:ext cx="1067760" cy="1044720"/>
                  <a:chOff x="2057400" y="4495680"/>
                  <a:chExt cx="1067760" cy="1044720"/>
                </a:xfrm>
              </p:grpSpPr>
              <p:pic>
                <p:nvPicPr>
                  <p:cNvPr id="368" name="Oval 2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7400" y="4495680"/>
                    <a:ext cx="106776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9" name="Text Box 61"/>
                  <p:cNvSpPr/>
                  <p:nvPr/>
                </p:nvSpPr>
                <p:spPr>
                  <a:xfrm>
                    <a:off x="2215080" y="4650120"/>
                    <a:ext cx="747000" cy="732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370" name="Picture 29" descr="Picture2"/>
              <p:cNvPicPr/>
              <p:nvPr/>
            </p:nvPicPr>
            <p:blipFill>
              <a:blip r:embed="rId25"/>
              <a:stretch/>
            </p:blipFill>
            <p:spPr>
              <a:xfrm>
                <a:off x="2223720" y="4518360"/>
                <a:ext cx="843480" cy="36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1" name="Text Box 110"/>
            <p:cNvSpPr/>
            <p:nvPr/>
          </p:nvSpPr>
          <p:spPr>
            <a:xfrm>
              <a:off x="2180880" y="4833000"/>
              <a:ext cx="8395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d4d4d"/>
                  </a:solidFill>
                  <a:latin typeface="Trebuchet MS"/>
                  <a:ea typeface="微软雅黑"/>
                </a:rPr>
                <a:t>开心网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最后陈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0" y="6195960"/>
            <a:ext cx="9144000" cy="43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1662840"/>
            <a:ext cx="7925040" cy="30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本社交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不同于其它社交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，本社交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打开界面后，所展现的是所在的省对应到该省下所有的大学高校，该类展现方式非常的直观，是目前所有社交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中没有的，为此我们也对该类展现方式申请了发明专利，希望投资人理解并支持我们的项目，我们势必做到校友社交类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行业第一，目前商业模式当然不是很清晰，前期我们需要做的是流量，有巨大流量后做什么都成，全国在校大学生预计有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3000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多万，与之有关联的人群预计会有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5000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多万，后期扩展内容后可以涉及到上亿人群。希望投资人能看到这片市场并相信我们能做到最好。非常之感谢您能对于我们的支持！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计划融资：天使阶段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1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00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万美金，占股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10%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。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A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、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B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轮融资为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500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、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2000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万美金，分别占股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10%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和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15%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   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联系方式：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18113574751  webyuanli@qq.com  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联系人：袁利</a:t>
            </a:r>
            <a:br>
              <a:rPr sz="1600"/>
            </a:b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标题 3" descr=""/>
          <p:cNvPicPr/>
          <p:nvPr/>
        </p:nvPicPr>
        <p:blipFill>
          <a:blip r:embed="rId2"/>
          <a:stretch/>
        </p:blipFill>
        <p:spPr>
          <a:xfrm>
            <a:off x="1878120" y="2889360"/>
            <a:ext cx="5113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同窗互动社区项目概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00200" y="13716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北京同窗网络科技有限公司创立于北京，创业团队于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201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5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年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5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月，启动创业项目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——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同窗互动社区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公司定位为移动互联网平台，尤其涉及到大学社交互动类的手机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APP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目前，大学社交类的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APP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中，不能以省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/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市级分类的方式或者定位的方式，进入到具体大学高校的社交互动页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，操作比较复杂。而我们实现了这一功能并申请了发明专利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公司创始人均为互联网行业资深业者，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2001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年开始就接触于互联网领域，曾在台湾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104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人力银行等互联网公司担任开发、产品等职务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公司目前处于天使投资阶段，计划融资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 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1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幼圆"/>
              </a:rPr>
              <a:t>00 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万美金，占股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10%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。计划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A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、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B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轮融资为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500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、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2000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万美金，分别占股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10%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和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幼圆"/>
              </a:rPr>
              <a:t>15%</a:t>
            </a:r>
            <a:br>
              <a:rPr sz="1800"/>
            </a:br>
            <a:r>
              <a:rPr b="0" lang="zh-CN" sz="1800" spc="-1" strike="noStrike">
                <a:solidFill>
                  <a:srgbClr val="4d4d4d"/>
                </a:solidFill>
                <a:latin typeface="Franklin Gothic Medium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533520" y="1371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公司成立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33520" y="2286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公司定位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33520" y="3505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技术核心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33520" y="4648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创业团队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33520" y="5638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融资需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6" descr="cooltools-shape"/>
          <p:cNvPicPr/>
          <p:nvPr/>
        </p:nvPicPr>
        <p:blipFill>
          <a:blip r:embed="rId1"/>
          <a:stretch/>
        </p:blipFill>
        <p:spPr>
          <a:xfrm>
            <a:off x="2357280" y="2971800"/>
            <a:ext cx="4930920" cy="555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6" descr="cooltools-shape"/>
          <p:cNvPicPr/>
          <p:nvPr/>
        </p:nvPicPr>
        <p:blipFill>
          <a:blip r:embed="rId2"/>
          <a:stretch/>
        </p:blipFill>
        <p:spPr>
          <a:xfrm>
            <a:off x="2357280" y="3957480"/>
            <a:ext cx="4930920" cy="50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6" descr="cooltools-shape"/>
          <p:cNvPicPr/>
          <p:nvPr/>
        </p:nvPicPr>
        <p:blipFill>
          <a:blip r:embed="rId3"/>
          <a:stretch/>
        </p:blipFill>
        <p:spPr>
          <a:xfrm>
            <a:off x="2357280" y="1981080"/>
            <a:ext cx="4930920" cy="54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6"/>
          <p:cNvSpPr/>
          <p:nvPr/>
        </p:nvSpPr>
        <p:spPr>
          <a:xfrm>
            <a:off x="2357280" y="203184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项目概述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1427040" y="1905120"/>
            <a:ext cx="878040" cy="877680"/>
            <a:chOff x="1427040" y="1905120"/>
            <a:chExt cx="878040" cy="877680"/>
          </a:xfrm>
        </p:grpSpPr>
        <p:pic>
          <p:nvPicPr>
            <p:cNvPr id="174" name="AutoShape 3" descr=""/>
            <p:cNvPicPr/>
            <p:nvPr/>
          </p:nvPicPr>
          <p:blipFill>
            <a:blip r:embed="rId4"/>
            <a:stretch/>
          </p:blipFill>
          <p:spPr>
            <a:xfrm>
              <a:off x="1427040" y="1905120"/>
              <a:ext cx="8780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1725480" y="1992240"/>
              <a:ext cx="5191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方正综艺简体"/>
                  <a:ea typeface="幼圆"/>
                </a:rPr>
                <a:t>1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Group 9"/>
          <p:cNvGrpSpPr/>
          <p:nvPr/>
        </p:nvGrpSpPr>
        <p:grpSpPr>
          <a:xfrm>
            <a:off x="2408400" y="4008600"/>
            <a:ext cx="4754160" cy="390240"/>
            <a:chOff x="2408400" y="4008600"/>
            <a:chExt cx="4754160" cy="390240"/>
          </a:xfrm>
        </p:grpSpPr>
        <p:pic>
          <p:nvPicPr>
            <p:cNvPr id="177" name="Rectangle 16" descr=""/>
            <p:cNvPicPr/>
            <p:nvPr/>
          </p:nvPicPr>
          <p:blipFill>
            <a:blip r:embed="rId5"/>
            <a:stretch/>
          </p:blipFill>
          <p:spPr>
            <a:xfrm>
              <a:off x="2408400" y="4008600"/>
              <a:ext cx="47541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3"/>
            <p:cNvSpPr/>
            <p:nvPr/>
          </p:nvSpPr>
          <p:spPr>
            <a:xfrm>
              <a:off x="2441160" y="4028760"/>
              <a:ext cx="47005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业务与产品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1427040" y="3886200"/>
            <a:ext cx="878040" cy="873000"/>
            <a:chOff x="1427040" y="3886200"/>
            <a:chExt cx="878040" cy="873000"/>
          </a:xfrm>
        </p:grpSpPr>
        <p:pic>
          <p:nvPicPr>
            <p:cNvPr id="180" name="AutoShape 3" descr=""/>
            <p:cNvPicPr/>
            <p:nvPr/>
          </p:nvPicPr>
          <p:blipFill>
            <a:blip r:embed="rId6"/>
            <a:stretch/>
          </p:blipFill>
          <p:spPr>
            <a:xfrm>
              <a:off x="1427040" y="3886200"/>
              <a:ext cx="87804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6"/>
            <p:cNvSpPr/>
            <p:nvPr/>
          </p:nvSpPr>
          <p:spPr>
            <a:xfrm>
              <a:off x="1725480" y="3968640"/>
              <a:ext cx="517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方正综艺简体"/>
                  <a:ea typeface="幼圆"/>
                </a:rPr>
                <a:t>3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Group 15"/>
          <p:cNvGrpSpPr/>
          <p:nvPr/>
        </p:nvGrpSpPr>
        <p:grpSpPr>
          <a:xfrm>
            <a:off x="1427040" y="2895480"/>
            <a:ext cx="878040" cy="878040"/>
            <a:chOff x="1427040" y="2895480"/>
            <a:chExt cx="878040" cy="878040"/>
          </a:xfrm>
        </p:grpSpPr>
        <p:pic>
          <p:nvPicPr>
            <p:cNvPr id="183" name="AutoShape 3" descr=""/>
            <p:cNvPicPr/>
            <p:nvPr/>
          </p:nvPicPr>
          <p:blipFill>
            <a:blip r:embed="rId7"/>
            <a:stretch/>
          </p:blipFill>
          <p:spPr>
            <a:xfrm>
              <a:off x="1427040" y="2895480"/>
              <a:ext cx="8780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5"/>
            <p:cNvSpPr/>
            <p:nvPr/>
          </p:nvSpPr>
          <p:spPr>
            <a:xfrm>
              <a:off x="1725480" y="2982960"/>
              <a:ext cx="519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方正综艺简体"/>
                  <a:ea typeface="幼圆"/>
                </a:rPr>
                <a:t>2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Group 18"/>
          <p:cNvGrpSpPr/>
          <p:nvPr/>
        </p:nvGrpSpPr>
        <p:grpSpPr>
          <a:xfrm>
            <a:off x="2408400" y="2951280"/>
            <a:ext cx="4829760" cy="530280"/>
            <a:chOff x="2408400" y="2951280"/>
            <a:chExt cx="4829760" cy="530280"/>
          </a:xfrm>
        </p:grpSpPr>
        <p:pic>
          <p:nvPicPr>
            <p:cNvPr id="186" name="Rectangle 16" descr=""/>
            <p:cNvPicPr/>
            <p:nvPr/>
          </p:nvPicPr>
          <p:blipFill>
            <a:blip r:embed="rId8"/>
            <a:stretch/>
          </p:blipFill>
          <p:spPr>
            <a:xfrm>
              <a:off x="2408400" y="2951280"/>
              <a:ext cx="4753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28"/>
            <p:cNvSpPr/>
            <p:nvPr/>
          </p:nvSpPr>
          <p:spPr>
            <a:xfrm>
              <a:off x="2441160" y="2971800"/>
              <a:ext cx="4797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项目发明专利保护内容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目录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项目背景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----</a:t>
            </a:r>
            <a:r>
              <a:rPr b="1" lang="zh-CN" sz="18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本项目受发明专利保护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icture 7"/>
          <p:cNvSpPr/>
          <p:nvPr/>
        </p:nvSpPr>
        <p:spPr>
          <a:xfrm>
            <a:off x="911160" y="1351080"/>
            <a:ext cx="7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85800" y="1295280"/>
            <a:ext cx="7467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幼圆"/>
              </a:rPr>
              <a:t>  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目前，大学社交互动类的手机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APP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中，不能以省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/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市级分类的方式或者定位的方式（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IP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幼圆"/>
              </a:rPr>
              <a:t>定位或卫星定位），进入到具体大学高校的社交互动页。这样，用户就只能通过复杂的链接或者手动搜索，才能进入到具体大学高校的社交互动页。然而，这种浏览方式操作成本较高，不能简单快速的进入到自己所想要进入的大学高校页面，界面不太直观，操作比较复杂，效率较低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99"/>
                </a:solidFill>
                <a:latin typeface="Franklin Gothic Medium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项目内容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----</a:t>
            </a:r>
            <a:r>
              <a:rPr b="1" lang="zh-CN" sz="18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本项目受发明专利保护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1855800"/>
            <a:ext cx="7924680" cy="19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本项目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提供一种页面展现的方法，可以通过符合用户需求的方式，简单快速地进入到自己想要进入的具体大学高校的社交互动页。降低用户的操作成本，提高用户进入页面的效率，融合全国各高校用户的社交互动性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本</a:t>
            </a:r>
            <a:r>
              <a:rPr b="0" lang="zh-CN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项目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实例为：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进入手机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主界面（非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APP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启动画面），展现的是全国所有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34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个省级行政区，同时，程序后台通过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IP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定位或者手机卫星定位，判断到该访问用户的地理位置，会自动聚焦到该用户所在的省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/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市级行政区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    </a:t>
            </a:r>
            <a:r>
              <a:rPr b="0" lang="en-US" sz="1600" spc="-1" strike="noStrike">
                <a:solidFill>
                  <a:srgbClr val="4d4d4d"/>
                </a:solidFill>
                <a:latin typeface="Franklin Gothic Medium"/>
                <a:ea typeface="幼圆"/>
              </a:rPr>
              <a:t>点击进入行政区后，展现的是该行政区下的大部分或全部大学高校。点击进入大学高校，进入到该大学高校的社交互动页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项目效果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----</a:t>
            </a:r>
            <a:r>
              <a:rPr b="1" lang="zh-CN" sz="18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本项目受发明专利保护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TextBox 35"/>
          <p:cNvSpPr/>
          <p:nvPr/>
        </p:nvSpPr>
        <p:spPr>
          <a:xfrm>
            <a:off x="457200" y="1219320"/>
            <a:ext cx="830592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由以上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项目内容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可以看出，本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项目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有以下有益效果：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    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本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项目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包含了全国所有或者大部分的大学高校，并能以省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/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市级分类的方式向用户展示。与现有技术中，并没有包含全国所有或者大部分的大学高校，也没有以省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/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市级分类的方式相比，本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项目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幼圆"/>
              </a:rPr>
              <a:t>所提供的技术方案更好地融合了各高校用户的社交互动性，避免了用户不能简单直观地进入到自己所想要进入的高校，降低了用户地操作成本，提高了用户地操作效率。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矩形 40"/>
          <p:cNvSpPr/>
          <p:nvPr/>
        </p:nvSpPr>
        <p:spPr>
          <a:xfrm>
            <a:off x="5702040" y="394812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拍照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享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附图展示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1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2921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960" y="117360"/>
            <a:ext cx="8458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</a:rPr>
              <a:t>附图展示</a:t>
            </a:r>
            <a:r>
              <a:rPr b="1" lang="en-US" sz="3200" spc="-1" strike="noStrike">
                <a:solidFill>
                  <a:srgbClr val="ff6600"/>
                </a:solidFill>
                <a:latin typeface="Franklin Gothic Medium"/>
              </a:rPr>
              <a:t>2</a:t>
            </a:r>
            <a:endParaRPr b="1" lang="en-US" sz="3200" spc="-1" strike="noStrike">
              <a:solidFill>
                <a:srgbClr val="ff6600"/>
              </a:solidFill>
              <a:latin typeface="Franklin Gothic Medium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292104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附图展示</a:t>
            </a:r>
            <a:r>
              <a:rPr b="1" lang="zh-CN" sz="3200" spc="-1" strike="noStrike">
                <a:solidFill>
                  <a:srgbClr val="ff6600"/>
                </a:solidFill>
                <a:latin typeface="Franklin Gothic Medium"/>
                <a:ea typeface="幼圆"/>
              </a:rPr>
              <a:t>3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29289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michael</cp:lastModifiedBy>
  <dcterms:modified xsi:type="dcterms:W3CDTF">2015-10-13T03:33:21Z</dcterms:modified>
  <cp:revision>580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