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8782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762000" y="-1440"/>
            <a:ext cx="28782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53920" y="75060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??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??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9408600"/>
            <a:ext cx="287820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762000" y="9408600"/>
            <a:ext cx="2878200" cy="497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zh-CN" sz="1000" spc="-1" strike="noStrike">
                <a:solidFill>
                  <a:srgbClr val="000000"/>
                </a:solidFill>
                <a:latin typeface="??"/>
                <a:ea typeface="??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9362D9-70D1-4B8E-B277-41C43D775DDA}" type="slidenum">
              <a:rPr b="0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A817782-2D7E-4272-A7AD-E0CC80ACEE6F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3C15B7-2A85-45F5-8524-F593C518F43C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56484A-DF77-4943-973A-D3C92DA98F50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C0A7A85-7B28-4D70-9509-F42BB229C430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9A76EB-A7C4-44CD-AADD-DBE62D513DB5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8D46E17-27FF-4A3F-A018-3BF981E57519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EDE13E4-E1CA-4FA0-BC4D-CD520E22B9A5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4B1361-1CCF-48DF-8EC5-7E99DC839CBB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4418F56-F3F3-44CF-B91B-34240D730C6C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2A946F-8D57-4864-9C6F-72633BC5B884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DBA84DB-D309-4BD4-A006-42B9DF7B5EB3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9C2159B-DED8-4B70-BAEE-39D3CE72539E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06717E-5931-4C00-8C01-40C5B2EEB9AF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02827BA-2247-483C-86ED-AA497DCA949F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1CCA41-A922-47E4-AE60-ABBCEE95C158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457605B-EDCB-45F8-95CF-0CA35EA5BDB8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AE011B-DFD4-497A-A778-593519896846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8CAD5C5-EFB1-4307-B2B7-38AC513E337D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6EC02D-BEFC-46B7-B01B-CE95A10F35EB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791500-5902-452F-A0C7-7D1C2594AEC5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FCB44E4-3EF5-484A-8C77-2BAE87CD1A81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86EE35-A638-4A3D-AF28-01BC478B7B2D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762360" y="9408960"/>
            <a:ext cx="2878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5CC426-D85C-4429-91D7-2B8196E8B88E}" type="slidenum">
              <a:rPr b="0" i="1" lang="zh-CN" sz="1000" spc="-1" strike="noStrike">
                <a:solidFill>
                  <a:srgbClr val="000000"/>
                </a:solidFill>
                <a:latin typeface="??"/>
                <a:ea typeface="??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5096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zh-CN" sz="1200" spc="-1" strike="noStrike">
              <a:solidFill>
                <a:srgbClr val="000000"/>
              </a:solidFill>
              <a:latin typeface="??"/>
              <a:ea typeface="??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CA00-5133-4FBB-AFD2-8B90E71FF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8A6F-E478-4AE1-A2CC-0AEC5F9AA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C26E-93EB-4C02-8B4D-3288B412D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8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2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516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8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2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84EB-8149-42FA-9AD7-43E9C39B5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0640" y="196560"/>
            <a:ext cx="71751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5D23-ED22-4326-B323-859B06E78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8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2800" y="132048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9516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8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2800" y="3867840"/>
            <a:ext cx="26222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74AD-E95F-499B-B119-D86A8196D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F41A-2B64-449B-8907-EBCEDAFA2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EFC7-1915-43B2-B311-1CE58E08C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0640" y="196560"/>
            <a:ext cx="71751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2741-CE18-46EE-A32F-2D68B2887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C231-D6E6-4C6E-9865-8F5A6A7FA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8280" y="386784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9A1C-A3D2-4321-B9B6-68CA11503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516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8280" y="1320480"/>
            <a:ext cx="3974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5160" y="3867840"/>
            <a:ext cx="8143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789F-B5B9-4091-AEC6-7887A9AD4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C Half Banner"/>
          <p:cNvSpPr/>
          <p:nvPr/>
        </p:nvSpPr>
        <p:spPr>
          <a:xfrm>
            <a:off x="0" y="6500880"/>
            <a:ext cx="9144000" cy="36036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C Half Banner"/>
          <p:cNvSpPr/>
          <p:nvPr/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02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Zero2IPO Financial Adviso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8083440" y="6605280"/>
            <a:ext cx="1060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lstStyle>
            <a:lvl1pPr marL="216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[ </a:t>
            </a:r>
            <a:fld id="{1BB48084-11FC-4ACA-907A-B2465475FBD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89080" indent="-289080">
              <a:spcBef>
                <a:spcPts val="2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spcBef>
                <a:spcPts val="2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22120"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228600">
              <a:spcBef>
                <a:spcPts val="2500"/>
              </a:spcBef>
              <a:buClr>
                <a:srgbClr val="000000"/>
              </a:buClr>
              <a:buFont typeface="??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2" descr="清科标志－透明300dpi"/>
          <p:cNvPicPr/>
          <p:nvPr/>
        </p:nvPicPr>
        <p:blipFill>
          <a:blip r:embed="rId2"/>
          <a:stretch/>
        </p:blipFill>
        <p:spPr>
          <a:xfrm>
            <a:off x="7675560" y="271440"/>
            <a:ext cx="1233360" cy="449280"/>
          </a:xfrm>
          <a:prstGeom prst="rect">
            <a:avLst/>
          </a:prstGeom>
          <a:ln w="0">
            <a:noFill/>
          </a:ln>
        </p:spPr>
      </p:pic>
      <p:sp>
        <p:nvSpPr>
          <p:cNvPr id="7" name="Line 34"/>
          <p:cNvSpPr/>
          <p:nvPr/>
        </p:nvSpPr>
        <p:spPr>
          <a:xfrm>
            <a:off x="0" y="846000"/>
            <a:ext cx="9140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91800" bIns="-91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C Half Banner"/>
          <p:cNvSpPr/>
          <p:nvPr/>
        </p:nvSpPr>
        <p:spPr>
          <a:xfrm>
            <a:off x="0" y="3943440"/>
            <a:ext cx="9144000" cy="28782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eded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C Half Banner"/>
          <p:cNvSpPr/>
          <p:nvPr/>
        </p:nvSpPr>
        <p:spPr>
          <a:xfrm>
            <a:off x="0" y="0"/>
            <a:ext cx="9144000" cy="3949560"/>
          </a:xfrm>
          <a:prstGeom prst="rect">
            <a:avLst/>
          </a:prstGeom>
          <a:solidFill>
            <a:srgbClr val="02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5160" y="132048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89080" indent="-289080">
              <a:spcBef>
                <a:spcPts val="2500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spcBef>
                <a:spcPts val="2500"/>
              </a:spcBef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22120"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228600">
              <a:spcBef>
                <a:spcPts val="2500"/>
              </a:spcBef>
              <a:buClr>
                <a:srgbClr val="000000"/>
              </a:buClr>
              <a:buFont typeface="??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58880" indent="-228600">
              <a:spcBef>
                <a:spcPts val="2500"/>
              </a:spcBef>
              <a:buClr>
                <a:srgbClr val="000000"/>
              </a:buClr>
              <a:buFont typeface="??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2803680" y="135360"/>
            <a:ext cx="505440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1600" bIns="21600" anchor="ctr">
            <a:spAutoFit/>
          </a:bodyPr>
          <a:p>
            <a:pPr marL="173160" indent="-173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A Leading Integrated Service Provider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n Venture Capital and Private Equity Industry in China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清科标志－透明300dpi"/>
          <p:cNvPicPr/>
          <p:nvPr/>
        </p:nvPicPr>
        <p:blipFill>
          <a:blip r:embed="rId1"/>
          <a:stretch/>
        </p:blipFill>
        <p:spPr>
          <a:xfrm>
            <a:off x="7875720" y="144360"/>
            <a:ext cx="1139760" cy="414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20760" y="2782800"/>
            <a:ext cx="671976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商业计划书写作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06640"/>
            <a:ext cx="64008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1080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83ca"/>
                </a:solidFill>
                <a:latin typeface="Arial"/>
                <a:ea typeface="宋体"/>
              </a:rPr>
              <a:t>清科集团  顾问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283ca"/>
                </a:solidFill>
                <a:latin typeface="Arial"/>
                <a:ea typeface="宋体"/>
              </a:rPr>
              <a:t>田兴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2571840" y="2390760"/>
            <a:ext cx="3292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92160" bIns="9216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aaaaa"/>
                </a:solidFill>
                <a:latin typeface="Arial"/>
                <a:ea typeface="黑体"/>
              </a:rPr>
              <a:t>企业融资实务培训 二</a:t>
            </a:r>
            <a:r>
              <a:rPr b="0" lang="en-US" sz="2000" spc="-1" strike="noStrike">
                <a:solidFill>
                  <a:srgbClr val="aaaaaa"/>
                </a:solidFill>
                <a:latin typeface="Arial"/>
                <a:ea typeface="黑体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35A1F282-FE01-4AAB-B302-34D9E605F1B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16000" y="1049400"/>
            <a:ext cx="6586560" cy="41209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073320" y="2095560"/>
            <a:ext cx="5807160" cy="41497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16C4724A-A2E0-4F0C-87AA-122D875B3C8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市场及行业分析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98560" y="1438200"/>
            <a:ext cx="55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业背景介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场细分及细分市场规模和增长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市场定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客户分析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市场背景不要过于冗长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明确的市场定位和目标客户群体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客观分析细分市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1282680" y="38894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1282680" y="21286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6310C9A-04AA-4BA3-ACEB-7D591106378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16000" y="1022400"/>
            <a:ext cx="5505480" cy="45482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2517840" y="2432160"/>
            <a:ext cx="6375240" cy="39970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E0F2DCE5-A462-47F2-9843-32666427C203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竞争分析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98560" y="1438200"/>
            <a:ext cx="6810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竞争对手的定位及其市场状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键指标对比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主要竞争优势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竞争度对手充分了解，不可能没有竞争，否则是没有市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出自己的优势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量用数据与图表说话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1282680" y="3417840"/>
            <a:ext cx="6694560" cy="156708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1282680" y="18493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A8D2C053-2A28-4612-86C2-B0D85768BED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216000" y="1054080"/>
            <a:ext cx="6435720" cy="39258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854440" y="1619280"/>
            <a:ext cx="6095880" cy="46893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2E6B4B94-BF8A-455A-9B9E-160299F3A63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战略规划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98560" y="1438200"/>
            <a:ext cx="58453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现状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发展战略及阶段性目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动计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服务、市场推广、人员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逐步实现的发展战略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各项计划配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"/>
          <p:cNvSpPr/>
          <p:nvPr/>
        </p:nvSpPr>
        <p:spPr>
          <a:xfrm>
            <a:off x="1282680" y="34178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1282680" y="18493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56AC0DFE-1FE5-4CA2-9656-ACB10503E1D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16000" y="1047600"/>
            <a:ext cx="6573600" cy="39481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797200" y="1943280"/>
            <a:ext cx="6110280" cy="43210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27BE12C1-39B0-4F62-ACA1-36945FF6A19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财务及融资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898560" y="1438200"/>
            <a:ext cx="584532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历史财务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财务指标预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财务预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融资需求及资金用途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测合理、收支匹配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吸引力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金需求合适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"/>
          <p:cNvSpPr/>
          <p:nvPr/>
        </p:nvSpPr>
        <p:spPr>
          <a:xfrm>
            <a:off x="1282680" y="39416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1282680" y="21286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8B34760A-B850-4DBA-88D0-278B51F795F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财务预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181240" y="19018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收入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470400" y="14050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服务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470400" y="20876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181240" y="357984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成本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181240" y="289548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营业税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2181240" y="457524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费用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181240" y="551016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所得税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2181240" y="600696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利润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4500720" y="127944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4500720" y="1590840"/>
            <a:ext cx="644400" cy="1854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500720" y="19638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4500720" y="2273400"/>
            <a:ext cx="6444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403960" y="1154160"/>
            <a:ext cx="77148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403960" y="140508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消费形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3470400" y="2646360"/>
            <a:ext cx="96660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运营商分成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3470400" y="30830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材料成本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3470400" y="345744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直接人工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3470400" y="382896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分成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3470400" y="414180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营销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470400" y="4513320"/>
            <a:ext cx="772920" cy="2491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研发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3470400" y="4826160"/>
            <a:ext cx="772920" cy="24732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管理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3470400" y="5197320"/>
            <a:ext cx="772920" cy="2494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折旧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28"/>
          <p:cNvCxnSpPr>
            <a:stCxn id="198" idx="3"/>
            <a:endCxn id="210" idx="1"/>
          </p:cNvCxnSpPr>
          <p:nvPr/>
        </p:nvCxnSpPr>
        <p:spPr>
          <a:xfrm flipV="1">
            <a:off x="2954160" y="3206520"/>
            <a:ext cx="516960" cy="4989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18" name="AutoShape 29"/>
          <p:cNvCxnSpPr>
            <a:stCxn id="198" idx="3"/>
            <a:endCxn id="211" idx="1"/>
          </p:cNvCxnSpPr>
          <p:nvPr/>
        </p:nvCxnSpPr>
        <p:spPr>
          <a:xfrm flipV="1">
            <a:off x="2954160" y="3580920"/>
            <a:ext cx="516960" cy="1245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19" name="AutoShape 30"/>
          <p:cNvCxnSpPr>
            <a:stCxn id="198" idx="3"/>
            <a:endCxn id="212" idx="1"/>
          </p:cNvCxnSpPr>
          <p:nvPr/>
        </p:nvCxnSpPr>
        <p:spPr>
          <a:xfrm>
            <a:off x="2954160" y="3704760"/>
            <a:ext cx="516960" cy="250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0" name="AutoShape 31"/>
          <p:cNvCxnSpPr>
            <a:stCxn id="200" idx="3"/>
            <a:endCxn id="213" idx="1"/>
          </p:cNvCxnSpPr>
          <p:nvPr/>
        </p:nvCxnSpPr>
        <p:spPr>
          <a:xfrm flipV="1">
            <a:off x="2954160" y="4265280"/>
            <a:ext cx="516960" cy="4356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1" name="AutoShape 32"/>
          <p:cNvCxnSpPr>
            <a:stCxn id="200" idx="3"/>
            <a:endCxn id="214" idx="1"/>
          </p:cNvCxnSpPr>
          <p:nvPr/>
        </p:nvCxnSpPr>
        <p:spPr>
          <a:xfrm flipV="1">
            <a:off x="2954160" y="4638240"/>
            <a:ext cx="516960" cy="6264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2" name="AutoShape 33"/>
          <p:cNvCxnSpPr>
            <a:stCxn id="200" idx="3"/>
            <a:endCxn id="215" idx="1"/>
          </p:cNvCxnSpPr>
          <p:nvPr/>
        </p:nvCxnSpPr>
        <p:spPr>
          <a:xfrm>
            <a:off x="2954160" y="4700160"/>
            <a:ext cx="516960" cy="250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3" name="AutoShape 34"/>
          <p:cNvCxnSpPr>
            <a:stCxn id="200" idx="3"/>
            <a:endCxn id="216" idx="1"/>
          </p:cNvCxnSpPr>
          <p:nvPr/>
        </p:nvCxnSpPr>
        <p:spPr>
          <a:xfrm>
            <a:off x="2954160" y="4700160"/>
            <a:ext cx="516960" cy="6231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4" name="AutoShape 35"/>
          <p:cNvCxnSpPr>
            <a:stCxn id="195" idx="3"/>
            <a:endCxn id="196" idx="1"/>
          </p:cNvCxnSpPr>
          <p:nvPr/>
        </p:nvCxnSpPr>
        <p:spPr>
          <a:xfrm flipV="1">
            <a:off x="2954160" y="1528560"/>
            <a:ext cx="516960" cy="49896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5" name="AutoShape 36"/>
          <p:cNvCxnSpPr>
            <a:stCxn id="195" idx="3"/>
            <a:endCxn id="197" idx="1"/>
          </p:cNvCxnSpPr>
          <p:nvPr/>
        </p:nvCxnSpPr>
        <p:spPr>
          <a:xfrm>
            <a:off x="2954160" y="2027160"/>
            <a:ext cx="516960" cy="18504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6" name="AutoShape 37"/>
          <p:cNvCxnSpPr>
            <a:stCxn id="195" idx="3"/>
            <a:endCxn id="209" idx="1"/>
          </p:cNvCxnSpPr>
          <p:nvPr/>
        </p:nvCxnSpPr>
        <p:spPr>
          <a:xfrm>
            <a:off x="2954160" y="2027160"/>
            <a:ext cx="516960" cy="745200"/>
          </a:xfrm>
          <a:prstGeom prst="bentConnector3">
            <a:avLst>
              <a:gd name="adj1" fmla="val 49825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7" name="AutoShape 38"/>
          <p:cNvCxnSpPr>
            <a:stCxn id="196" idx="3"/>
            <a:endCxn id="203" idx="1"/>
          </p:cNvCxnSpPr>
          <p:nvPr/>
        </p:nvCxnSpPr>
        <p:spPr>
          <a:xfrm flipV="1">
            <a:off x="4242960" y="1372320"/>
            <a:ext cx="258120" cy="15660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8" name="AutoShape 39"/>
          <p:cNvCxnSpPr>
            <a:stCxn id="196" idx="3"/>
            <a:endCxn id="204" idx="1"/>
          </p:cNvCxnSpPr>
          <p:nvPr/>
        </p:nvCxnSpPr>
        <p:spPr>
          <a:xfrm>
            <a:off x="4242960" y="152892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29" name="AutoShape 40"/>
          <p:cNvCxnSpPr>
            <a:stCxn id="197" idx="3"/>
            <a:endCxn id="205" idx="1"/>
          </p:cNvCxnSpPr>
          <p:nvPr/>
        </p:nvCxnSpPr>
        <p:spPr>
          <a:xfrm flipV="1">
            <a:off x="4242960" y="2057040"/>
            <a:ext cx="258120" cy="15480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0" name="AutoShape 41"/>
          <p:cNvCxnSpPr>
            <a:stCxn id="197" idx="3"/>
            <a:endCxn id="206" idx="1"/>
          </p:cNvCxnSpPr>
          <p:nvPr/>
        </p:nvCxnSpPr>
        <p:spPr>
          <a:xfrm>
            <a:off x="4242960" y="221148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1" name="AutoShape 42"/>
          <p:cNvCxnSpPr>
            <a:stCxn id="203" idx="3"/>
            <a:endCxn id="207" idx="1"/>
          </p:cNvCxnSpPr>
          <p:nvPr/>
        </p:nvCxnSpPr>
        <p:spPr>
          <a:xfrm flipV="1">
            <a:off x="5144760" y="1247400"/>
            <a:ext cx="259560" cy="126000"/>
          </a:xfrm>
          <a:prstGeom prst="bentConnector3">
            <a:avLst>
              <a:gd name="adj1" fmla="val 49444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2" name="AutoShape 43"/>
          <p:cNvCxnSpPr>
            <a:stCxn id="203" idx="3"/>
            <a:endCxn id="208" idx="1"/>
          </p:cNvCxnSpPr>
          <p:nvPr/>
        </p:nvCxnSpPr>
        <p:spPr>
          <a:xfrm>
            <a:off x="5144760" y="1373040"/>
            <a:ext cx="259560" cy="124560"/>
          </a:xfrm>
          <a:prstGeom prst="bentConnector3">
            <a:avLst>
              <a:gd name="adj1" fmla="val 49444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33" name="Rectangle 44"/>
          <p:cNvSpPr/>
          <p:nvPr/>
        </p:nvSpPr>
        <p:spPr>
          <a:xfrm>
            <a:off x="2181240" y="5073480"/>
            <a:ext cx="772920" cy="24768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利息费用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6500880" y="103176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服务范围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6500880" y="1279440"/>
            <a:ext cx="7714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用户比例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7"/>
          <p:cNvCxnSpPr>
            <a:stCxn id="207" idx="3"/>
            <a:endCxn id="234" idx="1"/>
          </p:cNvCxnSpPr>
          <p:nvPr/>
        </p:nvCxnSpPr>
        <p:spPr>
          <a:xfrm flipV="1">
            <a:off x="6175440" y="1123560"/>
            <a:ext cx="326160" cy="124560"/>
          </a:xfrm>
          <a:prstGeom prst="bentConnector3">
            <a:avLst>
              <a:gd name="adj1" fmla="val 49944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37" name="AutoShape 48"/>
          <p:cNvCxnSpPr>
            <a:stCxn id="207" idx="3"/>
            <a:endCxn id="235" idx="1"/>
          </p:cNvCxnSpPr>
          <p:nvPr/>
        </p:nvCxnSpPr>
        <p:spPr>
          <a:xfrm>
            <a:off x="6175440" y="1247760"/>
            <a:ext cx="326160" cy="126000"/>
          </a:xfrm>
          <a:prstGeom prst="bentConnector3">
            <a:avLst>
              <a:gd name="adj1" fmla="val 49944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38" name="Rectangle 49"/>
          <p:cNvSpPr/>
          <p:nvPr/>
        </p:nvSpPr>
        <p:spPr>
          <a:xfrm>
            <a:off x="7562880" y="906480"/>
            <a:ext cx="772920" cy="434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发展规划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AutoShape 50"/>
          <p:cNvCxnSpPr>
            <a:stCxn id="234" idx="3"/>
            <a:endCxn id="238" idx="1"/>
          </p:cNvCxnSpPr>
          <p:nvPr/>
        </p:nvCxnSpPr>
        <p:spPr>
          <a:xfrm>
            <a:off x="7272000" y="1123560"/>
            <a:ext cx="291240" cy="108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40" name="Rectangle 51"/>
          <p:cNvSpPr/>
          <p:nvPr/>
        </p:nvSpPr>
        <p:spPr>
          <a:xfrm>
            <a:off x="4500720" y="339408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员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4500720" y="36432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薪水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AutoShape 53"/>
          <p:cNvCxnSpPr>
            <a:stCxn id="211" idx="3"/>
            <a:endCxn id="240" idx="1"/>
          </p:cNvCxnSpPr>
          <p:nvPr/>
        </p:nvCxnSpPr>
        <p:spPr>
          <a:xfrm flipV="1">
            <a:off x="4242960" y="3487320"/>
            <a:ext cx="258120" cy="9432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43" name="AutoShape 54"/>
          <p:cNvCxnSpPr>
            <a:stCxn id="211" idx="3"/>
            <a:endCxn id="241" idx="1"/>
          </p:cNvCxnSpPr>
          <p:nvPr/>
        </p:nvCxnSpPr>
        <p:spPr>
          <a:xfrm>
            <a:off x="4242960" y="3581280"/>
            <a:ext cx="258120" cy="155880"/>
          </a:xfrm>
          <a:prstGeom prst="bentConnector3">
            <a:avLst>
              <a:gd name="adj1" fmla="val 49720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44" name="Rectangle 55"/>
          <p:cNvSpPr/>
          <p:nvPr/>
        </p:nvSpPr>
        <p:spPr>
          <a:xfrm>
            <a:off x="5919840" y="398160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6"/>
          <p:cNvSpPr/>
          <p:nvPr/>
        </p:nvSpPr>
        <p:spPr>
          <a:xfrm>
            <a:off x="5919840" y="4230720"/>
            <a:ext cx="6444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开支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7"/>
          <p:cNvSpPr/>
          <p:nvPr/>
        </p:nvSpPr>
        <p:spPr>
          <a:xfrm>
            <a:off x="5919840" y="476244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5919840" y="5011560"/>
            <a:ext cx="6444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办公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9"/>
          <p:cNvSpPr/>
          <p:nvPr/>
        </p:nvSpPr>
        <p:spPr>
          <a:xfrm>
            <a:off x="4500720" y="5227560"/>
            <a:ext cx="644400" cy="1875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设备投资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60"/>
          <p:cNvCxnSpPr>
            <a:stCxn id="216" idx="3"/>
            <a:endCxn id="248" idx="1"/>
          </p:cNvCxnSpPr>
          <p:nvPr/>
        </p:nvCxnSpPr>
        <p:spPr>
          <a:xfrm flipV="1">
            <a:off x="4242960" y="5320440"/>
            <a:ext cx="258120" cy="252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0" name="AutoShape 61"/>
          <p:cNvCxnSpPr>
            <a:stCxn id="215" idx="3"/>
            <a:endCxn id="246" idx="1"/>
          </p:cNvCxnSpPr>
          <p:nvPr/>
        </p:nvCxnSpPr>
        <p:spPr>
          <a:xfrm flipV="1">
            <a:off x="4242960" y="4855320"/>
            <a:ext cx="1677240" cy="9468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1" name="AutoShape 62"/>
          <p:cNvCxnSpPr>
            <a:stCxn id="215" idx="3"/>
            <a:endCxn id="247" idx="1"/>
          </p:cNvCxnSpPr>
          <p:nvPr/>
        </p:nvCxnSpPr>
        <p:spPr>
          <a:xfrm>
            <a:off x="4242960" y="4950000"/>
            <a:ext cx="1677240" cy="15588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52" name="Rectangle 63"/>
          <p:cNvSpPr/>
          <p:nvPr/>
        </p:nvSpPr>
        <p:spPr>
          <a:xfrm>
            <a:off x="6757920" y="3394080"/>
            <a:ext cx="7732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员工规划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64"/>
          <p:cNvCxnSpPr>
            <a:stCxn id="240" idx="3"/>
            <a:endCxn id="252" idx="1"/>
          </p:cNvCxnSpPr>
          <p:nvPr/>
        </p:nvCxnSpPr>
        <p:spPr>
          <a:xfrm>
            <a:off x="5145120" y="3487320"/>
            <a:ext cx="1613520" cy="1080"/>
          </a:xfrm>
          <a:prstGeom prst="straightConnector1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4" name="AutoShape 65"/>
          <p:cNvCxnSpPr>
            <a:stCxn id="246" idx="3"/>
            <a:endCxn id="252" idx="2"/>
          </p:cNvCxnSpPr>
          <p:nvPr/>
        </p:nvCxnSpPr>
        <p:spPr>
          <a:xfrm flipV="1">
            <a:off x="6564240" y="3579480"/>
            <a:ext cx="581400" cy="12765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5" name="AutoShape 66"/>
          <p:cNvCxnSpPr>
            <a:stCxn id="247" idx="3"/>
            <a:endCxn id="252" idx="2"/>
          </p:cNvCxnSpPr>
          <p:nvPr/>
        </p:nvCxnSpPr>
        <p:spPr>
          <a:xfrm flipV="1">
            <a:off x="6564240" y="3579480"/>
            <a:ext cx="581400" cy="152640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6" name="AutoShape 67"/>
          <p:cNvCxnSpPr>
            <a:stCxn id="252" idx="3"/>
            <a:endCxn id="238" idx="2"/>
          </p:cNvCxnSpPr>
          <p:nvPr/>
        </p:nvCxnSpPr>
        <p:spPr>
          <a:xfrm flipV="1">
            <a:off x="7531200" y="1341000"/>
            <a:ext cx="419760" cy="214704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7" name="AutoShape 68"/>
          <p:cNvCxnSpPr>
            <a:stCxn id="213" idx="3"/>
            <a:endCxn id="244" idx="1"/>
          </p:cNvCxnSpPr>
          <p:nvPr/>
        </p:nvCxnSpPr>
        <p:spPr>
          <a:xfrm flipV="1">
            <a:off x="4242960" y="4074480"/>
            <a:ext cx="1677240" cy="191160"/>
          </a:xfrm>
          <a:prstGeom prst="bentConnector3">
            <a:avLst>
              <a:gd name="adj1" fmla="val 4989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8" name="AutoShape 69"/>
          <p:cNvCxnSpPr>
            <a:stCxn id="213" idx="3"/>
            <a:endCxn id="245" idx="1"/>
          </p:cNvCxnSpPr>
          <p:nvPr/>
        </p:nvCxnSpPr>
        <p:spPr>
          <a:xfrm>
            <a:off x="4242960" y="4265280"/>
            <a:ext cx="1677240" cy="59400"/>
          </a:xfrm>
          <a:prstGeom prst="bentConnector3">
            <a:avLst>
              <a:gd name="adj1" fmla="val 4989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59" name="AutoShape 70"/>
          <p:cNvCxnSpPr>
            <a:stCxn id="245" idx="3"/>
            <a:endCxn id="238" idx="2"/>
          </p:cNvCxnSpPr>
          <p:nvPr/>
        </p:nvCxnSpPr>
        <p:spPr>
          <a:xfrm flipV="1">
            <a:off x="6564240" y="1341000"/>
            <a:ext cx="1386720" cy="298368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0" name="AutoShape 71"/>
          <p:cNvCxnSpPr>
            <a:stCxn id="244" idx="3"/>
            <a:endCxn id="252" idx="1"/>
          </p:cNvCxnSpPr>
          <p:nvPr/>
        </p:nvCxnSpPr>
        <p:spPr>
          <a:xfrm flipV="1">
            <a:off x="6564240" y="3487320"/>
            <a:ext cx="194400" cy="588240"/>
          </a:xfrm>
          <a:prstGeom prst="bentConnector3">
            <a:avLst>
              <a:gd name="adj1" fmla="val 49907"/>
            </a:avLst>
          </a:prstGeom>
          <a:ln w="9360">
            <a:solidFill>
              <a:srgbClr val="0283ca"/>
            </a:solidFill>
            <a:miter/>
          </a:ln>
        </p:spPr>
      </p:cxnSp>
      <p:sp>
        <p:nvSpPr>
          <p:cNvPr id="261" name="Rectangle 72"/>
          <p:cNvSpPr/>
          <p:nvPr/>
        </p:nvSpPr>
        <p:spPr>
          <a:xfrm>
            <a:off x="4438800" y="4389480"/>
            <a:ext cx="51588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人工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3"/>
          <p:cNvSpPr/>
          <p:nvPr/>
        </p:nvSpPr>
        <p:spPr>
          <a:xfrm>
            <a:off x="4438800" y="4638600"/>
            <a:ext cx="515880" cy="1875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开支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74"/>
          <p:cNvCxnSpPr>
            <a:stCxn id="214" idx="3"/>
            <a:endCxn id="261" idx="1"/>
          </p:cNvCxnSpPr>
          <p:nvPr/>
        </p:nvCxnSpPr>
        <p:spPr>
          <a:xfrm flipV="1">
            <a:off x="4242960" y="4483080"/>
            <a:ext cx="196200" cy="155880"/>
          </a:xfrm>
          <a:prstGeom prst="bentConnector3">
            <a:avLst>
              <a:gd name="adj1" fmla="val 4963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4" name="AutoShape 75"/>
          <p:cNvCxnSpPr>
            <a:stCxn id="214" idx="3"/>
            <a:endCxn id="262" idx="1"/>
          </p:cNvCxnSpPr>
          <p:nvPr/>
        </p:nvCxnSpPr>
        <p:spPr>
          <a:xfrm>
            <a:off x="4242960" y="4638600"/>
            <a:ext cx="196200" cy="94320"/>
          </a:xfrm>
          <a:prstGeom prst="bentConnector3">
            <a:avLst>
              <a:gd name="adj1" fmla="val 49632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5" name="AutoShape 76"/>
          <p:cNvCxnSpPr>
            <a:stCxn id="261" idx="3"/>
            <a:endCxn id="252" idx="2"/>
          </p:cNvCxnSpPr>
          <p:nvPr/>
        </p:nvCxnSpPr>
        <p:spPr>
          <a:xfrm flipV="1">
            <a:off x="4954320" y="3579120"/>
            <a:ext cx="2191320" cy="9039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6" name="AutoShape 77"/>
          <p:cNvCxnSpPr>
            <a:stCxn id="262" idx="3"/>
            <a:endCxn id="238" idx="2"/>
          </p:cNvCxnSpPr>
          <p:nvPr/>
        </p:nvCxnSpPr>
        <p:spPr>
          <a:xfrm flipV="1">
            <a:off x="4954320" y="1340640"/>
            <a:ext cx="2996280" cy="339156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67" name="AutoShape 78"/>
          <p:cNvCxnSpPr>
            <a:stCxn id="248" idx="3"/>
            <a:endCxn id="238" idx="2"/>
          </p:cNvCxnSpPr>
          <p:nvPr/>
        </p:nvCxnSpPr>
        <p:spPr>
          <a:xfrm flipV="1">
            <a:off x="5145120" y="1340640"/>
            <a:ext cx="2805840" cy="398052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68" name="Rectangle 79"/>
          <p:cNvSpPr/>
          <p:nvPr/>
        </p:nvSpPr>
        <p:spPr>
          <a:xfrm>
            <a:off x="5275440" y="2959200"/>
            <a:ext cx="642600" cy="18576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材料数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0"/>
          <p:cNvSpPr/>
          <p:nvPr/>
        </p:nvSpPr>
        <p:spPr>
          <a:xfrm>
            <a:off x="5275440" y="3208320"/>
            <a:ext cx="642600" cy="187200"/>
          </a:xfrm>
          <a:prstGeom prst="rect">
            <a:avLst/>
          </a:prstGeom>
          <a:noFill/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价格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81"/>
          <p:cNvCxnSpPr>
            <a:stCxn id="210" idx="3"/>
            <a:endCxn id="268" idx="1"/>
          </p:cNvCxnSpPr>
          <p:nvPr/>
        </p:nvCxnSpPr>
        <p:spPr>
          <a:xfrm flipV="1">
            <a:off x="4242960" y="3052440"/>
            <a:ext cx="103284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71" name="AutoShape 82"/>
          <p:cNvCxnSpPr>
            <a:stCxn id="210" idx="3"/>
            <a:endCxn id="269" idx="1"/>
          </p:cNvCxnSpPr>
          <p:nvPr/>
        </p:nvCxnSpPr>
        <p:spPr>
          <a:xfrm>
            <a:off x="4242960" y="3206880"/>
            <a:ext cx="1032840" cy="95760"/>
          </a:xfrm>
          <a:prstGeom prst="bentConnector3">
            <a:avLst>
              <a:gd name="adj1" fmla="val 50000"/>
            </a:avLst>
          </a:prstGeom>
          <a:ln w="9360">
            <a:solidFill>
              <a:srgbClr val="0283ca"/>
            </a:solidFill>
            <a:miter/>
          </a:ln>
        </p:spPr>
      </p:cxnSp>
      <p:cxnSp>
        <p:nvCxnSpPr>
          <p:cNvPr id="272" name="AutoShape 83"/>
          <p:cNvCxnSpPr>
            <a:stCxn id="268" idx="0"/>
            <a:endCxn id="204" idx="3"/>
          </p:cNvCxnSpPr>
          <p:nvPr/>
        </p:nvCxnSpPr>
        <p:spPr>
          <a:xfrm flipV="1" rot="16200000">
            <a:off x="4733280" y="2094840"/>
            <a:ext cx="1275480" cy="453240"/>
          </a:xfrm>
          <a:prstGeom prst="bentConnector2">
            <a:avLst/>
          </a:prstGeom>
          <a:ln w="9360">
            <a:solidFill>
              <a:srgbClr val="0283ca"/>
            </a:solidFill>
            <a:miter/>
          </a:ln>
        </p:spPr>
      </p:cxnSp>
      <p:sp>
        <p:nvSpPr>
          <p:cNvPr id="273" name="Line 84"/>
          <p:cNvSpPr/>
          <p:nvPr/>
        </p:nvSpPr>
        <p:spPr>
          <a:xfrm>
            <a:off x="1601640" y="3954600"/>
            <a:ext cx="1482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5"/>
          <p:cNvSpPr/>
          <p:nvPr/>
        </p:nvSpPr>
        <p:spPr>
          <a:xfrm>
            <a:off x="1601640" y="5446800"/>
            <a:ext cx="14828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6"/>
          <p:cNvSpPr/>
          <p:nvPr/>
        </p:nvSpPr>
        <p:spPr>
          <a:xfrm>
            <a:off x="1538280" y="5011560"/>
            <a:ext cx="14810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7"/>
          <p:cNvGrpSpPr/>
          <p:nvPr/>
        </p:nvGrpSpPr>
        <p:grpSpPr>
          <a:xfrm>
            <a:off x="1538280" y="4513320"/>
            <a:ext cx="2900160" cy="622080"/>
            <a:chOff x="1538280" y="4513320"/>
            <a:chExt cx="2900160" cy="622080"/>
          </a:xfrm>
        </p:grpSpPr>
        <p:sp>
          <p:nvSpPr>
            <p:cNvPr id="277" name="Line 88"/>
            <p:cNvSpPr/>
            <p:nvPr/>
          </p:nvSpPr>
          <p:spPr>
            <a:xfrm>
              <a:off x="1538280" y="4513320"/>
              <a:ext cx="17632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9"/>
            <p:cNvSpPr/>
            <p:nvPr/>
          </p:nvSpPr>
          <p:spPr>
            <a:xfrm>
              <a:off x="3301560" y="4513320"/>
              <a:ext cx="0" cy="6220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0"/>
            <p:cNvSpPr/>
            <p:nvPr/>
          </p:nvSpPr>
          <p:spPr>
            <a:xfrm>
              <a:off x="3301560" y="5135400"/>
              <a:ext cx="113688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91"/>
          <p:cNvSpPr/>
          <p:nvPr/>
        </p:nvSpPr>
        <p:spPr>
          <a:xfrm>
            <a:off x="1279440" y="3828960"/>
            <a:ext cx="642960" cy="24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毛利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2"/>
          <p:cNvSpPr/>
          <p:nvPr/>
        </p:nvSpPr>
        <p:spPr>
          <a:xfrm>
            <a:off x="1279440" y="5322960"/>
            <a:ext cx="642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3"/>
          <p:cNvSpPr/>
          <p:nvPr/>
        </p:nvSpPr>
        <p:spPr>
          <a:xfrm>
            <a:off x="1279440" y="4886280"/>
            <a:ext cx="64296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I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4"/>
          <p:cNvSpPr/>
          <p:nvPr/>
        </p:nvSpPr>
        <p:spPr>
          <a:xfrm>
            <a:off x="1279440" y="4389480"/>
            <a:ext cx="642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283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BITD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5"/>
          <p:cNvSpPr/>
          <p:nvPr/>
        </p:nvSpPr>
        <p:spPr>
          <a:xfrm>
            <a:off x="2440080" y="2400480"/>
            <a:ext cx="32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6"/>
          <p:cNvSpPr/>
          <p:nvPr/>
        </p:nvSpPr>
        <p:spPr>
          <a:xfrm>
            <a:off x="2440080" y="3270240"/>
            <a:ext cx="322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7"/>
          <p:cNvSpPr/>
          <p:nvPr/>
        </p:nvSpPr>
        <p:spPr>
          <a:xfrm>
            <a:off x="2440080" y="4202280"/>
            <a:ext cx="322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8"/>
          <p:cNvSpPr/>
          <p:nvPr/>
        </p:nvSpPr>
        <p:spPr>
          <a:xfrm>
            <a:off x="2440080" y="4826160"/>
            <a:ext cx="322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9"/>
          <p:cNvSpPr/>
          <p:nvPr/>
        </p:nvSpPr>
        <p:spPr>
          <a:xfrm>
            <a:off x="2440080" y="5289480"/>
            <a:ext cx="322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0"/>
          <p:cNvSpPr/>
          <p:nvPr/>
        </p:nvSpPr>
        <p:spPr>
          <a:xfrm>
            <a:off x="2440080" y="5819760"/>
            <a:ext cx="3222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1"/>
          <p:cNvSpPr/>
          <p:nvPr/>
        </p:nvSpPr>
        <p:spPr>
          <a:xfrm>
            <a:off x="2023920" y="1343160"/>
            <a:ext cx="1095480" cy="503712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3102EE0-DF6B-424D-A267-6A89BBA3DC2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216000" y="1058760"/>
            <a:ext cx="6421320" cy="42912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2195640" y="1704960"/>
            <a:ext cx="6734160" cy="46148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5E4F2170-5B09-43B7-A3DE-1160EE0FB9D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</a:rPr>
              <a:t>商业计划书提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073160" y="1619280"/>
            <a:ext cx="3579840" cy="41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投资亮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与服务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商业模式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市场及行业分析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竞争分析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战略规划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财务及融资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250"/>
              </a:spcBef>
              <a:buClr>
                <a:srgbClr val="0283c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理团队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1389240" y="177480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389240" y="222264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1389240" y="265572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1389240" y="31035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1389240" y="3603600"/>
            <a:ext cx="4554360" cy="3081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3"/>
          <p:cNvSpPr/>
          <p:nvPr/>
        </p:nvSpPr>
        <p:spPr>
          <a:xfrm>
            <a:off x="1389240" y="405144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1389240" y="45021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5"/>
          <p:cNvSpPr/>
          <p:nvPr/>
        </p:nvSpPr>
        <p:spPr>
          <a:xfrm>
            <a:off x="1389240" y="495000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1389240" y="5416560"/>
            <a:ext cx="4554360" cy="3078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F894B644-5EAB-4217-9655-C510AF7EC32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216000" y="1030320"/>
            <a:ext cx="6510240" cy="45352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2584440" y="2982960"/>
            <a:ext cx="6335640" cy="33354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CD37733-A8F9-4F84-B698-678ADD363AA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管理团队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98560" y="1438200"/>
            <a:ext cx="584532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名关键管理者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EO, CTO, CO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包括从业及教育背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合理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验、背景有说服力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拉一些名人挂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5"/>
          <p:cNvSpPr/>
          <p:nvPr/>
        </p:nvSpPr>
        <p:spPr>
          <a:xfrm>
            <a:off x="1282680" y="34178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6"/>
          <p:cNvSpPr/>
          <p:nvPr/>
        </p:nvSpPr>
        <p:spPr>
          <a:xfrm>
            <a:off x="1282680" y="1673280"/>
            <a:ext cx="6694560" cy="10317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870C4D95-B48E-4CEB-A304-4E97DB2B7C2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216000" y="1049400"/>
            <a:ext cx="6629400" cy="406548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2757600" y="2230560"/>
            <a:ext cx="6180120" cy="42037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8"/>
          <p:cNvSpPr txBox="1"/>
          <p:nvPr/>
        </p:nvSpPr>
        <p:spPr>
          <a:xfrm>
            <a:off x="2287440" y="230040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99cc"/>
                </a:soli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i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0099cc"/>
              </a:soli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880D047-0F9C-450B-A920-1D3FDDAC86D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投资亮点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98560" y="1438200"/>
            <a:ext cx="55339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市场、商业模式、资源优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条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00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简洁，统领全文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00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不要夸张、空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1282680" y="15685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"/>
          <p:cNvSpPr/>
          <p:nvPr/>
        </p:nvSpPr>
        <p:spPr>
          <a:xfrm>
            <a:off x="1282680" y="3156120"/>
            <a:ext cx="6694560" cy="116964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E298B98D-09E4-4996-BF8C-60617F9B38A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20680" y="1046160"/>
            <a:ext cx="7058160" cy="391644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2093760" y="1887480"/>
            <a:ext cx="6805800" cy="451800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F5E56BA9-3669-46AC-843F-36F245DFBE6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公司简介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98560" y="1438200"/>
            <a:ext cx="553392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概况：成立时间、员工等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司使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股权结构及主要股东背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要历史事件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真实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贴获奖证书、媒体报道等图片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5"/>
          <p:cNvSpPr/>
          <p:nvPr/>
        </p:nvSpPr>
        <p:spPr>
          <a:xfrm>
            <a:off x="1282680" y="21272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1282680" y="361008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733958C2-773A-4191-A65A-11610D0A5DB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216000" y="1077840"/>
            <a:ext cx="6164280" cy="373392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3232080" y="2482920"/>
            <a:ext cx="5688000" cy="38289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E3F33038-D02D-4FBE-9B32-E99B5B0AEFA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产品与服务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98560" y="1438200"/>
            <a:ext cx="553392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什么问题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产品基本原理、服务流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特性、知识产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要客户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要过多介绍技术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少用专业术语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1282680" y="354024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1282680" y="1868400"/>
            <a:ext cx="6694560" cy="139536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5118AF98-5113-4072-B210-1A890A9F607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例－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216000" y="1047600"/>
            <a:ext cx="6256080" cy="38451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2633760" y="2519280"/>
            <a:ext cx="6278400" cy="3803760"/>
          </a:xfrm>
          <a:prstGeom prst="rect">
            <a:avLst/>
          </a:prstGeom>
          <a:ln w="9360">
            <a:solidFill>
              <a:srgbClr val="0283c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54000" y="6570720"/>
            <a:ext cx="3137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Zero2IPO Financial Advisory Service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8083440" y="6605640"/>
            <a:ext cx="10605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2473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</a:t>
            </a:r>
            <a:fld id="{40A23C81-3CC8-4807-8980-E054A5F68C6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0640" y="196560"/>
            <a:ext cx="7175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模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98560" y="1438200"/>
            <a:ext cx="55339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要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业务流程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283ca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配方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spcBef>
                <a:spcPts val="2999"/>
              </a:spcBef>
              <a:buClr>
                <a:srgbClr val="0283c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事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3280">
              <a:lnSpc>
                <a:spcPct val="100000"/>
              </a:lnSpc>
              <a:spcBef>
                <a:spcPts val="337"/>
              </a:spcBef>
              <a:buClr>
                <a:srgbClr val="0066cc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何产生收入，至少有想象空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1282680" y="333072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"/>
          <p:cNvSpPr/>
          <p:nvPr/>
        </p:nvSpPr>
        <p:spPr>
          <a:xfrm>
            <a:off x="1282680" y="1814400"/>
            <a:ext cx="6694560" cy="1170000"/>
          </a:xfrm>
          <a:prstGeom prst="pie">
            <a:avLst/>
          </a:prstGeom>
          <a:noFill/>
          <a:ln w="9360">
            <a:solidFill>
              <a:srgbClr val="dada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02:04:58Z</dcterms:created>
  <dc:creator>michael s. adelman</dc:creator>
  <dc:description>Blank presentation using AC standard text.  Andersen Consulting Firmwide Templates v7.0.</dc:description>
  <dc:language>en-US</dc:language>
  <cp:lastModifiedBy>微软用户</cp:lastModifiedBy>
  <cp:lastPrinted>1999-04-27T16:42:08Z</cp:lastPrinted>
  <dcterms:modified xsi:type="dcterms:W3CDTF">2009-08-21T06:15:26Z</dcterms:modified>
  <cp:revision>1200</cp:revision>
  <dc:subject/>
  <dc:title>No Slide Title</dc:title>
</cp:coreProperties>
</file>