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D64-0342-4917-BC52-EE6AD0D0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BB9-3456-43DF-B1E2-4A568EDA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FA9-8BBF-4070-9816-79A371DA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11A-0592-4094-B6A1-7B861BB2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FE2-BF31-440A-8C92-8EFCB5A0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2B0-B479-456B-A341-E3127788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BDC-D121-49E4-ABA7-7B2D060C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FE5-EB3A-48F8-B38A-65AEF802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4E7-59F9-4C83-946E-CEF41625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B5F-DE47-491C-93D1-8CF40D99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D08-3467-4663-BD75-7FC3403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E4D-07A1-4ED2-BC3E-E26F452A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A2DD-725D-484B-BF8A-690D08B3E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74640" y="27000"/>
            <a:ext cx="595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4鼠小弟和鼠小妹.PDF10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4鼠小弟和鼠小妹.PDF11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4鼠小弟和鼠小妹.PDF12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4鼠小弟和鼠小妹.PDF13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4鼠小弟和鼠小妹.PDF14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4鼠小弟和鼠小妹.PDF15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4鼠小弟和鼠小妹.PDF16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4鼠小弟和鼠小妹.PDF17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4鼠小弟和鼠小妹.PDF18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4鼠小弟和鼠小妹.PDF19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4鼠小弟和鼠小妹.PDF02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4鼠小弟和鼠小妹.PDF20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4鼠小弟和鼠小妹.PDF21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4鼠小弟和鼠小妹.PDF22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4鼠小弟和鼠小妹.PDF23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4鼠小弟和鼠小妹.PDF24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4鼠小弟和鼠小妹.PDF25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4鼠小弟和鼠小妹.PDF26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4鼠小弟和鼠小妹.PDF27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4鼠小弟和鼠小妹.PDF28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4鼠小弟和鼠小妹.PDF29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4鼠小弟和鼠小妹.PDF03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4鼠小弟和鼠小妹.PDF30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4鼠小弟和鼠小妹.PDF31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4鼠小弟和鼠小妹.PDF32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4鼠小弟和鼠小妹.PDF33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4鼠小弟和鼠小妹.PDF34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4鼠小弟和鼠小妹.PDF35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4鼠小弟和鼠小妹.PDF04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4鼠小弟和鼠小妹.PDF05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4鼠小弟和鼠小妹.PDF06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4鼠小弟和鼠小妹.PDF07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4鼠小弟和鼠小妹.PDF08.jpg04鼠小弟和鼠小妹" descr=""/>
          <p:cNvPicPr/>
          <p:nvPr/>
        </p:nvPicPr>
        <p:blipFill>
          <a:blip r:embed="rId1"/>
          <a:stretch/>
        </p:blipFill>
        <p:spPr>
          <a:xfrm>
            <a:off x="1574640" y="28440"/>
            <a:ext cx="5950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4鼠小弟和鼠小妹.PDF09.jpg04鼠小弟和鼠小妹" descr=""/>
          <p:cNvPicPr/>
          <p:nvPr/>
        </p:nvPicPr>
        <p:blipFill>
          <a:blip r:embed="rId1"/>
          <a:stretch/>
        </p:blipFill>
        <p:spPr>
          <a:xfrm>
            <a:off x="1577880" y="2700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1:11:59Z</dcterms:created>
  <dc:creator>绘本在线论坛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