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36F-D4B4-401C-BA4E-168F377F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EC7-026B-45AC-A0F1-3BA58CD3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C78-2353-4D77-A304-4C7E435E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D0F-FC4B-4954-B1CB-A8CA1F7C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2AC-C486-457F-9E96-5EA4EE50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B1A-A8D6-49FD-8EAC-771D5497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764-9C6A-4B57-A8F0-430F2632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1BB-A54F-4E2A-9522-AC786135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074-679B-4A77-8149-0413047E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0A4-9F3B-4CD0-921C-F268BEAD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14D-2CE0-4AE2-999D-9F0D1A6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54C-D8AC-4119-BBD5-8F15A89A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18D9-1D71-40C5-9279-4B548E9AF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10鼠小弟荡秋千-10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10鼠小弟荡秋千-11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10鼠小弟荡秋千-12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10鼠小弟荡秋千-13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10鼠小弟荡秋千-14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10鼠小弟荡秋千-15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10鼠小弟荡秋千-16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10鼠小弟荡秋千-17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10鼠小弟荡秋千-18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10鼠小弟荡秋千-19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0鼠小弟荡秋千-02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10鼠小弟荡秋千-20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10鼠小弟荡秋千-21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10鼠小弟荡秋千-22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0鼠小弟荡秋千-23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10鼠小弟荡秋千-24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0鼠小弟荡秋千-25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10鼠小弟荡秋千-26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0鼠小弟荡秋千-27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10鼠小弟荡秋千-28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10鼠小弟荡秋千-29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10鼠小弟荡秋千-03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10鼠小弟荡秋千-30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10鼠小弟荡秋千-31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10鼠小弟荡秋千-32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10鼠小弟荡秋千-33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10鼠小弟荡秋千-34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0鼠小弟荡秋千-35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10鼠小弟荡秋千-36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10鼠小弟荡秋千-04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10鼠小弟荡秋千-05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10鼠小弟荡秋千-06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10鼠小弟荡秋千-07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10鼠小弟荡秋千-08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10鼠小弟荡秋千-09" descr=""/>
          <p:cNvPicPr/>
          <p:nvPr/>
        </p:nvPicPr>
        <p:blipFill>
          <a:blip r:embed="rId1"/>
          <a:stretch/>
        </p:blipFill>
        <p:spPr>
          <a:xfrm>
            <a:off x="1619280" y="-25560"/>
            <a:ext cx="59119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3:56:23Z</dcterms:created>
  <dc:creator>绘本在线论坛 www.ppsbook.com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>绘本在线论坛 www.ppsbook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