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8.wmf" ContentType="image/x-wmf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606-92AC-4450-99E5-6E0E86CA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629880"/>
            <a:ext cx="822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080-E586-4938-8E4D-D700053B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62988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62988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EA7-66A1-4417-9724-2388CCDD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98064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98064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62988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62988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62988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960-6656-48F5-8A97-B531AB3A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B025-C850-4F78-82FC-948217DB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95280" y="980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E2F2-49D0-42A6-87FF-EDAAB674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5694-7DB9-44A3-AEB6-57CB441E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A4B9-E19F-485B-BB8A-B76FB6AA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100F-6D48-430F-98DF-D9BC9CC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2010-4DBD-401C-A144-78C01A54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2988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DB2C-445F-42EB-9E3A-CE644347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980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D6A-CDB7-40A1-A746-E7194117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12320" y="362988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AECA-0523-463B-B20C-F594B78B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5280" y="3629880"/>
            <a:ext cx="822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3EC3-00BD-40FC-8F94-10B094A6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5280" y="3629880"/>
            <a:ext cx="822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4B0D-7A1D-4486-9DAF-D491AE99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95280" y="362988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12320" y="362988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D5CA-32CC-4726-8A84-8FFBB3FA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7720" y="98064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0160" y="98064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95280" y="362988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77720" y="362988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0160" y="3629880"/>
            <a:ext cx="264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0372-0331-4934-A9BF-E4FD3A55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6BB-8088-4CA1-910F-C9C871FE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EF3-9A1D-4705-8586-D2BB376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AD3-93EB-41E0-9140-B3337C66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3E0-8EA9-4616-B640-BA5BDC7F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62988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C96-F76D-4452-B2F9-173F6DA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62988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4CB-122B-4797-9E15-0E397AC2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980640"/>
            <a:ext cx="4015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629880"/>
            <a:ext cx="822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D16-1994-43DE-A518-F55FC55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980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134C-2DD3-48D9-AC51-EA97AA16F6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34" descr="校徽.png"/>
          <p:cNvPicPr/>
          <p:nvPr/>
        </p:nvPicPr>
        <p:blipFill>
          <a:blip r:embed="rId3"/>
          <a:stretch/>
        </p:blipFill>
        <p:spPr>
          <a:xfrm>
            <a:off x="7020000" y="1522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5" name="图片 35" descr="未命名.png"/>
          <p:cNvPicPr/>
          <p:nvPr/>
        </p:nvPicPr>
        <p:blipFill>
          <a:blip r:embed="rId4"/>
          <a:stretch/>
        </p:blipFill>
        <p:spPr>
          <a:xfrm>
            <a:off x="7740720" y="260280"/>
            <a:ext cx="1214280" cy="3603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华文新魏"/>
              </a:rPr>
              <a:t>Click to edit the title text format</a:t>
            </a:r>
            <a:endParaRPr b="1" lang="en-US" sz="2800" spc="-1" strike="noStrike">
              <a:solidFill>
                <a:srgbClr val="002060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07B8-B549-46AA-9BAD-DA11C861DF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87280" y="83340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34" descr="校徽.png"/>
          <p:cNvPicPr/>
          <p:nvPr/>
        </p:nvPicPr>
        <p:blipFill>
          <a:blip r:embed="rId3"/>
          <a:stretch/>
        </p:blipFill>
        <p:spPr>
          <a:xfrm>
            <a:off x="44280" y="18900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5" descr="未命名.png"/>
          <p:cNvPicPr/>
          <p:nvPr/>
        </p:nvPicPr>
        <p:blipFill>
          <a:blip r:embed="rId4"/>
          <a:stretch/>
        </p:blipFill>
        <p:spPr>
          <a:xfrm>
            <a:off x="765000" y="297000"/>
            <a:ext cx="1214640" cy="3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067280" y="549360"/>
            <a:ext cx="5076720" cy="268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 rot="594000">
            <a:off x="1833480" y="2975040"/>
            <a:ext cx="6912000" cy="377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15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硕士论文答辩</a:t>
            </a:r>
            <a:endParaRPr b="1" lang="en-US" sz="4800" spc="-1" strike="noStrike">
              <a:solidFill>
                <a:srgbClr val="002060"/>
              </a:solidFill>
              <a:latin typeface="华文新魏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348000" y="4005000"/>
            <a:ext cx="40975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答辩人：言彦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号：  </a:t>
            </a: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s080903004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导师：  李磊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专业：  管理科学与工程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方向：  管理信息系统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492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答辩题目：公共资源交易问题—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                              碳排放权交易系统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4" descr="校徽.png"/>
          <p:cNvPicPr/>
          <p:nvPr/>
        </p:nvPicPr>
        <p:blipFill>
          <a:blip r:embed="rId1"/>
          <a:stretch/>
        </p:blipFill>
        <p:spPr>
          <a:xfrm>
            <a:off x="7020000" y="1522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5" descr="未命名.png"/>
          <p:cNvPicPr/>
          <p:nvPr/>
        </p:nvPicPr>
        <p:blipFill>
          <a:blip r:embed="rId2"/>
          <a:stretch/>
        </p:blipFill>
        <p:spPr>
          <a:xfrm>
            <a:off x="7740720" y="260280"/>
            <a:ext cx="1214280" cy="360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32000" y="2421000"/>
            <a:ext cx="6624720" cy="1224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76280"/>
            <a:ext cx="367164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2205000"/>
            <a:ext cx="6913440" cy="1440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437000"/>
            <a:ext cx="3240360" cy="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92360" y="4797360"/>
            <a:ext cx="3240360" cy="7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492360" y="5157720"/>
            <a:ext cx="3240360" cy="3816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5627520"/>
            <a:ext cx="3240360" cy="334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92360" y="6021000"/>
            <a:ext cx="3240360" cy="2556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4.2.3 B-S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模型参数估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0" y="0"/>
                <a:ext cx="1714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0"/>
                <a:ext cx="1714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0"/>
                <a:ext cx="1714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0"/>
                <a:ext cx="1714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0" y="0"/>
                <a:ext cx="1714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1619280" y="1917720"/>
            <a:ext cx="6265440" cy="3958920"/>
            <a:chOff x="1619280" y="1917720"/>
            <a:chExt cx="6265440" cy="3958920"/>
          </a:xfrm>
        </p:grpSpPr>
        <p:grpSp>
          <p:nvGrpSpPr>
            <p:cNvPr id="286" name=""/>
            <p:cNvGrpSpPr/>
            <p:nvPr/>
          </p:nvGrpSpPr>
          <p:grpSpPr>
            <a:xfrm>
              <a:off x="2060640" y="2178000"/>
              <a:ext cx="5204880" cy="3324600"/>
              <a:chOff x="2060640" y="2178000"/>
              <a:chExt cx="5204880" cy="332460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060640" y="2178000"/>
                <a:ext cx="5204880" cy="91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0640" y="3073680"/>
                <a:ext cx="5204880" cy="242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"/>
            <p:cNvSpPr/>
            <p:nvPr/>
          </p:nvSpPr>
          <p:spPr>
            <a:xfrm>
              <a:off x="1619280" y="1917720"/>
              <a:ext cx="6265440" cy="395892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E804-A56B-4FC9-BB07-2AA1A663D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续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s: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标的物当前价格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ɡ: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期权波动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: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期权价格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r: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无风险利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t: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到期时间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N(d):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正态分布变量的累积概率分布函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★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波动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>
            <a:grayscl/>
            <a:lum contrast="42000"/>
          </a:blip>
          <a:srcRect l="-74" t="16138" r="0" b="0"/>
          <a:stretch/>
        </p:blipFill>
        <p:spPr>
          <a:xfrm>
            <a:off x="1258920" y="3141720"/>
            <a:ext cx="6985080" cy="2459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619280" y="5516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欧洲碳排放权日均价格变化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arbon Emission daily average price EUR</a:t>
            </a: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5445000"/>
            <a:ext cx="2124000" cy="1152720"/>
          </a:xfrm>
          <a:prstGeom prst="wedgeRoundRectCallout">
            <a:avLst>
              <a:gd name="adj1" fmla="val 60388"/>
              <a:gd name="adj2" fmla="val -98347"/>
              <a:gd name="adj3" fmla="val 16667"/>
            </a:avLst>
          </a:prstGeom>
          <a:gradFill rotWithShape="0">
            <a:gsLst>
              <a:gs pos="0">
                <a:srgbClr val="9d9b94"/>
              </a:gs>
              <a:gs pos="100000">
                <a:srgbClr val="eeece1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ɡ</a:t>
            </a:r>
            <a:r>
              <a:rPr b="1" lang="en-US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=0.0779</a:t>
            </a:r>
            <a:r>
              <a:rPr b="1" lang="en-US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32720" y="1052640"/>
            <a:ext cx="2124000" cy="1152360"/>
          </a:xfrm>
          <a:prstGeom prst="wedgeRoundRectCallout">
            <a:avLst>
              <a:gd name="adj1" fmla="val -116967"/>
              <a:gd name="adj2" fmla="val 48759"/>
              <a:gd name="adj3" fmla="val 16667"/>
            </a:avLst>
          </a:prstGeom>
          <a:gradFill rotWithShape="0">
            <a:gsLst>
              <a:gs pos="0">
                <a:srgbClr val="9d9b94"/>
              </a:gs>
              <a:gs pos="100000">
                <a:srgbClr val="eeece1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en-US" sz="1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=6.8972</a:t>
            </a:r>
            <a:r>
              <a:rPr b="1" lang="en-US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A7CF-CF4E-4B76-B4FB-0B56334F9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4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研究方法和过程（碳排放交易系统二级市场设计）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3.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引例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呼吸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46800" cy="240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84360" y="2997360"/>
            <a:ext cx="4392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98900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8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8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，在广州举行的中国森林城市论坛上，中科院院士蒋有绪先生呼吁政府考虑征收“呼吸税”，因为居民也是二氧化碳的排放者，应该为节能减排付出代价，“可以考虑让市民每个月买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块钱的生态基金。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16360" y="4437000"/>
            <a:ext cx="3529080" cy="1944720"/>
            <a:chOff x="4716360" y="4437000"/>
            <a:chExt cx="3529080" cy="1944720"/>
          </a:xfrm>
        </p:grpSpPr>
        <p:sp>
          <p:nvSpPr>
            <p:cNvPr id="302" name=""/>
            <p:cNvSpPr/>
            <p:nvPr/>
          </p:nvSpPr>
          <p:spPr>
            <a:xfrm>
              <a:off x="4716360" y="4437000"/>
              <a:ext cx="3529080" cy="1944720"/>
            </a:xfrm>
            <a:prstGeom prst="wedgeRoundRectCallout">
              <a:avLst>
                <a:gd name="adj1" fmla="val 42129"/>
                <a:gd name="adj2" fmla="val -87958"/>
                <a:gd name="adj3" fmla="val 16667"/>
              </a:avLst>
            </a:prstGeom>
            <a:gradFill rotWithShape="0">
              <a:gsLst>
                <a:gs pos="0">
                  <a:srgbClr val="eeece1">
                    <a:alpha val="34117"/>
                  </a:srgbClr>
                </a:gs>
                <a:gs pos="100000">
                  <a:srgbClr val="efed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32360" y="4508640"/>
              <a:ext cx="316872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碳排放面源污染困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①</a:t>
              </a:r>
              <a:r>
                <a:rPr b="1" i="1" lang="zh-CN" sz="1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分布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②</a:t>
              </a:r>
              <a:r>
                <a:rPr b="1" i="1" lang="zh-CN" sz="1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总量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③</a:t>
              </a:r>
              <a:r>
                <a:rPr b="1" i="1" lang="zh-CN" sz="1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监管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3F8D-E059-4C21-B11B-9ED444358B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3.2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二级市场设计核心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交易对象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1917720"/>
            <a:ext cx="3527640" cy="359892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3598920"/>
              <a:gd name="textAreaBottom" fmla="*/ 3426840 h 3598920"/>
            </a:gdLst>
            <a:ahLst/>
            <a:rect l="textAreaLeft" t="textAreaTop" r="textAreaRight" b="textAreaBottom"/>
            <a:pathLst>
              <a:path w="21600" h="22036">
                <a:moveTo>
                  <a:pt x="3600" y="0"/>
                </a:moveTo>
                <a:arcTo wR="3600" hR="3600" stAng="16200000" swAng="-5400000"/>
                <a:lnTo>
                  <a:pt x="0" y="18436"/>
                </a:lnTo>
                <a:arcTo wR="3600" hR="3600" stAng="10800000" swAng="-5400000"/>
                <a:lnTo>
                  <a:pt x="18000" y="22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37080" y="1916280"/>
            <a:ext cx="3527640" cy="360036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3600360"/>
              <a:gd name="textAreaBottom" fmla="*/ 3428280 h 3600360"/>
            </a:gdLst>
            <a:ahLst/>
            <a:rect l="textAreaLeft" t="textAreaTop" r="textAreaRight" b="textAreaBottom"/>
            <a:pathLst>
              <a:path w="21600" h="22045">
                <a:moveTo>
                  <a:pt x="3600" y="0"/>
                </a:moveTo>
                <a:arcTo wR="3600" hR="3600" stAng="16200000" swAng="-5400000"/>
                <a:lnTo>
                  <a:pt x="0" y="18445"/>
                </a:lnTo>
                <a:arcTo wR="3600" hR="3600" stAng="10800000" swAng="-5400000"/>
                <a:lnTo>
                  <a:pt x="18000" y="22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9280" y="1916280"/>
            <a:ext cx="35276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ba3"/>
              </a:gs>
              <a:gs pos="100000">
                <a:srgbClr val="eeece1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37080" y="1916280"/>
            <a:ext cx="35276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ba3"/>
              </a:gs>
              <a:gs pos="100000">
                <a:srgbClr val="eeece1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51280" y="3645000"/>
            <a:ext cx="1512720" cy="50472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69696">
                  <a:alpha val="87058"/>
                </a:srgbClr>
              </a:gs>
              <a:gs pos="100000">
                <a:srgbClr val="8f8f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0836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决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2349360"/>
            <a:ext cx="251964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级市场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供需不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交际成本过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交易规则脆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820800" cy="952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2124000" y="4365720"/>
            <a:ext cx="820800" cy="952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8207280" y="587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24000" y="5300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企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4797360"/>
            <a:ext cx="504720" cy="216000"/>
          </a:xfrm>
          <a:prstGeom prst="leftRightArrow">
            <a:avLst>
              <a:gd name="adj1" fmla="val 50000"/>
              <a:gd name="adj2" fmla="val 465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2205000"/>
            <a:ext cx="2808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承认面源排放者的排放权利的产权所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二级市场引入交通排放、建筑排放等面源排放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允许面源排放者通过节能减排将排放权在二级市场交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5580000" y="5084640"/>
            <a:ext cx="820800" cy="9525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6948360" y="5013360"/>
            <a:ext cx="820800" cy="9525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8323200" y="5013360"/>
            <a:ext cx="820800" cy="9525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508720" y="5877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9640" y="5851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面源排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6920" y="5516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企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43640" y="5516640"/>
            <a:ext cx="504720" cy="216000"/>
          </a:xfrm>
          <a:prstGeom prst="leftRightArrow">
            <a:avLst>
              <a:gd name="adj1" fmla="val 50000"/>
              <a:gd name="adj2" fmla="val 465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812000" y="5516640"/>
            <a:ext cx="505080" cy="216000"/>
          </a:xfrm>
          <a:prstGeom prst="leftRightArrow">
            <a:avLst>
              <a:gd name="adj1" fmla="val 50000"/>
              <a:gd name="adj2" fmla="val 465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DBA3-277B-4A47-8CDD-18FB7A4F8C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3.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面源排放者在二级市场的理论论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型：双方叫价模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约束条件：公众和企业实现效用最大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型结果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、交易发生存在可能性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、当信息完全公开时，存在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p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</a:rPr>
              <a:t>s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=p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（公众出价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企业出价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、当公众边际减排成本小于企业边际减排成本时，交易成本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R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</a:rPr>
              <a:t>是阻止排放权转移的唯一因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8C02-AFB0-4A88-B5E9-797E007854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3.4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二级市场交易平台具体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933560" y="1916280"/>
            <a:ext cx="5533920" cy="4439520"/>
            <a:chOff x="1933560" y="1916280"/>
            <a:chExt cx="5533920" cy="4439520"/>
          </a:xfrm>
        </p:grpSpPr>
        <p:cxnSp>
          <p:nvCxnSpPr>
            <p:cNvPr id="332" name=""/>
            <p:cNvCxnSpPr>
              <a:stCxn id="333" idx="3"/>
              <a:endCxn id="334" idx="1"/>
            </p:cNvCxnSpPr>
            <p:nvPr/>
          </p:nvCxnSpPr>
          <p:spPr>
            <a:xfrm flipV="1">
              <a:off x="2319120" y="2023560"/>
              <a:ext cx="644040" cy="2040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5" name=""/>
            <p:cNvCxnSpPr>
              <a:stCxn id="333" idx="3"/>
              <a:endCxn id="336" idx="1"/>
            </p:cNvCxnSpPr>
            <p:nvPr/>
          </p:nvCxnSpPr>
          <p:spPr>
            <a:xfrm flipV="1">
              <a:off x="2319120" y="2453400"/>
              <a:ext cx="644040" cy="1611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7" name=""/>
            <p:cNvCxnSpPr>
              <a:stCxn id="333" idx="3"/>
              <a:endCxn id="338" idx="1"/>
            </p:cNvCxnSpPr>
            <p:nvPr/>
          </p:nvCxnSpPr>
          <p:spPr>
            <a:xfrm flipV="1">
              <a:off x="2319120" y="3598920"/>
              <a:ext cx="644040" cy="465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9" name=""/>
            <p:cNvCxnSpPr>
              <a:stCxn id="333" idx="3"/>
              <a:endCxn id="340" idx="1"/>
            </p:cNvCxnSpPr>
            <p:nvPr/>
          </p:nvCxnSpPr>
          <p:spPr>
            <a:xfrm>
              <a:off x="2319120" y="4064040"/>
              <a:ext cx="644040" cy="538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1" name=""/>
            <p:cNvCxnSpPr>
              <a:stCxn id="333" idx="3"/>
              <a:endCxn id="342" idx="1"/>
            </p:cNvCxnSpPr>
            <p:nvPr/>
          </p:nvCxnSpPr>
          <p:spPr>
            <a:xfrm>
              <a:off x="2319120" y="4064040"/>
              <a:ext cx="644040" cy="1611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36" idx="3"/>
              <a:endCxn id="344" idx="1"/>
            </p:cNvCxnSpPr>
            <p:nvPr/>
          </p:nvCxnSpPr>
          <p:spPr>
            <a:xfrm flipV="1">
              <a:off x="5022360" y="2023560"/>
              <a:ext cx="386640" cy="43020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6" idx="3"/>
              <a:endCxn id="346" idx="1"/>
            </p:cNvCxnSpPr>
            <p:nvPr/>
          </p:nvCxnSpPr>
          <p:spPr>
            <a:xfrm flipV="1">
              <a:off x="5022360" y="2309400"/>
              <a:ext cx="386640" cy="14436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7" name=""/>
            <p:cNvCxnSpPr>
              <a:stCxn id="336" idx="3"/>
              <a:endCxn id="348" idx="1"/>
            </p:cNvCxnSpPr>
            <p:nvPr/>
          </p:nvCxnSpPr>
          <p:spPr>
            <a:xfrm>
              <a:off x="5022360" y="2453760"/>
              <a:ext cx="386640" cy="14364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9" name=""/>
            <p:cNvCxnSpPr>
              <a:stCxn id="338" idx="3"/>
              <a:endCxn id="350" idx="1"/>
            </p:cNvCxnSpPr>
            <p:nvPr/>
          </p:nvCxnSpPr>
          <p:spPr>
            <a:xfrm flipV="1">
              <a:off x="5022360" y="3312360"/>
              <a:ext cx="386640" cy="28692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1" name=""/>
            <p:cNvCxnSpPr>
              <a:stCxn id="338" idx="3"/>
              <a:endCxn id="352" idx="1"/>
            </p:cNvCxnSpPr>
            <p:nvPr/>
          </p:nvCxnSpPr>
          <p:spPr>
            <a:xfrm>
              <a:off x="5022360" y="3599280"/>
              <a:ext cx="386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3" name=""/>
            <p:cNvCxnSpPr>
              <a:stCxn id="338" idx="3"/>
              <a:endCxn id="354" idx="1"/>
            </p:cNvCxnSpPr>
            <p:nvPr/>
          </p:nvCxnSpPr>
          <p:spPr>
            <a:xfrm>
              <a:off x="5022360" y="3599280"/>
              <a:ext cx="386640" cy="28692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5" name=""/>
            <p:cNvCxnSpPr>
              <a:stCxn id="340" idx="3"/>
              <a:endCxn id="356" idx="1"/>
            </p:cNvCxnSpPr>
            <p:nvPr/>
          </p:nvCxnSpPr>
          <p:spPr>
            <a:xfrm flipV="1">
              <a:off x="5022360" y="4314960"/>
              <a:ext cx="386640" cy="28692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7" name=""/>
            <p:cNvCxnSpPr>
              <a:stCxn id="340" idx="3"/>
              <a:endCxn id="358" idx="1"/>
            </p:cNvCxnSpPr>
            <p:nvPr/>
          </p:nvCxnSpPr>
          <p:spPr>
            <a:xfrm>
              <a:off x="5022360" y="4601880"/>
              <a:ext cx="386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9" name=""/>
            <p:cNvCxnSpPr>
              <a:stCxn id="340" idx="3"/>
              <a:endCxn id="360" idx="1"/>
            </p:cNvCxnSpPr>
            <p:nvPr/>
          </p:nvCxnSpPr>
          <p:spPr>
            <a:xfrm>
              <a:off x="5022360" y="4601880"/>
              <a:ext cx="386640" cy="28692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1" name=""/>
            <p:cNvCxnSpPr>
              <a:stCxn id="342" idx="3"/>
              <a:endCxn id="362" idx="1"/>
            </p:cNvCxnSpPr>
            <p:nvPr/>
          </p:nvCxnSpPr>
          <p:spPr>
            <a:xfrm flipV="1">
              <a:off x="5022360" y="5317560"/>
              <a:ext cx="386640" cy="35820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42" idx="3"/>
              <a:endCxn id="364" idx="1"/>
            </p:cNvCxnSpPr>
            <p:nvPr/>
          </p:nvCxnSpPr>
          <p:spPr>
            <a:xfrm flipV="1">
              <a:off x="5022360" y="5603760"/>
              <a:ext cx="386640" cy="7164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42" idx="3"/>
              <a:endCxn id="366" idx="1"/>
            </p:cNvCxnSpPr>
            <p:nvPr/>
          </p:nvCxnSpPr>
          <p:spPr>
            <a:xfrm>
              <a:off x="5022360" y="5675760"/>
              <a:ext cx="386640" cy="21600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67" name=""/>
            <p:cNvGrpSpPr/>
            <p:nvPr/>
          </p:nvGrpSpPr>
          <p:grpSpPr>
            <a:xfrm>
              <a:off x="1933560" y="1916280"/>
              <a:ext cx="5533920" cy="4082400"/>
              <a:chOff x="1933560" y="1916280"/>
              <a:chExt cx="5533920" cy="4082400"/>
            </a:xfrm>
          </p:grpSpPr>
          <p:sp>
            <p:nvSpPr>
              <p:cNvPr id="334" name=""/>
              <p:cNvSpPr/>
              <p:nvPr/>
            </p:nvSpPr>
            <p:spPr>
              <a:xfrm>
                <a:off x="2963160" y="1916280"/>
                <a:ext cx="2059200" cy="21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交易管理机构和职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63160" y="2345760"/>
                <a:ext cx="2059200" cy="21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碳汇项目协商系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63160" y="3491640"/>
                <a:ext cx="2059200" cy="21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碳汇项目交易系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63160" y="4493880"/>
                <a:ext cx="2059200" cy="21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碳汇项目交易监管系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63160" y="5568120"/>
                <a:ext cx="2059200" cy="21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碳汇项目交易保障系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33560" y="3491640"/>
                <a:ext cx="385920" cy="1145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 baseline="-25000">
                    <a:solidFill>
                      <a:srgbClr val="333399"/>
                    </a:solidFill>
                    <a:latin typeface="Times New Roman"/>
                  </a:rPr>
                  <a:t>碳汇项目交易</a:t>
                </a: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系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08280" y="1916280"/>
                <a:ext cx="2059200" cy="21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国际协商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08280" y="2202480"/>
                <a:ext cx="2059200" cy="21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项目减排总额确定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08280" y="248904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项目申报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408280" y="277524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项目审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08280" y="320508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项目交易模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08280" y="349164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项目交易程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08280" y="377784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项目交易计算机支持系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08280" y="420768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减排检测子系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08280" y="449388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减排跟踪子系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08280" y="478044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减排效果达标判断子系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08280" y="521028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交易主体行为规范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08280" y="549648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项目风险管理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08280" y="5783040"/>
                <a:ext cx="2059200" cy="21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333399"/>
                    </a:solidFill>
                    <a:latin typeface="Times New Roman"/>
                  </a:rPr>
                  <a:t>法律法规保障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5408280" y="6141240"/>
              <a:ext cx="2059200" cy="2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交易绩效评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"/>
            <p:cNvCxnSpPr>
              <a:stCxn id="342" idx="3"/>
              <a:endCxn id="369" idx="1"/>
            </p:cNvCxnSpPr>
            <p:nvPr/>
          </p:nvCxnSpPr>
          <p:spPr>
            <a:xfrm>
              <a:off x="5022360" y="5675400"/>
              <a:ext cx="386640" cy="57348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1" name=""/>
            <p:cNvCxnSpPr>
              <a:stCxn id="336" idx="3"/>
              <a:endCxn id="368" idx="1"/>
            </p:cNvCxnSpPr>
            <p:nvPr/>
          </p:nvCxnSpPr>
          <p:spPr>
            <a:xfrm>
              <a:off x="5022360" y="2453760"/>
              <a:ext cx="386640" cy="430200"/>
            </a:xfrm>
            <a:prstGeom prst="bentConnector3">
              <a:avLst>
                <a:gd name="adj1" fmla="val 4995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3917-C47B-499A-88BB-637562D969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交易流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327400" y="476280"/>
            <a:ext cx="5351400" cy="6165360"/>
            <a:chOff x="2327400" y="476280"/>
            <a:chExt cx="5351400" cy="6165360"/>
          </a:xfrm>
        </p:grpSpPr>
        <p:sp>
          <p:nvSpPr>
            <p:cNvPr id="375" name=""/>
            <p:cNvSpPr/>
            <p:nvPr/>
          </p:nvSpPr>
          <p:spPr>
            <a:xfrm>
              <a:off x="2652480" y="476280"/>
              <a:ext cx="1884600" cy="432360"/>
            </a:xfrm>
            <a:prstGeom prst="flowChartPrepa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A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组织提供项目资金技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45280" y="476280"/>
              <a:ext cx="1881720" cy="432360"/>
            </a:xfrm>
            <a:prstGeom prst="flowChartPrepa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B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组织承担碳汇项目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33520" y="2531520"/>
              <a:ext cx="1615320" cy="8650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项目存在可行性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44680" y="4694760"/>
              <a:ext cx="1615320" cy="8650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</a:rPr>
                <a:t>环境、社会效应评</a:t>
              </a: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8880" y="6100920"/>
              <a:ext cx="1749960" cy="54072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项目实施完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77440" y="909000"/>
              <a:ext cx="72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940640" y="1774440"/>
              <a:ext cx="144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2" name=""/>
            <p:cNvCxnSpPr>
              <a:stCxn id="377" idx="1"/>
              <a:endCxn id="375" idx="2"/>
            </p:cNvCxnSpPr>
            <p:nvPr/>
          </p:nvCxnSpPr>
          <p:spPr>
            <a:xfrm rot="10800000">
              <a:off x="3594240" y="908280"/>
              <a:ext cx="538920" cy="2055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83" name=""/>
            <p:cNvCxnSpPr>
              <a:stCxn id="377" idx="3"/>
              <a:endCxn id="376" idx="2"/>
            </p:cNvCxnSpPr>
            <p:nvPr/>
          </p:nvCxnSpPr>
          <p:spPr>
            <a:xfrm flipV="1">
              <a:off x="5748480" y="908640"/>
              <a:ext cx="537480" cy="2055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84" name=""/>
            <p:cNvCxnSpPr>
              <a:stCxn id="377" idx="2"/>
            </p:cNvCxnSpPr>
            <p:nvPr/>
          </p:nvCxnSpPr>
          <p:spPr>
            <a:xfrm>
              <a:off x="4941000" y="3396600"/>
              <a:ext cx="17640" cy="43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85" name=""/>
            <p:cNvCxnSpPr>
              <a:endCxn id="378" idx="0"/>
            </p:cNvCxnSpPr>
            <p:nvPr/>
          </p:nvCxnSpPr>
          <p:spPr>
            <a:xfrm flipH="1">
              <a:off x="4952160" y="4261680"/>
              <a:ext cx="6480" cy="43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86" name=""/>
            <p:cNvCxnSpPr>
              <a:stCxn id="378" idx="2"/>
              <a:endCxn id="379" idx="0"/>
            </p:cNvCxnSpPr>
            <p:nvPr/>
          </p:nvCxnSpPr>
          <p:spPr>
            <a:xfrm>
              <a:off x="4952160" y="5560200"/>
              <a:ext cx="11880" cy="54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87" name=""/>
            <p:cNvCxnSpPr>
              <a:stCxn id="378" idx="3"/>
            </p:cNvCxnSpPr>
            <p:nvPr/>
          </p:nvCxnSpPr>
          <p:spPr>
            <a:xfrm flipV="1">
              <a:off x="5760000" y="5103720"/>
              <a:ext cx="1245960" cy="2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88" name=""/>
            <p:cNvCxnSpPr/>
            <p:nvPr/>
          </p:nvCxnSpPr>
          <p:spPr>
            <a:xfrm rot="10800000">
              <a:off x="2539800" y="4964400"/>
              <a:ext cx="1548720" cy="1352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389" name=""/>
            <p:cNvCxnSpPr>
              <a:stCxn id="390" idx="0"/>
              <a:endCxn id="378" idx="1"/>
            </p:cNvCxnSpPr>
            <p:nvPr/>
          </p:nvCxnSpPr>
          <p:spPr>
            <a:xfrm flipH="1" flipV="1" rot="5400000">
              <a:off x="3628800" y="4935600"/>
              <a:ext cx="325080" cy="707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391" name=""/>
            <p:cNvSpPr/>
            <p:nvPr/>
          </p:nvSpPr>
          <p:spPr>
            <a:xfrm>
              <a:off x="3751920" y="2691720"/>
              <a:ext cx="538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3840" y="2681280"/>
              <a:ext cx="538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85200" y="3438720"/>
              <a:ext cx="538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31240" y="4890600"/>
              <a:ext cx="538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4985640" y="4694760"/>
              <a:ext cx="53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41360" y="5560200"/>
              <a:ext cx="53820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24560" y="4520160"/>
              <a:ext cx="942480" cy="324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再度审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94440" y="4447440"/>
              <a:ext cx="684360" cy="12207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项目调整或修改项目条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01400" y="5451840"/>
              <a:ext cx="672840" cy="6487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违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9" name=""/>
            <p:cNvCxnSpPr>
              <a:stCxn id="390" idx="4"/>
            </p:cNvCxnSpPr>
            <p:nvPr/>
          </p:nvCxnSpPr>
          <p:spPr>
            <a:xfrm>
              <a:off x="3437640" y="61009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0" name=""/>
            <p:cNvSpPr/>
            <p:nvPr/>
          </p:nvSpPr>
          <p:spPr>
            <a:xfrm>
              <a:off x="2327400" y="3881520"/>
              <a:ext cx="403560" cy="10814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强制实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78520" y="3829680"/>
              <a:ext cx="1480680" cy="432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</a:rPr>
                <a:t>批准项目；国际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</a:rPr>
                <a:t>CDM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</a:rPr>
                <a:t>注册；谈判签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11200" y="1450080"/>
              <a:ext cx="1682640" cy="324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99"/>
                  </a:solidFill>
                  <a:latin typeface="Times New Roman"/>
                </a:rPr>
                <a:t>当地环保部门核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03480" y="909000"/>
              <a:ext cx="72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6CFA-1FD5-4EAC-A194-7453F18482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研究方法和过程（碳排放交易系统仿真）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4. 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碳排放交易系统仿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6920" y="1773360"/>
            <a:ext cx="7540560" cy="4249080"/>
            <a:chOff x="826920" y="1773360"/>
            <a:chExt cx="7540560" cy="4249080"/>
          </a:xfrm>
        </p:grpSpPr>
        <p:sp>
          <p:nvSpPr>
            <p:cNvPr id="407" name="AutoShape 3"/>
            <p:cNvSpPr/>
            <p:nvPr/>
          </p:nvSpPr>
          <p:spPr>
            <a:xfrm>
              <a:off x="1833480" y="1932120"/>
              <a:ext cx="5326200" cy="1209600"/>
            </a:xfrm>
            <a:prstGeom prst="roundRect">
              <a:avLst>
                <a:gd name="adj" fmla="val 12727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4"/>
            <p:cNvSpPr/>
            <p:nvPr/>
          </p:nvSpPr>
          <p:spPr>
            <a:xfrm>
              <a:off x="2070000" y="2209680"/>
              <a:ext cx="50529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碳排放交易系统是一个构想中的系统，只能通过仿真方法对交易系统的有效性进行评估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5"/>
            <p:cNvGrpSpPr/>
            <p:nvPr/>
          </p:nvGrpSpPr>
          <p:grpSpPr>
            <a:xfrm>
              <a:off x="826920" y="1773360"/>
              <a:ext cx="1368360" cy="1510920"/>
              <a:chOff x="826920" y="1773360"/>
              <a:chExt cx="1368360" cy="1510920"/>
            </a:xfrm>
          </p:grpSpPr>
          <p:sp>
            <p:nvSpPr>
              <p:cNvPr id="410" name="Oval 6"/>
              <p:cNvSpPr/>
              <p:nvPr/>
            </p:nvSpPr>
            <p:spPr>
              <a:xfrm>
                <a:off x="826920" y="1773360"/>
                <a:ext cx="1368360" cy="151092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>
                <a:off x="883080" y="1835280"/>
                <a:ext cx="1254240" cy="1386720"/>
              </a:xfrm>
              <a:prstGeom prst="ellipse">
                <a:avLst/>
              </a:prstGeom>
              <a:noFill/>
              <a:ln w="38160">
                <a:solidFill>
                  <a:srgbClr val="4f81bd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8"/>
              <p:cNvSpPr/>
              <p:nvPr/>
            </p:nvSpPr>
            <p:spPr>
              <a:xfrm>
                <a:off x="938880" y="1901520"/>
                <a:ext cx="1142280" cy="1262160"/>
              </a:xfrm>
              <a:prstGeom prst="ellipse">
                <a:avLst/>
              </a:prstGeom>
              <a:noFill/>
              <a:ln w="38160">
                <a:solidFill>
                  <a:srgbClr val="4f81bd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Text Box 9"/>
            <p:cNvSpPr/>
            <p:nvPr/>
          </p:nvSpPr>
          <p:spPr>
            <a:xfrm>
              <a:off x="927000" y="2050920"/>
              <a:ext cx="1197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仿真原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2019240" y="3301920"/>
              <a:ext cx="5326200" cy="1209600"/>
            </a:xfrm>
            <a:prstGeom prst="roundRect">
              <a:avLst>
                <a:gd name="adj" fmla="val 12727"/>
              </a:avLst>
            </a:prstGeom>
            <a:gradFill rotWithShape="0">
              <a:gsLst>
                <a:gs pos="0">
                  <a:srgbClr val="582423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2023920" y="3565440"/>
              <a:ext cx="50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通过在两个边际减排成本不同产业间建立碳排放交易，对产业发展进行仿真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2"/>
            <p:cNvGrpSpPr/>
            <p:nvPr/>
          </p:nvGrpSpPr>
          <p:grpSpPr>
            <a:xfrm>
              <a:off x="6999120" y="3143160"/>
              <a:ext cx="1368360" cy="1510920"/>
              <a:chOff x="6999120" y="3143160"/>
              <a:chExt cx="1368360" cy="1510920"/>
            </a:xfrm>
          </p:grpSpPr>
          <p:sp>
            <p:nvSpPr>
              <p:cNvPr id="417" name="Oval 13"/>
              <p:cNvSpPr/>
              <p:nvPr/>
            </p:nvSpPr>
            <p:spPr>
              <a:xfrm>
                <a:off x="6999120" y="3143160"/>
                <a:ext cx="1368360" cy="151092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14"/>
              <p:cNvSpPr/>
              <p:nvPr/>
            </p:nvSpPr>
            <p:spPr>
              <a:xfrm>
                <a:off x="7055280" y="3205080"/>
                <a:ext cx="1254240" cy="1386720"/>
              </a:xfrm>
              <a:prstGeom prst="ellipse">
                <a:avLst/>
              </a:prstGeom>
              <a:noFill/>
              <a:ln w="38160">
                <a:solidFill>
                  <a:srgbClr val="c0504d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15"/>
              <p:cNvSpPr/>
              <p:nvPr/>
            </p:nvSpPr>
            <p:spPr>
              <a:xfrm>
                <a:off x="7111080" y="3271320"/>
                <a:ext cx="1142280" cy="1262160"/>
              </a:xfrm>
              <a:prstGeom prst="ellipse">
                <a:avLst/>
              </a:prstGeom>
              <a:noFill/>
              <a:ln w="38160">
                <a:solidFill>
                  <a:srgbClr val="c0504d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Text Box 16"/>
            <p:cNvSpPr/>
            <p:nvPr/>
          </p:nvSpPr>
          <p:spPr>
            <a:xfrm>
              <a:off x="7093080" y="3429000"/>
              <a:ext cx="1195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建模思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7"/>
            <p:cNvSpPr/>
            <p:nvPr/>
          </p:nvSpPr>
          <p:spPr>
            <a:xfrm>
              <a:off x="1833480" y="4670280"/>
              <a:ext cx="5326200" cy="1209960"/>
            </a:xfrm>
            <a:prstGeom prst="roundRect">
              <a:avLst>
                <a:gd name="adj" fmla="val 12727"/>
              </a:avLst>
            </a:prstGeom>
            <a:gradFill rotWithShape="0">
              <a:gsLst>
                <a:gs pos="0">
                  <a:srgbClr val="00007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8"/>
            <p:cNvSpPr/>
            <p:nvPr/>
          </p:nvSpPr>
          <p:spPr>
            <a:xfrm>
              <a:off x="2070000" y="4946760"/>
              <a:ext cx="505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1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、边际减排成本不同；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2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、交易成本忽略不计；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3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、理性人假设；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4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、存在总量控制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19"/>
            <p:cNvGrpSpPr/>
            <p:nvPr/>
          </p:nvGrpSpPr>
          <p:grpSpPr>
            <a:xfrm>
              <a:off x="826920" y="4511520"/>
              <a:ext cx="1368360" cy="1510920"/>
              <a:chOff x="826920" y="4511520"/>
              <a:chExt cx="1368360" cy="1510920"/>
            </a:xfrm>
          </p:grpSpPr>
          <p:sp>
            <p:nvSpPr>
              <p:cNvPr id="424" name="Oval 20"/>
              <p:cNvSpPr/>
              <p:nvPr/>
            </p:nvSpPr>
            <p:spPr>
              <a:xfrm>
                <a:off x="826920" y="4511520"/>
                <a:ext cx="1368360" cy="151092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1"/>
              <p:cNvSpPr/>
              <p:nvPr/>
            </p:nvSpPr>
            <p:spPr>
              <a:xfrm>
                <a:off x="883080" y="4573440"/>
                <a:ext cx="1254240" cy="1386720"/>
              </a:xfrm>
              <a:prstGeom prst="ellipse">
                <a:avLst/>
              </a:prstGeom>
              <a:noFill/>
              <a:ln w="38160">
                <a:solidFill>
                  <a:srgbClr val="0000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22"/>
              <p:cNvSpPr/>
              <p:nvPr/>
            </p:nvSpPr>
            <p:spPr>
              <a:xfrm>
                <a:off x="938880" y="4639680"/>
                <a:ext cx="1142280" cy="1262160"/>
              </a:xfrm>
              <a:prstGeom prst="ellipse">
                <a:avLst/>
              </a:prstGeom>
              <a:noFill/>
              <a:ln w="38160">
                <a:solidFill>
                  <a:srgbClr val="0000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Text Box 23"/>
            <p:cNvSpPr/>
            <p:nvPr/>
          </p:nvSpPr>
          <p:spPr>
            <a:xfrm>
              <a:off x="900000" y="4788000"/>
              <a:ext cx="1197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模型假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3AFC-9AFA-4168-871E-878E496627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4.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因果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7129440" cy="494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EB25-B0D4-4C3B-ABB0-5602691A4C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4.3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系统流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6769440" cy="505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BF3C-1485-40D3-844E-2B51C3D63B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选题背景及意义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1932120" y="1612800"/>
            <a:ext cx="1598040" cy="4111200"/>
            <a:chOff x="1932120" y="1612800"/>
            <a:chExt cx="1598040" cy="4111200"/>
          </a:xfrm>
        </p:grpSpPr>
        <p:sp>
          <p:nvSpPr>
            <p:cNvPr id="105" name="Freeform 5"/>
            <p:cNvSpPr/>
            <p:nvPr/>
          </p:nvSpPr>
          <p:spPr>
            <a:xfrm rot="16200000">
              <a:off x="1729080" y="4093200"/>
              <a:ext cx="1851480" cy="1409760"/>
            </a:xfrm>
            <a:custGeom>
              <a:avLst/>
              <a:gdLst>
                <a:gd name="textAreaLeft" fmla="*/ 0 w 1851480"/>
                <a:gd name="textAreaRight" fmla="*/ 1851840 w 185148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 rot="16200000">
              <a:off x="2552760" y="2874960"/>
              <a:ext cx="356760" cy="1598040"/>
            </a:xfrm>
            <a:custGeom>
              <a:avLst/>
              <a:gdLst>
                <a:gd name="textAreaLeft" fmla="*/ 0 w 356760"/>
                <a:gd name="textAreaRight" fmla="*/ 356760 w 356760"/>
                <a:gd name="textAreaTop" fmla="*/ 0 h 1598040"/>
                <a:gd name="textAreaBottom" fmla="*/ 1598400 h 159804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 flipH="1" rot="16200000">
              <a:off x="1729440" y="1833480"/>
              <a:ext cx="1851120" cy="1409760"/>
            </a:xfrm>
            <a:custGeom>
              <a:avLst/>
              <a:gdLst>
                <a:gd name="textAreaLeft" fmla="*/ 360 w 1851120"/>
                <a:gd name="textAreaRight" fmla="*/ 1851840 w 185112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Freeform 9"/>
          <p:cNvSpPr/>
          <p:nvPr/>
        </p:nvSpPr>
        <p:spPr>
          <a:xfrm flipH="1" rot="5400000">
            <a:off x="5267160" y="4091760"/>
            <a:ext cx="1851120" cy="1446120"/>
          </a:xfrm>
          <a:custGeom>
            <a:avLst/>
            <a:gdLst>
              <a:gd name="textAreaLeft" fmla="*/ 360 w 1851120"/>
              <a:gd name="textAreaRight" fmla="*/ 1851840 w 185112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0"/>
          <p:cNvSpPr/>
          <p:nvPr/>
        </p:nvSpPr>
        <p:spPr>
          <a:xfrm flipH="1" rot="5400000">
            <a:off x="5936400" y="2869560"/>
            <a:ext cx="357120" cy="1644480"/>
          </a:xfrm>
          <a:custGeom>
            <a:avLst/>
            <a:gdLst>
              <a:gd name="textAreaLeft" fmla="*/ 360 w 357120"/>
              <a:gd name="textAreaRight" fmla="*/ 357840 w 357120"/>
              <a:gd name="textAreaTop" fmla="*/ 0 h 1644480"/>
              <a:gd name="textAreaBottom" fmla="*/ 1644840 h 16444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1"/>
          <p:cNvSpPr/>
          <p:nvPr/>
        </p:nvSpPr>
        <p:spPr>
          <a:xfrm rot="5400000">
            <a:off x="5267520" y="1830960"/>
            <a:ext cx="1851120" cy="144612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2"/>
          <p:cNvGrpSpPr/>
          <p:nvPr/>
        </p:nvGrpSpPr>
        <p:grpSpPr>
          <a:xfrm>
            <a:off x="3578400" y="2825640"/>
            <a:ext cx="1659960" cy="1688760"/>
            <a:chOff x="3578400" y="2825640"/>
            <a:chExt cx="1659960" cy="1688760"/>
          </a:xfrm>
        </p:grpSpPr>
        <p:pic>
          <p:nvPicPr>
            <p:cNvPr id="112" name="Picture 13" descr="circuler_1"/>
            <p:cNvPicPr/>
            <p:nvPr/>
          </p:nvPicPr>
          <p:blipFill>
            <a:blip r:embed="rId1"/>
            <a:stretch/>
          </p:blipFill>
          <p:spPr>
            <a:xfrm>
              <a:off x="3582000" y="2828880"/>
              <a:ext cx="165636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Oval 14"/>
            <p:cNvGrpSpPr/>
            <p:nvPr/>
          </p:nvGrpSpPr>
          <p:grpSpPr>
            <a:xfrm>
              <a:off x="3578400" y="2825640"/>
              <a:ext cx="1654560" cy="1612800"/>
              <a:chOff x="3578400" y="2825640"/>
              <a:chExt cx="1654560" cy="1612800"/>
            </a:xfrm>
          </p:grpSpPr>
          <p:pic>
            <p:nvPicPr>
              <p:cNvPr id="114" name="Oval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578400" y="2825640"/>
                <a:ext cx="165456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823560" y="3063600"/>
                <a:ext cx="1163880" cy="113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3753000" y="2861640"/>
              <a:ext cx="1292400" cy="55620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16"/>
            <p:cNvGrpSpPr/>
            <p:nvPr/>
          </p:nvGrpSpPr>
          <p:grpSpPr>
            <a:xfrm>
              <a:off x="3699720" y="3935520"/>
              <a:ext cx="1451880" cy="578880"/>
              <a:chOff x="3699720" y="3935520"/>
              <a:chExt cx="1451880" cy="578880"/>
            </a:xfrm>
          </p:grpSpPr>
          <p:grpSp>
            <p:nvGrpSpPr>
              <p:cNvPr id="118" name="Group 17"/>
              <p:cNvGrpSpPr/>
              <p:nvPr/>
            </p:nvGrpSpPr>
            <p:grpSpPr>
              <a:xfrm>
                <a:off x="3953160" y="3935520"/>
                <a:ext cx="1198440" cy="543600"/>
                <a:chOff x="3953160" y="3935520"/>
                <a:chExt cx="1198440" cy="543600"/>
              </a:xfrm>
            </p:grpSpPr>
            <p:sp>
              <p:nvSpPr>
                <p:cNvPr id="119" name="AutoShape 18"/>
                <p:cNvSpPr/>
                <p:nvPr/>
              </p:nvSpPr>
              <p:spPr>
                <a:xfrm flipH="1" flipV="1" rot="3964800">
                  <a:off x="4606920" y="3771360"/>
                  <a:ext cx="20772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AutoShape 19"/>
                <p:cNvSpPr/>
                <p:nvPr/>
              </p:nvSpPr>
              <p:spPr>
                <a:xfrm flipH="1" flipV="1" rot="4780200">
                  <a:off x="4472640" y="3825000"/>
                  <a:ext cx="20772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20"/>
                <p:cNvSpPr/>
                <p:nvPr/>
              </p:nvSpPr>
              <p:spPr>
                <a:xfrm flipH="1" flipV="1" rot="5076000">
                  <a:off x="4389840" y="3836160"/>
                  <a:ext cx="207720" cy="87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utoShape 21"/>
                <p:cNvSpPr/>
                <p:nvPr/>
              </p:nvSpPr>
              <p:spPr>
                <a:xfrm flipH="1" flipV="1" rot="5608200">
                  <a:off x="4290120" y="3845880"/>
                  <a:ext cx="20772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22"/>
              <p:cNvGrpSpPr/>
              <p:nvPr/>
            </p:nvGrpSpPr>
            <p:grpSpPr>
              <a:xfrm>
                <a:off x="3699720" y="3944880"/>
                <a:ext cx="1197360" cy="569520"/>
                <a:chOff x="3699720" y="3944880"/>
                <a:chExt cx="1197360" cy="569520"/>
              </a:xfrm>
            </p:grpSpPr>
            <p:sp>
              <p:nvSpPr>
                <p:cNvPr id="124" name="AutoShape 23"/>
                <p:cNvSpPr/>
                <p:nvPr/>
              </p:nvSpPr>
              <p:spPr>
                <a:xfrm flipH="1" flipV="1" rot="5317800">
                  <a:off x="4354200" y="3846600"/>
                  <a:ext cx="208800" cy="87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24"/>
                <p:cNvSpPr/>
                <p:nvPr/>
              </p:nvSpPr>
              <p:spPr>
                <a:xfrm flipH="1" flipV="1" rot="6133800">
                  <a:off x="4209120" y="3844440"/>
                  <a:ext cx="208800" cy="87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25"/>
                <p:cNvSpPr/>
                <p:nvPr/>
              </p:nvSpPr>
              <p:spPr>
                <a:xfrm flipH="1" flipV="1" rot="6429000">
                  <a:off x="4128120" y="3823200"/>
                  <a:ext cx="208800" cy="87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26"/>
                <p:cNvSpPr/>
                <p:nvPr/>
              </p:nvSpPr>
              <p:spPr>
                <a:xfrm flipH="1" flipV="1" rot="6961200">
                  <a:off x="4032360" y="3793680"/>
                  <a:ext cx="208800" cy="87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8" name="Group 27"/>
          <p:cNvGrpSpPr/>
          <p:nvPr/>
        </p:nvGrpSpPr>
        <p:grpSpPr>
          <a:xfrm>
            <a:off x="755640" y="1484280"/>
            <a:ext cx="1361520" cy="1321560"/>
            <a:chOff x="755640" y="1484280"/>
            <a:chExt cx="1361520" cy="1321560"/>
          </a:xfrm>
        </p:grpSpPr>
        <p:sp>
          <p:nvSpPr>
            <p:cNvPr id="129" name="AutoShape 28"/>
            <p:cNvSpPr/>
            <p:nvPr/>
          </p:nvSpPr>
          <p:spPr>
            <a:xfrm>
              <a:off x="755640" y="1484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477c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9"/>
            <p:cNvSpPr/>
            <p:nvPr/>
          </p:nvSpPr>
          <p:spPr>
            <a:xfrm>
              <a:off x="841320" y="1569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5d9e6"/>
                </a:gs>
                <a:gs pos="50000">
                  <a:srgbClr val="4f81bd">
                    <a:alpha val="0"/>
                  </a:srgbClr>
                </a:gs>
                <a:gs pos="100000">
                  <a:srgbClr val="b5d9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755640" y="2997360"/>
            <a:ext cx="1361520" cy="1321560"/>
            <a:chOff x="755640" y="2997360"/>
            <a:chExt cx="1361520" cy="1321560"/>
          </a:xfrm>
        </p:grpSpPr>
        <p:sp>
          <p:nvSpPr>
            <p:cNvPr id="132" name="AutoShape 31"/>
            <p:cNvSpPr/>
            <p:nvPr/>
          </p:nvSpPr>
          <p:spPr>
            <a:xfrm>
              <a:off x="755640" y="299736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0504d"/>
                </a:gs>
                <a:gs pos="100000">
                  <a:srgbClr val="8c3b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2"/>
            <p:cNvSpPr/>
            <p:nvPr/>
          </p:nvSpPr>
          <p:spPr>
            <a:xfrm>
              <a:off x="841320" y="308304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4ac8d"/>
                </a:gs>
                <a:gs pos="50000">
                  <a:srgbClr val="c0504d">
                    <a:alpha val="0"/>
                  </a:srgbClr>
                </a:gs>
                <a:gs pos="100000">
                  <a:srgbClr val="e4ac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792000" y="4508640"/>
            <a:ext cx="1361520" cy="1321560"/>
            <a:chOff x="792000" y="4508640"/>
            <a:chExt cx="1361520" cy="1321560"/>
          </a:xfrm>
        </p:grpSpPr>
        <p:sp>
          <p:nvSpPr>
            <p:cNvPr id="135" name="AutoShape 34"/>
            <p:cNvSpPr/>
            <p:nvPr/>
          </p:nvSpPr>
          <p:spPr>
            <a:xfrm>
              <a:off x="792000" y="45086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5767a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5"/>
            <p:cNvSpPr/>
            <p:nvPr/>
          </p:nvSpPr>
          <p:spPr>
            <a:xfrm>
              <a:off x="877680" y="459432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bfb"/>
                </a:gs>
                <a:gs pos="50000">
                  <a:srgbClr val="800080">
                    <a:alpha val="0"/>
                  </a:srgbClr>
                </a:gs>
                <a:gs pos="100000">
                  <a:srgbClr val="c0cb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36"/>
          <p:cNvGrpSpPr/>
          <p:nvPr/>
        </p:nvGrpSpPr>
        <p:grpSpPr>
          <a:xfrm>
            <a:off x="6759720" y="1484280"/>
            <a:ext cx="1361160" cy="1321560"/>
            <a:chOff x="6759720" y="1484280"/>
            <a:chExt cx="1361160" cy="1321560"/>
          </a:xfrm>
        </p:grpSpPr>
        <p:sp>
          <p:nvSpPr>
            <p:cNvPr id="138" name="AutoShape 37"/>
            <p:cNvSpPr/>
            <p:nvPr/>
          </p:nvSpPr>
          <p:spPr>
            <a:xfrm>
              <a:off x="6759720" y="1484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477c8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8"/>
            <p:cNvSpPr/>
            <p:nvPr/>
          </p:nvSpPr>
          <p:spPr>
            <a:xfrm>
              <a:off x="6845400" y="15699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5d9e6"/>
                </a:gs>
                <a:gs pos="50000">
                  <a:srgbClr val="4f81bd">
                    <a:alpha val="0"/>
                  </a:srgbClr>
                </a:gs>
                <a:gs pos="100000">
                  <a:srgbClr val="b5d9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9"/>
          <p:cNvGrpSpPr/>
          <p:nvPr/>
        </p:nvGrpSpPr>
        <p:grpSpPr>
          <a:xfrm>
            <a:off x="6781680" y="2986200"/>
            <a:ext cx="1361520" cy="1321560"/>
            <a:chOff x="6781680" y="2986200"/>
            <a:chExt cx="1361520" cy="1321560"/>
          </a:xfrm>
        </p:grpSpPr>
        <p:sp>
          <p:nvSpPr>
            <p:cNvPr id="141" name="AutoShape 40"/>
            <p:cNvSpPr/>
            <p:nvPr/>
          </p:nvSpPr>
          <p:spPr>
            <a:xfrm>
              <a:off x="6781680" y="2986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0504d"/>
                </a:gs>
                <a:gs pos="100000">
                  <a:srgbClr val="8c3b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1"/>
            <p:cNvSpPr/>
            <p:nvPr/>
          </p:nvSpPr>
          <p:spPr>
            <a:xfrm>
              <a:off x="6867360" y="30718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4ac8d"/>
                </a:gs>
                <a:gs pos="50000">
                  <a:srgbClr val="c0504d">
                    <a:alpha val="0"/>
                  </a:srgbClr>
                </a:gs>
                <a:gs pos="100000">
                  <a:srgbClr val="e4ac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42"/>
          <p:cNvGrpSpPr/>
          <p:nvPr/>
        </p:nvGrpSpPr>
        <p:grpSpPr>
          <a:xfrm>
            <a:off x="6796080" y="4508640"/>
            <a:ext cx="1361520" cy="1321560"/>
            <a:chOff x="6796080" y="4508640"/>
            <a:chExt cx="1361520" cy="1321560"/>
          </a:xfrm>
        </p:grpSpPr>
        <p:sp>
          <p:nvSpPr>
            <p:cNvPr id="144" name="AutoShape 43"/>
            <p:cNvSpPr/>
            <p:nvPr/>
          </p:nvSpPr>
          <p:spPr>
            <a:xfrm>
              <a:off x="6796080" y="45086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5767a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4"/>
            <p:cNvSpPr/>
            <p:nvPr/>
          </p:nvSpPr>
          <p:spPr>
            <a:xfrm>
              <a:off x="6881760" y="459432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bfb"/>
                </a:gs>
                <a:gs pos="50000">
                  <a:srgbClr val="800080">
                    <a:alpha val="0"/>
                  </a:srgbClr>
                </a:gs>
                <a:gs pos="100000">
                  <a:srgbClr val="c0cb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45"/>
          <p:cNvSpPr/>
          <p:nvPr/>
        </p:nvSpPr>
        <p:spPr>
          <a:xfrm>
            <a:off x="826920" y="155736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Arial"/>
                <a:ea typeface="Arial"/>
              </a:rPr>
              <a:t>气候灾难频发，节能减排成为全球热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755640" y="321300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Arial"/>
                <a:ea typeface="Arial"/>
              </a:rPr>
              <a:t>公共资源交易理论进入新时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826920" y="4581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Arial"/>
                <a:ea typeface="Arial"/>
              </a:rPr>
              <a:t>国家、地方政府大力推动碳排放权交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804000" y="1628640"/>
            <a:ext cx="12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Arial"/>
                <a:ea typeface="Arial"/>
              </a:rPr>
              <a:t>发挥市场机制在节能减排战略中的作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6804000" y="325116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Arial"/>
                <a:ea typeface="Arial"/>
              </a:rPr>
              <a:t>碳排放权的公共资源定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0"/>
          <p:cNvSpPr/>
          <p:nvPr/>
        </p:nvSpPr>
        <p:spPr>
          <a:xfrm>
            <a:off x="6804000" y="4724280"/>
            <a:ext cx="12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Arial"/>
                <a:ea typeface="Arial"/>
              </a:rPr>
              <a:t>为碳排放权交易市场建立提供参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2"/>
          <p:cNvSpPr/>
          <p:nvPr/>
        </p:nvSpPr>
        <p:spPr>
          <a:xfrm>
            <a:off x="3610080" y="3267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80808"/>
                </a:solidFill>
                <a:latin typeface="Arial Black"/>
                <a:ea typeface="楷体_GB2312"/>
              </a:rPr>
              <a:t>碳排放交易系统研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429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42861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2"/>
          <p:cNvGrpSpPr/>
          <p:nvPr/>
        </p:nvGrpSpPr>
        <p:grpSpPr>
          <a:xfrm>
            <a:off x="3780000" y="5130720"/>
            <a:ext cx="1361160" cy="1321920"/>
            <a:chOff x="3780000" y="5130720"/>
            <a:chExt cx="1361160" cy="1321920"/>
          </a:xfrm>
        </p:grpSpPr>
        <p:sp>
          <p:nvSpPr>
            <p:cNvPr id="156" name="AutoShape 43"/>
            <p:cNvSpPr/>
            <p:nvPr/>
          </p:nvSpPr>
          <p:spPr>
            <a:xfrm>
              <a:off x="3780000" y="51307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b8300"/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4"/>
            <p:cNvSpPr/>
            <p:nvPr/>
          </p:nvSpPr>
          <p:spPr>
            <a:xfrm>
              <a:off x="3865680" y="521640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b8300"/>
                </a:gs>
                <a:gs pos="100000">
                  <a:srgbClr val="ff99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10"/>
          <p:cNvSpPr/>
          <p:nvPr/>
        </p:nvSpPr>
        <p:spPr>
          <a:xfrm flipH="1">
            <a:off x="4286160" y="4365720"/>
            <a:ext cx="357120" cy="717480"/>
          </a:xfrm>
          <a:custGeom>
            <a:avLst/>
            <a:gdLst>
              <a:gd name="textAreaLeft" fmla="*/ 360 w 357120"/>
              <a:gd name="textAreaRight" fmla="*/ 357840 w 35712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47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研究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0"/>
          <p:cNvSpPr/>
          <p:nvPr/>
        </p:nvSpPr>
        <p:spPr>
          <a:xfrm>
            <a:off x="3851280" y="5138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Arial"/>
                <a:ea typeface="Arial"/>
              </a:rPr>
              <a:t>分析、设计碳排放交易系统模型，对系统有效性进行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C727-6FAB-413B-9EEF-A2DCB3A10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4.4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变量说明和主要方程（略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4.5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仿真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684360" y="1844640"/>
          <a:ext cx="7632720" cy="41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844640"/>
                    <a:ext cx="763272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2411280" y="5769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锡热电、化工产业工业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GDP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总和仿真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2689-D6E5-43A6-A93B-D7FA3CAD33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、论文总结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一章：国内外研究现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二章：碳排放交易系统的理论基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三章：碳排放交易系统分析（背景分析；构成要素；市场结构；交易物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四章：一级市场设计：（交易方式设计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五章：二级市场设计：（交易对象设计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六章：系统仿真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论：排放权交易能促进产业发展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七章：实证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八章：结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8F55-EC33-44AE-A34F-D14EAB5812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6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研究创新点与不足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1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创新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①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用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B-S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模型对无锡市碳排放权期权价格进行估价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  ②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提出在二级市场引入面源排放的观点，并加以证明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  ③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构造碳排放交易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SD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仿真模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.2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研究不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①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系统动力学模型过于简单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  ②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系统设计到系统仿真之间缺少过渡，显得突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  ③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缺少对具体交易流程、步骤的详细设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7491-DB4C-42D7-83D3-2888FE6C29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2843280" y="2349360"/>
            <a:ext cx="3672000" cy="161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8D2-CDE2-4B39-839B-E77F4DE8C603}" type="slidenum">
              <a:t>23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autoRev="1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" dur="1000" autoRev="1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1000" autoRev="1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国内外研究现状述评研究框架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碳排放权交易研究综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2280" y="1844640"/>
            <a:ext cx="2016000" cy="64764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3573360"/>
            <a:ext cx="187164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5373720"/>
            <a:ext cx="1871640" cy="64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3" idx="2"/>
            <a:endCxn id="164" idx="0"/>
          </p:cNvCxnSpPr>
          <p:nvPr/>
        </p:nvCxnSpPr>
        <p:spPr>
          <a:xfrm flipH="1">
            <a:off x="1692000" y="2491920"/>
            <a:ext cx="8640" cy="108180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cxnSp>
        <p:nvCxnSpPr>
          <p:cNvPr id="167" name=""/>
          <p:cNvCxnSpPr/>
          <p:nvPr/>
        </p:nvCxnSpPr>
        <p:spPr>
          <a:xfrm>
            <a:off x="1692000" y="4292280"/>
            <a:ext cx="1080" cy="1081800"/>
          </a:xfrm>
          <a:prstGeom prst="straightConnector1">
            <a:avLst/>
          </a:prstGeom>
          <a:ln w="38160">
            <a:solidFill>
              <a:srgbClr val="80808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1692360" y="2997360"/>
            <a:ext cx="6335640" cy="0"/>
          </a:xfrm>
          <a:prstGeom prst="line">
            <a:avLst/>
          </a:prstGeom>
          <a:ln w="34920">
            <a:solidFill>
              <a:srgbClr val="80808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4869000"/>
            <a:ext cx="6335640" cy="0"/>
          </a:xfrm>
          <a:prstGeom prst="line">
            <a:avLst/>
          </a:prstGeom>
          <a:ln w="34920">
            <a:solidFill>
              <a:srgbClr val="80808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989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泛公共资源交易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排污权交易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551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碳排放权交易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1484280"/>
            <a:ext cx="446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公共资源概念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利维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庇古税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庇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萨廖尔森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共资源定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埃莉诺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·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奥斯特罗姆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共资源自主治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87640" y="3213000"/>
            <a:ext cx="4608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马中、吴健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排污权交易对宏观经济的影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肖江文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排污博弈模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李寿德、排污权交易的法制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赵文汇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初始分配优化模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5013360"/>
            <a:ext cx="4464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于天飞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碳排放交易的市场研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陈文颖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碳排放交易与分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相关网站：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wernext;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碳汇网；气候变化信     息网；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Wac</a:t>
            </a:r>
            <a:r>
              <a:rPr b="0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A91B-1221-4B45-BE32-733D04FF1A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3848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2.2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碳排放权交易研究现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103560" y="172728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1846440" y="261000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3083040" y="1587600"/>
            <a:ext cx="2496960" cy="1985760"/>
            <a:chOff x="3083040" y="1587600"/>
            <a:chExt cx="2496960" cy="1985760"/>
          </a:xfrm>
        </p:grpSpPr>
        <p:sp>
          <p:nvSpPr>
            <p:cNvPr id="182" name="AutoShape 11"/>
            <p:cNvSpPr/>
            <p:nvPr/>
          </p:nvSpPr>
          <p:spPr>
            <a:xfrm>
              <a:off x="3083040" y="1587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2f525e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>
              <a:off x="3083040" y="2581200"/>
              <a:ext cx="124920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3"/>
          <p:cNvGrpSpPr/>
          <p:nvPr/>
        </p:nvGrpSpPr>
        <p:grpSpPr>
          <a:xfrm>
            <a:off x="1835280" y="2421000"/>
            <a:ext cx="2496960" cy="1985760"/>
            <a:chOff x="1835280" y="2421000"/>
            <a:chExt cx="2496960" cy="1985760"/>
          </a:xfrm>
        </p:grpSpPr>
        <p:sp>
          <p:nvSpPr>
            <p:cNvPr id="185" name="AutoShape 14"/>
            <p:cNvSpPr/>
            <p:nvPr/>
          </p:nvSpPr>
          <p:spPr>
            <a:xfrm>
              <a:off x="1835280" y="24210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5d2709"/>
                </a:gs>
                <a:gs pos="100000">
                  <a:srgbClr val="c050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1839960" y="3409560"/>
              <a:ext cx="12495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6"/>
          <p:cNvGrpSpPr/>
          <p:nvPr/>
        </p:nvGrpSpPr>
        <p:grpSpPr>
          <a:xfrm>
            <a:off x="4657680" y="2417760"/>
            <a:ext cx="2497320" cy="1986120"/>
            <a:chOff x="4657680" y="2417760"/>
            <a:chExt cx="2497320" cy="1986120"/>
          </a:xfrm>
        </p:grpSpPr>
        <p:sp>
          <p:nvSpPr>
            <p:cNvPr id="188" name="AutoShape 17"/>
            <p:cNvSpPr/>
            <p:nvPr/>
          </p:nvSpPr>
          <p:spPr>
            <a:xfrm>
              <a:off x="4657680" y="241776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4d5c00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3419640" y="24210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初始分配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143080" y="32180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市场势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859280" y="32130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市场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3203640" y="342900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3203640" y="3284640"/>
            <a:ext cx="2496960" cy="1985760"/>
            <a:chOff x="3203640" y="3284640"/>
            <a:chExt cx="2496960" cy="1985760"/>
          </a:xfrm>
        </p:grpSpPr>
        <p:sp>
          <p:nvSpPr>
            <p:cNvPr id="195" name="AutoShape 17"/>
            <p:cNvSpPr/>
            <p:nvPr/>
          </p:nvSpPr>
          <p:spPr>
            <a:xfrm>
              <a:off x="3203640" y="3284640"/>
              <a:ext cx="2496960" cy="1985760"/>
            </a:xfrm>
            <a:prstGeom prst="diamond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3214440" y="4275000"/>
              <a:ext cx="124884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21"/>
          <p:cNvSpPr/>
          <p:nvPr/>
        </p:nvSpPr>
        <p:spPr>
          <a:xfrm>
            <a:off x="3564000" y="407664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其他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1052640"/>
            <a:ext cx="2881440" cy="1152360"/>
          </a:xfrm>
          <a:prstGeom prst="wedgeEllipseCallout">
            <a:avLst>
              <a:gd name="adj1" fmla="val -44050"/>
              <a:gd name="adj2" fmla="val 69972"/>
            </a:avLst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配原则：</a:t>
            </a: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口；历史责任；现行排放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配方式：</a:t>
            </a: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免费发放；定价出售；拍卖出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1197000"/>
            <a:ext cx="22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4000" y="2276640"/>
            <a:ext cx="2233440" cy="936360"/>
            <a:chOff x="324000" y="2276640"/>
            <a:chExt cx="2233440" cy="936360"/>
          </a:xfrm>
        </p:grpSpPr>
        <p:sp>
          <p:nvSpPr>
            <p:cNvPr id="201" name=""/>
            <p:cNvSpPr/>
            <p:nvPr/>
          </p:nvSpPr>
          <p:spPr>
            <a:xfrm>
              <a:off x="324000" y="2276640"/>
              <a:ext cx="2233440" cy="936360"/>
            </a:xfrm>
            <a:prstGeom prst="wedgeEllipseCallout">
              <a:avLst>
                <a:gd name="adj1" fmla="val 48009"/>
                <a:gd name="adj2" fmla="val 56611"/>
              </a:avLst>
            </a:prstGeom>
            <a:solidFill>
              <a:srgbClr val="c0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5640" y="242100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垄断势力的影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71640" y="4724280"/>
            <a:ext cx="2952720" cy="1368720"/>
            <a:chOff x="971640" y="4724280"/>
            <a:chExt cx="2952720" cy="1368720"/>
          </a:xfrm>
        </p:grpSpPr>
        <p:sp>
          <p:nvSpPr>
            <p:cNvPr id="204" name=""/>
            <p:cNvSpPr/>
            <p:nvPr/>
          </p:nvSpPr>
          <p:spPr>
            <a:xfrm>
              <a:off x="971640" y="4724280"/>
              <a:ext cx="2952720" cy="1368720"/>
            </a:xfrm>
            <a:prstGeom prst="wedgeEllipseCallout">
              <a:avLst>
                <a:gd name="adj1" fmla="val 65055"/>
                <a:gd name="adj2" fmla="val -70763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76360" y="5013360"/>
              <a:ext cx="201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交易成本；交易市场构成要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262560" y="4149720"/>
            <a:ext cx="3133800" cy="1152360"/>
            <a:chOff x="6262560" y="4149720"/>
            <a:chExt cx="3133800" cy="1152360"/>
          </a:xfrm>
        </p:grpSpPr>
        <p:sp>
          <p:nvSpPr>
            <p:cNvPr id="207" name=""/>
            <p:cNvSpPr/>
            <p:nvPr/>
          </p:nvSpPr>
          <p:spPr>
            <a:xfrm>
              <a:off x="6262560" y="4149720"/>
              <a:ext cx="2881440" cy="1152360"/>
            </a:xfrm>
            <a:prstGeom prst="wedgeEllipseCallout">
              <a:avLst>
                <a:gd name="adj1" fmla="val -55287"/>
                <a:gd name="adj2" fmla="val -81680"/>
              </a:avLst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1080" y="4149720"/>
              <a:ext cx="273528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马中：宏观角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戴星翼：现实困难角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李寿德：法制建设角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9BFD-8E7B-488D-8667-187D04CEFA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3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论文结构及研究方法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论文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916280"/>
            <a:ext cx="1440000" cy="1657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8" y="0"/>
                </a:lnTo>
                <a:lnTo>
                  <a:pt x="21600" y="10800"/>
                </a:lnTo>
                <a:lnTo>
                  <a:pt x="16238" y="21600"/>
                </a:lnTo>
                <a:lnTo>
                  <a:pt x="0" y="21600"/>
                </a:lnTo>
                <a:lnTo>
                  <a:pt x="5362" y="10800"/>
                </a:lnTo>
                <a:close/>
              </a:path>
            </a:pathLst>
          </a:cu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理论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4160" y="1916280"/>
            <a:ext cx="1440000" cy="1657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8" y="0"/>
                </a:lnTo>
                <a:lnTo>
                  <a:pt x="21600" y="10800"/>
                </a:lnTo>
                <a:lnTo>
                  <a:pt x="16238" y="21600"/>
                </a:lnTo>
                <a:lnTo>
                  <a:pt x="0" y="21600"/>
                </a:lnTo>
                <a:lnTo>
                  <a:pt x="5362" y="10800"/>
                </a:lnTo>
                <a:close/>
              </a:path>
            </a:pathLst>
          </a:custGeom>
          <a:solidFill>
            <a:srgbClr val="33cc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系统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1916280"/>
            <a:ext cx="1440000" cy="1657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8" y="0"/>
                </a:lnTo>
                <a:lnTo>
                  <a:pt x="21600" y="10800"/>
                </a:lnTo>
                <a:lnTo>
                  <a:pt x="16238" y="21600"/>
                </a:lnTo>
                <a:lnTo>
                  <a:pt x="0" y="21600"/>
                </a:lnTo>
                <a:lnTo>
                  <a:pt x="5362" y="10800"/>
                </a:lnTo>
                <a:close/>
              </a:path>
            </a:pathLst>
          </a:custGeom>
          <a:solidFill>
            <a:srgbClr val="3366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级市场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7800" y="1916280"/>
            <a:ext cx="1439640" cy="1657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8" y="0"/>
                </a:lnTo>
                <a:lnTo>
                  <a:pt x="21600" y="10800"/>
                </a:lnTo>
                <a:lnTo>
                  <a:pt x="16238" y="21600"/>
                </a:lnTo>
                <a:lnTo>
                  <a:pt x="0" y="21600"/>
                </a:lnTo>
                <a:lnTo>
                  <a:pt x="5362" y="10800"/>
                </a:lnTo>
                <a:close/>
              </a:path>
            </a:pathLst>
          </a:custGeom>
          <a:solidFill>
            <a:srgbClr val="8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级市场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10160" y="1916280"/>
            <a:ext cx="1440000" cy="1657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8" y="0"/>
                </a:lnTo>
                <a:lnTo>
                  <a:pt x="21600" y="10800"/>
                </a:lnTo>
                <a:lnTo>
                  <a:pt x="16238" y="21600"/>
                </a:lnTo>
                <a:lnTo>
                  <a:pt x="0" y="21600"/>
                </a:lnTo>
                <a:lnTo>
                  <a:pt x="5362" y="10800"/>
                </a:lnTo>
                <a:close/>
              </a:path>
            </a:pathLst>
          </a:custGeom>
          <a:solidFill>
            <a:srgbClr val="96969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系统仿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61080" y="1916280"/>
            <a:ext cx="1440000" cy="1657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8" y="0"/>
                </a:lnTo>
                <a:lnTo>
                  <a:pt x="21600" y="10800"/>
                </a:lnTo>
                <a:lnTo>
                  <a:pt x="16238" y="21600"/>
                </a:lnTo>
                <a:lnTo>
                  <a:pt x="0" y="21600"/>
                </a:lnTo>
                <a:lnTo>
                  <a:pt x="5362" y="10800"/>
                </a:lnTo>
                <a:close/>
              </a:path>
            </a:pathLst>
          </a:custGeom>
          <a:solidFill>
            <a:srgbClr val="ff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证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916280"/>
            <a:ext cx="540000" cy="1730160"/>
          </a:xfrm>
          <a:custGeom>
            <a:avLst/>
            <a:gdLst>
              <a:gd name="textAreaLeft" fmla="*/ 26280 w 540000"/>
              <a:gd name="textAreaRight" fmla="*/ 513720 w 540000"/>
              <a:gd name="textAreaTop" fmla="*/ 26280 h 1730160"/>
              <a:gd name="textAreaBottom" fmla="*/ 1703880 h 1730160"/>
            </a:gdLst>
            <a:ahLst/>
            <a:rect l="textAreaLeft" t="textAreaTop" r="textAreaRight" b="textAreaBottom"/>
            <a:pathLst>
              <a:path w="21600" h="69175">
                <a:moveTo>
                  <a:pt x="3600" y="0"/>
                </a:moveTo>
                <a:arcTo wR="3600" hR="3600" stAng="16200000" swAng="-5400000"/>
                <a:lnTo>
                  <a:pt x="0" y="65575"/>
                </a:lnTo>
                <a:arcTo wR="3600" hR="3600" stAng="10800000" swAng="-5400000"/>
                <a:lnTo>
                  <a:pt x="18000" y="69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>
                  <a:alpha val="7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序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44000" y="1916280"/>
            <a:ext cx="539640" cy="172872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1728720"/>
              <a:gd name="textAreaBottom" fmla="*/ 1702440 h 1728720"/>
            </a:gdLst>
            <a:ahLst/>
            <a:rect l="textAreaLeft" t="textAreaTop" r="textAreaRight" b="textAreaBottom"/>
            <a:pathLst>
              <a:path w="21600" h="69163">
                <a:moveTo>
                  <a:pt x="3600" y="0"/>
                </a:moveTo>
                <a:arcTo wR="3600" hR="3600" stAng="16200000" swAng="-5400000"/>
                <a:lnTo>
                  <a:pt x="0" y="65563"/>
                </a:lnTo>
                <a:arcTo wR="3600" hR="3600" stAng="10800000" swAng="-5400000"/>
                <a:lnTo>
                  <a:pt x="18000" y="69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>
                  <a:alpha val="7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结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0" y="41241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3.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研究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50920" y="5013360"/>
            <a:ext cx="8748720" cy="619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14200" y="5013360"/>
            <a:ext cx="2053800" cy="618840"/>
            <a:chOff x="214200" y="5013360"/>
            <a:chExt cx="2053800" cy="618840"/>
          </a:xfrm>
        </p:grpSpPr>
        <p:sp>
          <p:nvSpPr>
            <p:cNvPr id="222" name="Rectangle 5"/>
            <p:cNvSpPr/>
            <p:nvPr/>
          </p:nvSpPr>
          <p:spPr>
            <a:xfrm>
              <a:off x="214200" y="5013360"/>
              <a:ext cx="1912680" cy="61884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 rot="5400000">
              <a:off x="2028240" y="523260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2124000" y="501336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ystem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85840" y="5084640"/>
            <a:ext cx="18367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ystem planning and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3564000" y="518004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886200" y="5145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5499000" y="518004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5013360"/>
            <a:ext cx="3276720" cy="647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5796000" y="5013360"/>
            <a:ext cx="356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ystem Implementation  and oper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ystem simulation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71640" y="3645000"/>
            <a:ext cx="144720" cy="1368360"/>
          </a:xfrm>
          <a:prstGeom prst="line">
            <a:avLst/>
          </a:prstGeom>
          <a:ln w="50760">
            <a:solidFill>
              <a:srgbClr val="33cc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4005360"/>
            <a:ext cx="216000" cy="1008000"/>
          </a:xfrm>
          <a:prstGeom prst="line">
            <a:avLst/>
          </a:prstGeom>
          <a:ln w="50760">
            <a:solidFill>
              <a:srgbClr val="33cc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3645000"/>
            <a:ext cx="144360" cy="1368360"/>
          </a:xfrm>
          <a:prstGeom prst="line">
            <a:avLst/>
          </a:prstGeom>
          <a:ln w="50760">
            <a:solidFill>
              <a:srgbClr val="33cc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4140000" y="3213000"/>
            <a:ext cx="432000" cy="115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60840 h 1152360"/>
              <a:gd name="textAreaBottom" fmla="*/ 109152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26"/>
                  <a:pt x="10800" y="3652"/>
                </a:cubicBezTo>
                <a:lnTo>
                  <a:pt x="10800" y="7148"/>
                </a:lnTo>
                <a:cubicBezTo>
                  <a:pt x="10800" y="8974"/>
                  <a:pt x="5400" y="10800"/>
                  <a:pt x="0" y="10800"/>
                </a:cubicBezTo>
                <a:cubicBezTo>
                  <a:pt x="5400" y="10800"/>
                  <a:pt x="10800" y="12626"/>
                  <a:pt x="10800" y="14452"/>
                </a:cubicBezTo>
                <a:lnTo>
                  <a:pt x="10800" y="17948"/>
                </a:lnTo>
                <a:cubicBezTo>
                  <a:pt x="10800" y="19774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59640" y="3716280"/>
            <a:ext cx="1440720" cy="12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7000"/>
            <a:ext cx="2808000" cy="981000"/>
          </a:xfrm>
          <a:prstGeom prst="wedgeEllipseCallout">
            <a:avLst>
              <a:gd name="adj1" fmla="val 6870"/>
              <a:gd name="adj2" fmla="val -67152"/>
            </a:avLst>
          </a:prstGeom>
          <a:gradFill rotWithShape="0">
            <a:gsLst>
              <a:gs pos="0">
                <a:srgbClr val="2143a8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碳排放交易市场模型的建设阶段</a:t>
            </a:r>
            <a:r>
              <a:rPr b="1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析、设计、仿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A240-FDE0-4E51-922C-39BC20AABC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4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研究方法和过程（碳排放交易系统分析）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1.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交易系统背景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>
            <a:lum contrast="30000"/>
          </a:blip>
          <a:srcRect l="-234" t="10244" r="0" b="10767"/>
          <a:stretch/>
        </p:blipFill>
        <p:spPr>
          <a:xfrm>
            <a:off x="539640" y="1990800"/>
            <a:ext cx="8425080" cy="40464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4572000" y="1125360"/>
            <a:ext cx="2700360" cy="1800360"/>
            <a:chOff x="4572000" y="1125360"/>
            <a:chExt cx="2700360" cy="1800360"/>
          </a:xfrm>
        </p:grpSpPr>
        <p:sp>
          <p:nvSpPr>
            <p:cNvPr id="241" name=""/>
            <p:cNvSpPr/>
            <p:nvPr/>
          </p:nvSpPr>
          <p:spPr>
            <a:xfrm>
              <a:off x="4572000" y="1125360"/>
              <a:ext cx="2700360" cy="1800360"/>
            </a:xfrm>
            <a:prstGeom prst="wedgeRoundRectCallout">
              <a:avLst>
                <a:gd name="adj1" fmla="val -43416"/>
                <a:gd name="adj2" fmla="val 84481"/>
                <a:gd name="adj3" fmla="val 16667"/>
              </a:avLst>
            </a:prstGeom>
            <a:gradFill rotWithShape="0">
              <a:gsLst>
                <a:gs pos="0">
                  <a:srgbClr val="969696">
                    <a:alpha val="35294"/>
                  </a:srgbClr>
                </a:gs>
                <a:gs pos="100000">
                  <a:srgbClr val="6363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59280" y="1268280"/>
              <a:ext cx="2305080" cy="16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中国碳排放特点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1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、历史排放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r>
                <a:rPr b="0" lang="zh-CN" sz="1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、排放总量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1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、增速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1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、工业排放所占比例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96E6-1BDE-4D53-AE5D-7B5B3EB481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1.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碳排放交易市场结构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71640" y="1731960"/>
          <a:ext cx="8280360" cy="46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731960"/>
                    <a:ext cx="82803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CD2C-9311-4030-86C6-7CE0BDD4E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4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研究方法和过程（碳排放交易系统一级市场设计）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2.1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级市场的概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碳排放权产权由政府转交到企业手中的交易市场；是碳排放权产权的明晰化过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一级市场设计的核心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交易方式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3357720"/>
            <a:ext cx="4606920" cy="1871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6a8a8"/>
              </a:gs>
              <a:gs pos="100000">
                <a:srgbClr val="ccffff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免费发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定价出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拍卖出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0800000">
            <a:off x="5076360" y="4221000"/>
            <a:ext cx="1295640" cy="64800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500"/>
              </a:gs>
              <a:gs pos="50000">
                <a:srgbClr val="009900"/>
              </a:gs>
              <a:gs pos="100000">
                <a:srgbClr val="0055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43640" y="4076640"/>
            <a:ext cx="2521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400"/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物期权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71E2-37AF-44F8-81BA-26E33089D5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.2.2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引入期权模式的原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92"/>
          <p:cNvGrpSpPr/>
          <p:nvPr/>
        </p:nvGrpSpPr>
        <p:grpSpPr>
          <a:xfrm>
            <a:off x="2268360" y="4581360"/>
            <a:ext cx="5040360" cy="685440"/>
            <a:chOff x="2268360" y="4581360"/>
            <a:chExt cx="5040360" cy="685440"/>
          </a:xfrm>
        </p:grpSpPr>
        <p:sp>
          <p:nvSpPr>
            <p:cNvPr id="256" name="AutoShape 93"/>
            <p:cNvSpPr/>
            <p:nvPr/>
          </p:nvSpPr>
          <p:spPr>
            <a:xfrm>
              <a:off x="2268360" y="4581360"/>
              <a:ext cx="5040360" cy="685440"/>
            </a:xfrm>
            <a:prstGeom prst="roundRect">
              <a:avLst>
                <a:gd name="adj" fmla="val 16667"/>
              </a:avLst>
            </a:prstGeom>
            <a:solidFill>
              <a:srgbClr val="88b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94"/>
            <p:cNvSpPr/>
            <p:nvPr/>
          </p:nvSpPr>
          <p:spPr>
            <a:xfrm>
              <a:off x="2283840" y="4593600"/>
              <a:ext cx="5010480" cy="30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8b42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104"/>
          <p:cNvSpPr/>
          <p:nvPr/>
        </p:nvSpPr>
        <p:spPr>
          <a:xfrm>
            <a:off x="1143000" y="1989000"/>
            <a:ext cx="7238880" cy="4535640"/>
          </a:xfrm>
          <a:prstGeom prst="roundRect">
            <a:avLst>
              <a:gd name="adj" fmla="val 7315"/>
            </a:avLst>
          </a:prstGeom>
          <a:noFill/>
          <a:ln cap="rnd" w="5724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9"/>
          <p:cNvSpPr/>
          <p:nvPr/>
        </p:nvSpPr>
        <p:spPr>
          <a:xfrm>
            <a:off x="1447920" y="1700280"/>
            <a:ext cx="6553080" cy="568080"/>
          </a:xfrm>
          <a:prstGeom prst="roundRect">
            <a:avLst>
              <a:gd name="adj" fmla="val 42181"/>
            </a:avLst>
          </a:prstGeom>
          <a:solidFill>
            <a:srgbClr val="ffffff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能把碳排放权更合理、更高效的分配到企业手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252520" y="2565360"/>
            <a:ext cx="5040360" cy="720720"/>
            <a:chOff x="2252520" y="2565360"/>
            <a:chExt cx="5040360" cy="720720"/>
          </a:xfrm>
        </p:grpSpPr>
        <p:sp>
          <p:nvSpPr>
            <p:cNvPr id="261" name="AutoShape 102"/>
            <p:cNvSpPr/>
            <p:nvPr/>
          </p:nvSpPr>
          <p:spPr>
            <a:xfrm>
              <a:off x="2252520" y="2565360"/>
              <a:ext cx="5040360" cy="720720"/>
            </a:xfrm>
            <a:prstGeom prst="roundRect">
              <a:avLst>
                <a:gd name="adj" fmla="val 16667"/>
              </a:avLst>
            </a:prstGeom>
            <a:solidFill>
              <a:srgbClr val="88b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03"/>
            <p:cNvSpPr/>
            <p:nvPr/>
          </p:nvSpPr>
          <p:spPr>
            <a:xfrm>
              <a:off x="2268360" y="2600280"/>
              <a:ext cx="5010480" cy="3240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8b42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56000" y="27082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三种主流分配方式各有其弊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268360" y="3573360"/>
            <a:ext cx="5040360" cy="705960"/>
            <a:chOff x="2268360" y="3573360"/>
            <a:chExt cx="5040360" cy="705960"/>
          </a:xfrm>
        </p:grpSpPr>
        <p:grpSp>
          <p:nvGrpSpPr>
            <p:cNvPr id="265" name="Group 98"/>
            <p:cNvGrpSpPr/>
            <p:nvPr/>
          </p:nvGrpSpPr>
          <p:grpSpPr>
            <a:xfrm>
              <a:off x="2268360" y="3573360"/>
              <a:ext cx="5040360" cy="705960"/>
              <a:chOff x="2268360" y="3573360"/>
              <a:chExt cx="5040360" cy="705960"/>
            </a:xfrm>
          </p:grpSpPr>
          <p:sp>
            <p:nvSpPr>
              <p:cNvPr id="266" name="AutoShape 99"/>
              <p:cNvSpPr/>
              <p:nvPr/>
            </p:nvSpPr>
            <p:spPr>
              <a:xfrm>
                <a:off x="2268360" y="3573360"/>
                <a:ext cx="5040360" cy="70596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100"/>
              <p:cNvSpPr/>
              <p:nvPr/>
            </p:nvSpPr>
            <p:spPr>
              <a:xfrm>
                <a:off x="2283840" y="3585960"/>
                <a:ext cx="5010480" cy="3171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4f81bd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2556000" y="3578040"/>
              <a:ext cx="446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碳排放权使用期和购置期分离的特点适合期权模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AutoShape 99"/>
          <p:cNvSpPr/>
          <p:nvPr/>
        </p:nvSpPr>
        <p:spPr>
          <a:xfrm>
            <a:off x="2268360" y="5589720"/>
            <a:ext cx="5040360" cy="706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00"/>
          <p:cNvSpPr/>
          <p:nvPr/>
        </p:nvSpPr>
        <p:spPr>
          <a:xfrm>
            <a:off x="2284560" y="5602320"/>
            <a:ext cx="5010120" cy="31752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4f81bd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57085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产生价格对二级市场具有参考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1280" y="470052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前期投入小，减少企业资金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ED4A-70B7-4AA3-966A-3EDC439FCA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3:50:39Z</dcterms:created>
  <dc:creator>言彦</dc:creator>
  <dc:description/>
  <dc:language>en-US</dc:language>
  <cp:lastModifiedBy>未知用户</cp:lastModifiedBy>
  <dcterms:modified xsi:type="dcterms:W3CDTF">2015-11-17T06:23:52Z</dcterms:modified>
  <cp:revision>32</cp:revision>
  <dc:subject/>
  <dc:title>引言</dc:title>
</cp:coreProperties>
</file>