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3.jpeg" ContentType="image/jpeg"/>
  <Override PartName="/ppt/media/image16.gif" ContentType="image/gif"/>
  <Override PartName="/ppt/media/image15.jpeg" ContentType="image/jpeg"/>
  <Override PartName="/ppt/media/image14.gif" ContentType="image/gif"/>
  <Override PartName="/ppt/media/image2.jpeg" ContentType="image/jpeg"/>
  <Override PartName="/ppt/media/image3.png" ContentType="image/png"/>
  <Override PartName="/ppt/media/image1.jpeg" ContentType="image/jpeg"/>
  <Override PartName="/ppt/media/image4.gif" ContentType="image/gif"/>
  <Override PartName="/ppt/media/image5.gif" ContentType="image/gif"/>
  <Override PartName="/ppt/media/image9.png" ContentType="image/png"/>
  <Override PartName="/ppt/media/image6.gif" ContentType="image/gif"/>
  <Override PartName="/ppt/media/image7.gif" ContentType="image/gif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81D2-7345-4AFA-8E5D-DD48242FB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2DCC-0E16-4FE1-AF50-902191EA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E59B-CE3B-4DAF-B3D4-F996099F7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C27E-47EE-4C15-ACAE-188E575D8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AC22-3AEE-458C-8693-8DA74C40E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32EF-2FA2-41F7-8596-A47D655A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FC63-B140-4CD6-A44C-FB9C1291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9CFD-17EC-4DFA-9557-5C47A7D5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5FAC-69A3-4662-815E-2AC3E249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E8ED-B915-4527-972D-CFDC6539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B592-FF9F-450C-A4FE-131DE2C0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F817-8542-4FEA-BA03-219E1806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7BB4-0C8E-444F-8AEA-6FBD8C11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384F9-D2CB-4C75-8FF0-EE78E9BD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42C8-8166-48E7-ABB7-37A7068B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1BC5-DA52-4773-BBBF-799EEF447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1963-7138-486B-95B9-D1CCE9411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3703-16A2-4887-8E4D-D7259F8E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9DE4-BF68-4E55-AEEE-DC99A581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14C6-66DA-47CE-8813-C44B29F0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00DC-C18A-49DF-AD83-3ED805A0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3733-D310-4779-9186-7CA97888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18A2-B8EC-4116-9CB1-0DE35831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F9A0-F7C7-492C-9ED3-EF2AD6A6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7CA3-E22F-4253-9BB6-B180E6CADC3E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2A11-2CB4-427F-BA71-E197D80EDC1D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-360" y="1267920"/>
            <a:ext cx="7885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66ff"/>
                </a:solidFill>
                <a:latin typeface="Arial"/>
                <a:ea typeface="隶书"/>
              </a:rPr>
              <a:t>各位家长，您好！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95280" y="2349360"/>
            <a:ext cx="828036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欢迎您来参加家长会</a:t>
            </a:r>
            <a:endParaRPr b="0" lang="en-US" sz="8000" spc="1" strike="noStrike">
              <a:ln w="12600">
                <a:solidFill>
                  <a:srgbClr val="ff00ff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"/>
          <p:cNvSpPr/>
          <p:nvPr/>
        </p:nvSpPr>
        <p:spPr>
          <a:xfrm>
            <a:off x="5543640" y="537372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ff"/>
                </a:solidFill>
                <a:latin typeface="隶书"/>
                <a:ea typeface="隶书"/>
              </a:rPr>
              <a:t>四年级一班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8172360" y="141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8317080" y="2060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60817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17138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上期学习小结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语文平均分有幸稍高于其它班级：作文得分较高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特别是优生部分，内容具体，篇幅长，书写工整，几乎没有错别字（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个作文满分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基础大部分不错，后进生部分不扎实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阅读部分没有优势可言，而阅读将是高年级语文成绩差距的最大原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本学期学习方面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57834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预习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上课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作业巩固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课外阅读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作文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预      习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引导并教给学生预习的方法：一读、二勾、三标、四注音、五提问（不懂的、感兴趣的）  六解词 七摘录  八写体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根据课文内容和情趣所在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查阅资料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准备好交流的内容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上      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让孩子明白课堂的重要性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课前准备充分：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物品与思想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提醒孩子集中注意力   眼神跟着老师走，记笔记，勤思考，不搞东西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（把诱惑自己的东西收起来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鼓励孩子积极举手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勇敢表达自己的想法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鼓励孩子找寻课堂的乐趣，苦中作乐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巩固（家庭作业）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1a4a"/>
                </a:solidFill>
                <a:latin typeface="Arial"/>
              </a:rPr>
              <a:t>问    题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漏做、少做、乱作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特别是阅读或其它难题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不够专心，不够投入 ，因而时间拖得长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依赖性很强 ，很不独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不改错（特别可怕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听写作业不落实，特别是差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作文的篇幅相差太大（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300——350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字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1000" autoRev="1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57" dur="1000" autoRev="1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8" dur="1000" autoRev="1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1000" autoRev="1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63" dur="1000" autoRev="1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64" dur="1000" autoRev="1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家庭作业建议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给孩子提供一个良好的作业环境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控制孩子做作业的时间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要养成认真书写的习惯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督促孩子养成检查作业的习惯（特别是较为困难的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督促学生养成及时整理书包、带齐学习工                   具的习惯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作业及时分项签字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课外阅读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8536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a77"/>
                </a:solidFill>
                <a:latin typeface="Arial"/>
              </a:rPr>
              <a:t>继续培养</a:t>
            </a:r>
            <a:r>
              <a:rPr b="1" lang="zh-CN" sz="3000" spc="-1" strike="noStrike">
                <a:solidFill>
                  <a:srgbClr val="e41a4a"/>
                </a:solidFill>
                <a:latin typeface="Arial"/>
              </a:rPr>
              <a:t>兴趣   </a:t>
            </a:r>
            <a:r>
              <a:rPr b="1" lang="zh-CN" sz="3000" spc="-1" strike="noStrike">
                <a:solidFill>
                  <a:srgbClr val="007a77"/>
                </a:solidFill>
                <a:latin typeface="Arial"/>
              </a:rPr>
              <a:t>读给孩子听；和孩子一起读 </a:t>
            </a:r>
            <a:endParaRPr b="0" lang="en-US" sz="3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a77"/>
                </a:solidFill>
                <a:latin typeface="Arial"/>
              </a:rPr>
              <a:t>逐渐培养“</a:t>
            </a:r>
            <a:r>
              <a:rPr b="1" lang="zh-CN" sz="3000" spc="-1" strike="noStrike">
                <a:solidFill>
                  <a:srgbClr val="e41a4a"/>
                </a:solidFill>
                <a:latin typeface="Arial"/>
              </a:rPr>
              <a:t>不动笔墨不读书”、“每天阅读”</a:t>
            </a:r>
            <a:r>
              <a:rPr b="1" lang="zh-CN" sz="3000" spc="-1" strike="noStrike">
                <a:solidFill>
                  <a:srgbClr val="007a77"/>
                </a:solidFill>
                <a:latin typeface="Arial"/>
              </a:rPr>
              <a:t>的习惯</a:t>
            </a:r>
            <a:endParaRPr b="0" lang="en-US" sz="3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PMingLiU"/>
              </a:rPr>
              <a:t>   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  <a:ea typeface="PMingLiU"/>
              </a:rPr>
              <a:t>孩子每天临睡前留出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  <a:ea typeface="PMingLiU"/>
              </a:rPr>
              <a:t>半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  <a:ea typeface="PMingLiU"/>
              </a:rPr>
              <a:t>小时时间，进行读书，天天如此，最后形成孩子的自觉行为。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7a77"/>
                </a:solidFill>
                <a:latin typeface="Arial"/>
              </a:rPr>
              <a:t>家长主动和孩子</a:t>
            </a:r>
            <a:r>
              <a:rPr b="1" lang="zh-CN" sz="3000" spc="-1" strike="noStrike">
                <a:solidFill>
                  <a:srgbClr val="e41a4a"/>
                </a:solidFill>
                <a:latin typeface="Arial"/>
              </a:rPr>
              <a:t>交流探讨阅读所得</a:t>
            </a:r>
            <a:r>
              <a:rPr b="1" lang="zh-CN" sz="3000" spc="-1" strike="noStrike">
                <a:solidFill>
                  <a:srgbClr val="007a77"/>
                </a:solidFill>
                <a:latin typeface="Arial"/>
              </a:rPr>
              <a:t>（起检查、引导作用）  （话题为：感兴趣的；讨论人物形象；优美的或幽默风趣的语言等）</a:t>
            </a:r>
            <a:endParaRPr b="0" lang="en-US" sz="3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e41a4a"/>
                </a:solidFill>
                <a:latin typeface="Arial"/>
              </a:rPr>
              <a:t>关注精彩句段，</a:t>
            </a:r>
            <a:r>
              <a:rPr b="1" lang="zh-CN" sz="3000" spc="-1" strike="noStrike">
                <a:solidFill>
                  <a:srgbClr val="007a77"/>
                </a:solidFill>
                <a:latin typeface="Arial"/>
              </a:rPr>
              <a:t>可做一些摘录或者朗读或背诵</a:t>
            </a:r>
            <a:endParaRPr b="0" lang="en-US" sz="3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作文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培养孩子写日记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作文前一定要</a:t>
            </a:r>
            <a:r>
              <a:rPr b="1" lang="zh-CN" sz="3200" spc="-1" strike="noStrike">
                <a:solidFill>
                  <a:srgbClr val="e41a4a"/>
                </a:solidFill>
                <a:latin typeface="Arial"/>
              </a:rPr>
              <a:t>预习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读一</a:t>
            </a:r>
            <a:r>
              <a:rPr b="1" lang="zh-CN" sz="3200" spc="-1" strike="noStrike">
                <a:solidFill>
                  <a:srgbClr val="e41a4a"/>
                </a:solidFill>
                <a:latin typeface="Arial"/>
              </a:rPr>
              <a:t>读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同类作文，做一定的词句</a:t>
            </a:r>
            <a:r>
              <a:rPr b="1" lang="zh-CN" sz="3200" spc="-1" strike="noStrike">
                <a:solidFill>
                  <a:srgbClr val="e41a4a"/>
                </a:solidFill>
                <a:latin typeface="Arial"/>
              </a:rPr>
              <a:t>摘录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作文前和家长回忆交流本次作文的内容</a:t>
            </a:r>
            <a:r>
              <a:rPr b="1" lang="zh-CN" sz="3200" spc="-1" strike="noStrike">
                <a:solidFill>
                  <a:srgbClr val="e41a4a"/>
                </a:solidFill>
                <a:latin typeface="Arial"/>
              </a:rPr>
              <a:t>材料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看看自己经历过的哪些是都可以写的，什么是自己感兴趣的或比较好写的，尤其是</a:t>
            </a:r>
            <a:r>
              <a:rPr b="1" lang="zh-CN" sz="3200" spc="-1" strike="noStrike">
                <a:solidFill>
                  <a:srgbClr val="e41a4a"/>
                </a:solidFill>
                <a:latin typeface="Arial"/>
              </a:rPr>
              <a:t>差生，最好做到先说后写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22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家庭教育的几点建议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2707920"/>
            <a:ext cx="854064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           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仅供参考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451640" y="260280"/>
            <a:ext cx="1309680" cy="2438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877080" y="4919760"/>
            <a:ext cx="1979640" cy="14619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24000" y="1557360"/>
            <a:ext cx="82803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期初制订一个计划和目标：</a:t>
            </a:r>
            <a:r>
              <a:rPr b="1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学习、活动、交友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……</a:t>
            </a:r>
            <a:r>
              <a:rPr b="1" lang="en-US" sz="3600" spc="-1" strike="noStrike">
                <a:solidFill>
                  <a:srgbClr val="007a77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有了明确的目标，行动更有效率，遇到困难更能客服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619280" y="333360"/>
            <a:ext cx="3174840" cy="1212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951200" y="498600"/>
            <a:ext cx="23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ff"/>
                </a:solidFill>
                <a:latin typeface="华文新魏"/>
                <a:ea typeface="华文新魏"/>
              </a:rPr>
              <a:t>建议</a:t>
            </a:r>
            <a:r>
              <a:rPr b="0" lang="en-US" sz="4000" spc="-1" strike="noStrike">
                <a:solidFill>
                  <a:srgbClr val="0099ff"/>
                </a:solidFill>
                <a:latin typeface="华文新魏"/>
                <a:ea typeface="华文新魏"/>
              </a:rPr>
              <a:t>-1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08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1042920" y="2565360"/>
            <a:ext cx="51847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宋体"/>
              </a:rPr>
              <a:t>尊重沟通共勉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宋体"/>
              <a:ea typeface="宋体"/>
            </a:endParaRPr>
          </a:p>
        </p:txBody>
      </p:sp>
    </p:spTree>
  </p:cSld>
  <p:transition spd="slow">
    <p:cover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451640" y="260280"/>
            <a:ext cx="1309680" cy="2438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877080" y="4919760"/>
            <a:ext cx="1979640" cy="14619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24000" y="1557360"/>
            <a:ext cx="82803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多给孩子一点自信心，做孩子成长强有力的后盾：</a:t>
            </a:r>
            <a:r>
              <a:rPr b="1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学生个体差异大，即使成绩不理想只要孩子已尽力，应给以信心不能一味的指责，更不能放弃；对于孩子的成绩要纵向比较</a:t>
            </a:r>
            <a:r>
              <a:rPr b="0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619280" y="333360"/>
            <a:ext cx="3174840" cy="1212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951200" y="498600"/>
            <a:ext cx="23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ff"/>
                </a:solidFill>
                <a:latin typeface="华文新魏"/>
                <a:ea typeface="华文新魏"/>
              </a:rPr>
              <a:t>建议</a:t>
            </a:r>
            <a:r>
              <a:rPr b="0" lang="en-US" sz="4000" spc="-1" strike="noStrike">
                <a:solidFill>
                  <a:srgbClr val="0099ff"/>
                </a:solidFill>
                <a:latin typeface="华文新魏"/>
                <a:ea typeface="华文新魏"/>
              </a:rPr>
              <a:t>-2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996240" y="0"/>
            <a:ext cx="2147760" cy="2997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619280" y="333360"/>
            <a:ext cx="3174840" cy="1212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951200" y="498600"/>
            <a:ext cx="23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ff"/>
                </a:solidFill>
                <a:latin typeface="华文新魏"/>
                <a:ea typeface="华文新魏"/>
              </a:rPr>
              <a:t>建议</a:t>
            </a:r>
            <a:r>
              <a:rPr b="0" lang="en-US" sz="4000" spc="-1" strike="noStrike">
                <a:solidFill>
                  <a:srgbClr val="0099ff"/>
                </a:solidFill>
                <a:latin typeface="华文新魏"/>
                <a:ea typeface="华文新魏"/>
              </a:rPr>
              <a:t>-3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1557360"/>
            <a:ext cx="7993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教育学生遵守纪律，尊重教师：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家有家法，校有校规，班级有班级的纪律好的纪律是成绩提高的保证；尊重教师，（亲其师，信其道）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家长是孩子的镜子，孩子是家长的影子，家长应该配合学校做好孩子的工作，同时也要做好孩子的表率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732720" y="4730760"/>
            <a:ext cx="2076480" cy="1827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403280" y="189000"/>
            <a:ext cx="3175200" cy="12128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951200" y="498600"/>
            <a:ext cx="23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ff"/>
                </a:solidFill>
                <a:latin typeface="华文新魏"/>
                <a:ea typeface="华文新魏"/>
              </a:rPr>
              <a:t>建议</a:t>
            </a:r>
            <a:r>
              <a:rPr b="0" lang="en-US" sz="4000" spc="-1" strike="noStrike">
                <a:solidFill>
                  <a:srgbClr val="0099ff"/>
                </a:solidFill>
                <a:latin typeface="华文新魏"/>
                <a:ea typeface="华文新魏"/>
              </a:rPr>
              <a:t>-4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1197000"/>
            <a:ext cx="8352000" cy="15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c5900"/>
                </a:solidFill>
                <a:latin typeface="Arial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及时和老师沟通与联系</a:t>
            </a:r>
            <a:r>
              <a:rPr b="1" lang="zh-CN" sz="3600" spc="-1" strike="noStrike">
                <a:solidFill>
                  <a:srgbClr val="dc5900"/>
                </a:solidFill>
                <a:latin typeface="Arial"/>
                <a:ea typeface="隶书"/>
              </a:rPr>
              <a:t>：</a:t>
            </a:r>
            <a:r>
              <a:rPr b="1" lang="zh-CN" sz="3000" spc="-1" strike="noStrike">
                <a:solidFill>
                  <a:srgbClr val="007a77"/>
                </a:solidFill>
                <a:latin typeface="Arial"/>
                <a:ea typeface="隶书"/>
              </a:rPr>
              <a:t>学生多，师不能与家长频繁交流。通常用校讯通反馈作业情况，</a:t>
            </a:r>
            <a:r>
              <a:rPr b="1" lang="zh-CN" sz="3000" spc="-1" strike="noStrike">
                <a:solidFill>
                  <a:srgbClr val="007a77"/>
                </a:solidFill>
                <a:latin typeface="Arial"/>
              </a:rPr>
              <a:t>表扬、批评、提醒等</a:t>
            </a:r>
            <a:r>
              <a:rPr b="0" lang="zh-CN" sz="30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3000" spc="-1" strike="noStrike">
                <a:solidFill>
                  <a:srgbClr val="007a77"/>
                </a:solidFill>
                <a:latin typeface="Arial"/>
                <a:ea typeface="隶书"/>
              </a:rPr>
              <a:t>，家长针对自己孩子的个别问题（严重的）及时与老师交流，使家庭教育工作针对性、实效性更强，与学校教育结合得更紧。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 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隶书"/>
              </a:rPr>
              <a:t>对学校教育老师教育有看法的，及时地真诚地和老师沟通。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  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443640" y="3429000"/>
            <a:ext cx="2289240" cy="3021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55640" y="177336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隶书"/>
                <a:ea typeface="隶书"/>
              </a:rPr>
              <a:t>    </a:t>
            </a:r>
            <a:r>
              <a:rPr b="1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对孩子应严格教育和管理</a:t>
            </a:r>
            <a:r>
              <a:rPr b="0" lang="zh-CN" sz="4000" spc="-1" strike="noStrike">
                <a:solidFill>
                  <a:srgbClr val="0066ff"/>
                </a:solidFill>
                <a:latin typeface="隶书"/>
                <a:ea typeface="隶书"/>
              </a:rPr>
              <a:t>：</a:t>
            </a:r>
            <a:r>
              <a:rPr b="1" lang="zh-CN" sz="4000" spc="-1" strike="noStrike">
                <a:solidFill>
                  <a:srgbClr val="003399"/>
                </a:solidFill>
                <a:latin typeface="隶书"/>
                <a:ea typeface="隶书"/>
              </a:rPr>
              <a:t>监督学生不盲目上网，不玩或尽量少玩网络游戏；合理安排学生的时间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619280" y="333360"/>
            <a:ext cx="3174840" cy="1212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951200" y="498600"/>
            <a:ext cx="23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ff"/>
                </a:solidFill>
                <a:latin typeface="华文新魏"/>
                <a:ea typeface="华文新魏"/>
              </a:rPr>
              <a:t>建议</a:t>
            </a:r>
            <a:r>
              <a:rPr b="0" lang="en-US" sz="4000" spc="-1" strike="noStrike">
                <a:solidFill>
                  <a:srgbClr val="0099ff"/>
                </a:solidFill>
                <a:latin typeface="华文新魏"/>
                <a:ea typeface="华文新魏"/>
              </a:rPr>
              <a:t>-5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826920" y="1916280"/>
            <a:ext cx="7058160" cy="14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cc33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关注学生学习过程</a:t>
            </a:r>
            <a:r>
              <a:rPr b="1" lang="zh-CN" sz="3600" spc="-1" strike="noStrike">
                <a:solidFill>
                  <a:srgbClr val="003399"/>
                </a:solidFill>
                <a:latin typeface="隶书"/>
                <a:ea typeface="隶书"/>
              </a:rPr>
              <a:t>：考试成绩重要但这只是衡量学生一时的表现，要适度地给学生拓展，培养他们的能力。（语文方面主要为阅读、作文类）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619280" y="333360"/>
            <a:ext cx="3174840" cy="12128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951200" y="498600"/>
            <a:ext cx="23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ff"/>
                </a:solidFill>
                <a:latin typeface="华文新魏"/>
                <a:ea typeface="华文新魏"/>
              </a:rPr>
              <a:t>建议</a:t>
            </a:r>
            <a:r>
              <a:rPr b="0" lang="en-US" sz="4000" spc="-1" strike="noStrike">
                <a:solidFill>
                  <a:srgbClr val="0099ff"/>
                </a:solidFill>
                <a:latin typeface="华文新魏"/>
                <a:ea typeface="华文新魏"/>
              </a:rPr>
              <a:t>-6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7308720" y="4365720"/>
            <a:ext cx="1338480" cy="1928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7740720" y="333360"/>
            <a:ext cx="847800" cy="2562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26920" y="1916280"/>
            <a:ext cx="705816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创造良好的育人环境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：尽量抽时间多与孩子交流和沟通，善于发现他们的长处，让他们即要学会生活，更要学会创造生活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619280" y="333360"/>
            <a:ext cx="3174840" cy="12128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951200" y="498600"/>
            <a:ext cx="23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ff"/>
                </a:solidFill>
                <a:latin typeface="华文新魏"/>
                <a:ea typeface="华文新魏"/>
              </a:rPr>
              <a:t>建议</a:t>
            </a:r>
            <a:r>
              <a:rPr b="0" lang="en-US" sz="4000" spc="-1" strike="noStrike">
                <a:solidFill>
                  <a:srgbClr val="0099ff"/>
                </a:solidFill>
                <a:latin typeface="华文新魏"/>
                <a:ea typeface="华文新魏"/>
              </a:rPr>
              <a:t>-7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7308720" y="4365720"/>
            <a:ext cx="1338480" cy="19288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7740720" y="333360"/>
            <a:ext cx="847800" cy="2562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0" y="-53028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755640" y="4941720"/>
            <a:ext cx="1192320" cy="14306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476280"/>
            <a:ext cx="5545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ff"/>
                </a:solidFill>
                <a:latin typeface="Arial"/>
                <a:ea typeface="隶书"/>
              </a:rPr>
              <a:t>再次感谢各位家长的到来和倾听！</a:t>
            </a:r>
            <a:endParaRPr b="0" lang="en-US" sz="5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35280" y="3860640"/>
            <a:ext cx="511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08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1042920" y="2565360"/>
            <a:ext cx="51847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宋体"/>
              </a:rPr>
              <a:t>重过程，看进步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宋体"/>
              <a:ea typeface="宋体"/>
            </a:endParaRPr>
          </a:p>
        </p:txBody>
      </p:sp>
    </p:spTree>
  </p:cSld>
  <p:transition spd="slow">
    <p:cover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39640" y="973080"/>
            <a:ext cx="6265800" cy="62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00"/>
                </a:solidFill>
                <a:latin typeface="Arial"/>
              </a:rPr>
              <a:t>家长会的目的：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b0ce2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67409"/>
                </a:solidFill>
                <a:latin typeface="Arial"/>
              </a:rPr>
              <a:t>了解班级学生的现状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7409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67409"/>
                </a:solidFill>
                <a:latin typeface="Arial"/>
              </a:rPr>
              <a:t>了解老师的要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7409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67409"/>
                </a:solidFill>
                <a:latin typeface="Arial"/>
              </a:rPr>
              <a:t>了解孩子的需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7409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67409"/>
                </a:solidFill>
                <a:latin typeface="Arial"/>
              </a:rPr>
              <a:t>从新学期开始，和孩子老师一起计划，一起进步，一起成长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84360" y="692280"/>
            <a:ext cx="68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华文新魏"/>
              </a:rPr>
              <a:t>上学期班级学生获奖情况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2060640"/>
            <a:ext cx="6624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1280" y="3357720"/>
            <a:ext cx="5976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76360" y="3213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学习方面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四年级学生心理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孩子逐渐有了主见，听不进父母的话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我们的做法：爱护孩子的同时更要让孩子懂得了解你的爱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自我认识不够，容易受伙伴影响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我们的做法：学会客观公正地评价孩子，做孩子的“明镜”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纪律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854100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家长注意问题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一、管理好孩子的零花钱，拒绝零食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口香糖、饮料水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二、让孩子每天佩戴红领巾，带齐用品，（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墨水、钢笔、桌套等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），培养孩子的责任意识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三、文明用餐，和同学友好相处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四、不迟到，特别是星期一升旗仪式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卫生方面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家长应注意的问题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值日时提醒孩子安排好值日时间（坐校车的），分工合作，把清洁做彻底，培养孩子的劳动意识和集体意识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不乱扔纸屑，书包、抽屉保持整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一周左右剪一次指甲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体育方面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5410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本期有三跳运动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短绳（一般的塑料的，不要计数的，不要布的）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鸡毛毽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06:26:10Z</dcterms:created>
  <dc:creator>Lenovo User</dc:creator>
  <dc:description/>
  <cp:keywords/>
  <dc:language>en-US</dc:language>
  <cp:lastModifiedBy>Sky123.Org</cp:lastModifiedBy>
  <cp:lastPrinted>1899-12-30T00:00:00Z</cp:lastPrinted>
  <dcterms:modified xsi:type="dcterms:W3CDTF">2015-08-12T00:42:16Z</dcterms:modified>
  <cp:revision>1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