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10.gif" ContentType="image/gif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1EA-ADF4-4BF1-95F2-AD95D6FD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381-CC67-4984-85DA-5776A2E6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F1E-33C2-4C70-9A6E-91F9CC02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1D7-677F-46F9-85B7-A8319F1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89DE-D9ED-4315-849E-85C5C56F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0143-53BA-4A43-A009-147EC32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C8F8-FC88-4F1A-B6F7-5D3D8183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3C2D-AF9D-4E54-A9F1-8F8B23F4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3837-A9EA-44E2-BFD3-B0C04FB1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277-E92C-4A0F-AB14-A11A3ADE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426D-18E4-4CB1-97B2-0A94998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CAA-1DDD-4A81-B7A6-4DC98B19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6982-72C5-4C60-AA97-A5CC11DA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8A1-B279-4326-AD36-5AD00DE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7DDC-83E6-4AC6-952C-8C72F22C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23E3-D799-43EE-B775-3089494C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5512-9D93-4FFC-A999-8ACD9BA5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F6C2-8E15-4A1B-9ABA-8E3A4EAE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18A0-65B5-4761-8593-2DA60934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1F71-8214-404F-BE2D-954F6C7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F9BA-C0FC-44FB-9566-5F71E3B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CA82D-9806-4B38-B6C6-829DA4D2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9DD-E885-4402-89DA-8673FB1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8210-EAD3-4C37-8DB1-1681FF9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2801-50E3-414B-917B-EEAF4FE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CBD3-BA23-4BAD-BD0D-9B1E76B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1D42-2EF7-4CBF-B258-76D1A8E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DAEF-116C-490B-BB24-A0529A9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8711-3715-427F-81BF-5712DD4B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0446-E5A1-4130-9CCE-D6CCAF4F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F2D-120E-4F87-9EE5-28C0D82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F2D-C871-4EC7-8370-00BA4904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6B0-28B7-4AC1-BDF4-89A43F9F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8B4-6271-4902-BA82-1844279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BA9-F747-459C-BF8E-D3CDC63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475-D980-41D9-80B7-310A54CB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FBA-FDEE-48C1-B4E2-6C266F41AF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5DB3-76B5-49C4-ACA1-39546203BD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40FD-746F-41B1-9B76-E818EA4032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33520" y="914400"/>
            <a:ext cx="8229600" cy="419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华文新魏"/>
              </a:rPr>
              <a:t>真诚沟通，共育未来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114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三（二）班家长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95640" y="1413000"/>
            <a:ext cx="47512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同学在教室讲脏话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家长在家要注意语言教育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学生爱给同学起外号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午托不能无故缺席。有特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情况家长要提前通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1557360"/>
            <a:ext cx="86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行为规范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14130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11280" y="1197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期待家长配合的地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2205000"/>
            <a:ext cx="496872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安全工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时间的安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支持孩子的学习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认真督促，仔细检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积极配合老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0880" y="1143000"/>
            <a:ext cx="10947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安全工作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1557360"/>
            <a:ext cx="432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监督自己的孩子放学后要按时回家，不要在学校或其他地方逗留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注意孩子的外出，家长一定要过问，不让孩子参与一些危险的活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请各位家长做好孩子的安全教育工作，包括交通安全、食物安全、人身安全、防火安全等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404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020000" y="260280"/>
            <a:ext cx="130968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11280" y="1844640"/>
            <a:ext cx="446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 在家里家长要严格控制孩子的上网时间，禁止孩子外出到网吧上网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 对于孩子的到校时间，我们规定早上在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到校。下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2:4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到校。每一个学生都应做到按时到校，不迟到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）要保证孩子有充足的睡眠时间，每天睡觉时间不少于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小时，午休请家长给予关注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557360"/>
            <a:ext cx="86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时间安排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14130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3175200" cy="121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8360" y="620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996240" y="0"/>
            <a:ext cx="21477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向各位家长提一些建议和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每天请检查孩子的学习情况、家庭作业，及时查漏补缺，及时改错，做到坚持不懈。检查完后作业本上请签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定期与教师进行沟通，对孩子的优点、不好的习惯以及在教育过程中出现的疑惑，可以经常与老师保持联系，共同寻找最好的教育方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每天与孩子进行亲切交流，和他们谈谈今天学到了什么新知识，哪篇新课文，知道哪些道理，今后打算怎样做，交谈时，要有耐心，不能简单粗暴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73200"/>
            <a:ext cx="8534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经常带孩子们接触社会、研究社会的各种现象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让学生多读书、好读书、读好书、读整本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多让学生写观察或纪实日记，指导孩子的习作，提高学生的习作水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教育孩子上课认真听讲，积极参与课上学习，做好笔记，课下有选择的做阅读练习，不断提高阅读能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注重培养孩子良好的学习和行为习惯，做好每一次考试的分析和改进措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习作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保质保量完成练笔作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了提高写作能力，请家长不仅要重视作文本上的，更要重视所有小练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造句、片段练习。三年级还是以片段训练为重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接触生活，加强语言表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外阅读注意积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外阅读对于本学期的语文学习来说，意义又显得非同寻常。多看课外书其实对写作很有帮助。要测验了，我们今天来练练作文，起不到效果。只能靠平时日积月累，逐步提高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校报征集优秀作文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、关于预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预习大体包括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正确、流利地熟读课文，至少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遍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勾画生字词语；表自然段序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查字典理解生词的意思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提出或画出不理解的问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自学生字。第一个生字条的生字加拼音一个词组词，第二个生字条的生字加拼音组两个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（二）学习课文后应达到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正确、流利有感情地朗读课文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字表中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字以及生词表中的所有词语做到会认、会写、会运用。（做到能够听写正确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用生字组词（一字多词）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摘录文中好词佳句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背诵精彩的句子、段落，古诗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业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把字写工整、清楚，写在格子里面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了基本字、词、句必须掌握积累，相应的练习应该有以外，每周写三篇篇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字左右的日记或作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每天做完作业后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分钟课外书，如《神话故事》《成语故事》《爱的教育》课标要求的书籍等健康有益的书，平时看书读报，每天坚持摘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—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好词语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好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-360" y="1267920"/>
            <a:ext cx="78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Arial"/>
                <a:ea typeface="隶书"/>
              </a:rPr>
              <a:t>各位家长，您好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2060640"/>
            <a:ext cx="8280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欢迎您来参加家长会</a:t>
            </a:r>
            <a:endParaRPr b="0" lang="en-US" sz="8000" spc="1" strike="noStrike">
              <a:ln w="12600">
                <a:solidFill>
                  <a:srgbClr val="ff00ff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580536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三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）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理解词语的方法：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. 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查字典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教他人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联系上下文理解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查资料（参考书和其它课外书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71640" y="342900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60280"/>
            <a:ext cx="40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温馨提示：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484280"/>
            <a:ext cx="86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１、倾听孩子的心声，多和孩子交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２、鼓励孩子多多参与班级和校外活动，增长孩子自信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３、提高孩子的身体素质，重视孩子的体育锻炼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Comic Sans MS"/>
                <a:ea typeface="楷体_GB2312"/>
              </a:rPr>
              <a:t>４、关注孩子学习过程，少指责，多帮助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５、重视孩子情商培养，因为智商大家都不相上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14400" y="612720"/>
            <a:ext cx="609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华文新魏"/>
                <a:ea typeface="华文新魏"/>
              </a:rPr>
              <a:t>学生成绩优异的原因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态度端正，勤奋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方法比较好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制力强，善于思考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长的支持与鼓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9480" y="380880"/>
            <a:ext cx="7848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后进生存在的问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 有个别同学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习惯较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平常听课容易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课堂学习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效率较低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个别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业写不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有的甚至忘记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还有部分学生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字太潦草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没有恒心、耐心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71600" y="60948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孩子是我们永远的希望，教育孩子是我们共同的责任，就让我们携起手来，一起为孩子的健康成长而努力吧！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19680" y="936720"/>
            <a:ext cx="206280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309708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尊敬的家长，学校教育不是万能，但学校会尽力，同时家庭教育必不可少，望家长能重视，你们的孩子需要我们教育，我们的学生也需要您的呵护，最后，我想说：在班级工作中，我做得不足的地方，希望家长理解、见谅，敬请各位家长提出宝贵意见，在今后的工作中希望家长们多和我交流。总之为了我们的孩子，让我们携起手来，相信有你们的关心和支持，再加上同学们的努力，在以后的工作中，我们会有更大的进步。衷心地谢谢大家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1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27280" y="907920"/>
            <a:ext cx="504036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了解学生家长及家庭情况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交流学生表现。让家长在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班级背景中了解自己的孩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帮助家长提高教育孩子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水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阐明学校教育的原则，增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加理解，消除误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628640"/>
            <a:ext cx="11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家长会目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班级情况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我班有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33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名同学，其中男生有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18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人，女生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15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人，学生多数非常懂事、听话，在个人良好习惯养成方面取得了很大的进步。班内同学团结友爱，互帮互助，形成了良好的班风。学生学习多数比较认真、努力，形成了良好的学风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42920" y="1628640"/>
            <a:ext cx="11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认识三年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981000"/>
            <a:ext cx="482436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、心理方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孩子长大了，学会察言观色，跟喜欢的人交流，跟不喜欢的对着干。有心事放在心里，不喜欢和老师、家长交流，有时候行为让你摸不透，这阶段的孩子自尊心逐渐增强，也就是说怕“丢面子” ，所以各位家长在教育孩子的时候要把握好尺度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、学习内容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从三年级起，孩子的学习内容变了科目增多了，比起二年级增设了科学、思品等科目，学习由一些的简单基础知识到复杂抽象思维过渡，故该读的还要读，该抄的还得抄，该练的还得练。但同时还要拓展孩子的思维，从不同角度去考虑问题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、学习方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说到学习，在坐的家长都深有体会，现在的孩子越来越不好辅导了。现在学习的内容难度加大了，各门功课的作业量也相对多了，孩子的学习方法也有所改变，学生的学习不应是一种被动学习，而是一种主动学习。但我们的孩子，大多数都属于一种被动学习，甚至逃避学习。最明显地就是表现在作业上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84360" y="119700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我们班的情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205000"/>
            <a:ext cx="38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 纪 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 卫 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 学 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8b0ce2"/>
                </a:solidFill>
                <a:latin typeface="隶书"/>
                <a:ea typeface="隶书"/>
              </a:rPr>
              <a:t>、行为规范（班规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56000" y="1197000"/>
            <a:ext cx="4751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班里很多同学自我约束能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较强，自觉遵守各项纪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同学听讲不认真，上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爱做小动作、“爱插嘴”的习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惯有待改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男同学太爱动，自我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束能力较差，课下爱追逐打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闹，安全问题令老师担忧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989000"/>
            <a:ext cx="863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纪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律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14130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43400" y="1536480"/>
            <a:ext cx="109476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卫  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126828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饮水问题：要求带大口的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水壶。不准带矿泉水瓶饮料等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部分同学有不好的卫生习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勤洗头发，剪手指甲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学生个人卫生方面，希望各位家长理解配合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0880" y="1825920"/>
            <a:ext cx="1094760" cy="26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学  习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1557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家庭作业不够重视，通过书写质量就可以看出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作业欠交严重，主动性不够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6:26:10Z</dcterms:created>
  <dc:creator>Lenovo User</dc:creator>
  <dc:description/>
  <dc:language>en-US</dc:language>
  <cp:lastModifiedBy>user</cp:lastModifiedBy>
  <dcterms:modified xsi:type="dcterms:W3CDTF">2013-09-15T07:49:20Z</dcterms:modified>
  <cp:revision>92</cp:revision>
  <dc:subject/>
  <dc:title>幻灯片 1</dc:title>
</cp:coreProperties>
</file>