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7.wmf" ContentType="image/x-wmf"/>
  <Override PartName="/ppt/media/image11.gif" ContentType="image/gif"/>
  <Override PartName="/ppt/media/image14.png" ContentType="image/png"/>
  <Override PartName="/ppt/media/image6.gif" ContentType="image/gif"/>
  <Override PartName="/ppt/media/image13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0.png" ContentType="image/png"/>
  <Override PartName="/ppt/media/image27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21.wmf" ContentType="image/x-wmf"/>
  <Override PartName="/ppt/media/image19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20.png" ContentType="image/png"/>
  <Override PartName="/ppt/media/image18.png" ContentType="image/png"/>
  <Override PartName="/ppt/media/voltage.wav" ContentType="audio/x-wav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5B73-C71F-4D54-BCB6-BEF51DB48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28400" y="857160"/>
            <a:ext cx="8258040" cy="26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28400" y="3742920"/>
            <a:ext cx="8258040" cy="26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DB2A-A819-47C9-9AA9-9C8CFF83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28400" y="857160"/>
            <a:ext cx="4029840" cy="26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0200" y="857160"/>
            <a:ext cx="4029840" cy="26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28400" y="3742920"/>
            <a:ext cx="4029840" cy="26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0200" y="3742920"/>
            <a:ext cx="4029840" cy="26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D728-9FF9-4811-B4AC-64F5C352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28400" y="857160"/>
            <a:ext cx="2658960" cy="26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20560" y="857160"/>
            <a:ext cx="2658960" cy="26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13080" y="857160"/>
            <a:ext cx="2658960" cy="26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28400" y="3742920"/>
            <a:ext cx="2658960" cy="26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20560" y="3742920"/>
            <a:ext cx="2658960" cy="26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13080" y="3742920"/>
            <a:ext cx="2658960" cy="26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DFD1-01DE-4AAB-9DCD-6DEA12A04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9763-960D-488F-8231-B68B8E337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28400" y="857160"/>
            <a:ext cx="8258040" cy="55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F263-E0C0-4F2C-87A6-63899268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8400" y="857160"/>
            <a:ext cx="8258040" cy="55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E8BA-13A9-4D61-87DF-F83E5C1C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8400" y="857160"/>
            <a:ext cx="4029840" cy="55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200" y="857160"/>
            <a:ext cx="4029840" cy="55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A03D-4A87-457E-B0E5-968F1064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D206-81C7-4B96-8FA6-08E6A316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3B74-0A60-45D7-B449-73D19034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8400" y="857160"/>
            <a:ext cx="4029840" cy="26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0200" y="857160"/>
            <a:ext cx="4029840" cy="55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28400" y="3742920"/>
            <a:ext cx="4029840" cy="26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B962-3B72-4495-83AD-6D85D67D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28400" y="857160"/>
            <a:ext cx="8258040" cy="55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CF23-2BA4-41E7-9C52-312A089A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28400" y="857160"/>
            <a:ext cx="4029840" cy="55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0200" y="857160"/>
            <a:ext cx="4029840" cy="26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0200" y="3742920"/>
            <a:ext cx="4029840" cy="26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DCA4-D445-4D66-B97B-317DFA91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8400" y="857160"/>
            <a:ext cx="4029840" cy="26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0200" y="857160"/>
            <a:ext cx="4029840" cy="26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28400" y="3742920"/>
            <a:ext cx="8258040" cy="26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57D4-CA65-4C7B-8E22-A80A030A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28400" y="857160"/>
            <a:ext cx="8258040" cy="26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28400" y="3742920"/>
            <a:ext cx="8258040" cy="26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D365-0017-4A06-BBE7-4A19F793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28400" y="857160"/>
            <a:ext cx="4029840" cy="26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0200" y="857160"/>
            <a:ext cx="4029840" cy="26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28400" y="3742920"/>
            <a:ext cx="4029840" cy="26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0200" y="3742920"/>
            <a:ext cx="4029840" cy="26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F155-45F2-4BFC-AB48-03DDAED9A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28400" y="857160"/>
            <a:ext cx="2658960" cy="26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20560" y="857160"/>
            <a:ext cx="2658960" cy="26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13080" y="857160"/>
            <a:ext cx="2658960" cy="26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28400" y="3742920"/>
            <a:ext cx="2658960" cy="26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20560" y="3742920"/>
            <a:ext cx="2658960" cy="26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13080" y="3742920"/>
            <a:ext cx="2658960" cy="26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DF69-FE0B-4F5E-9901-EE5CE531B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8400" y="857160"/>
            <a:ext cx="8258040" cy="55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0780-02ED-4540-BFB0-42C9E1D3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8400" y="857160"/>
            <a:ext cx="4029840" cy="55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0200" y="857160"/>
            <a:ext cx="4029840" cy="55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D950-FE32-4193-A9BB-106C15B9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9968-4CB0-4119-9D7F-28276E4B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84FC-5AA4-4126-95C9-DC3D6868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28400" y="857160"/>
            <a:ext cx="4029840" cy="26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0200" y="857160"/>
            <a:ext cx="4029840" cy="55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28400" y="3742920"/>
            <a:ext cx="4029840" cy="26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B563-0668-4ED3-8978-3AC6E2CF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28400" y="857160"/>
            <a:ext cx="4029840" cy="55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0200" y="857160"/>
            <a:ext cx="4029840" cy="26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0200" y="3742920"/>
            <a:ext cx="4029840" cy="26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ADD5-2F8F-46C4-B0FD-52492E58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28400" y="857160"/>
            <a:ext cx="4029840" cy="26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0200" y="857160"/>
            <a:ext cx="4029840" cy="26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28400" y="3742920"/>
            <a:ext cx="8258040" cy="26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6567-EB84-4746-AF1D-6F39B17B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 rot="21007800">
            <a:off x="178920" y="475920"/>
            <a:ext cx="2916360" cy="38876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 rot="21007800">
            <a:off x="250560" y="1628280"/>
            <a:ext cx="2916000" cy="38880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2" descr="01"/>
          <p:cNvPicPr/>
          <p:nvPr/>
        </p:nvPicPr>
        <p:blipFill>
          <a:blip r:embed="rId4"/>
          <a:srcRect l="15327" t="0" r="0" b="6250"/>
          <a:stretch/>
        </p:blipFill>
        <p:spPr>
          <a:xfrm>
            <a:off x="2467080" y="0"/>
            <a:ext cx="210492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Freeform 7"/>
          <p:cNvSpPr/>
          <p:nvPr/>
        </p:nvSpPr>
        <p:spPr>
          <a:xfrm>
            <a:off x="2895480" y="0"/>
            <a:ext cx="6248520" cy="6858000"/>
          </a:xfrm>
          <a:prstGeom prst="pie">
            <a:avLst/>
          </a:prstGeom>
          <a:gradFill rotWithShape="0">
            <a:gsLst>
              <a:gs pos="0">
                <a:srgbClr val="89c8f3"/>
              </a:gs>
              <a:gs pos="100000">
                <a:srgbClr val="5fb5e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3"/>
          <p:cNvSpPr/>
          <p:nvPr/>
        </p:nvSpPr>
        <p:spPr>
          <a:xfrm>
            <a:off x="3657600" y="5257800"/>
            <a:ext cx="5029200" cy="0"/>
          </a:xfrm>
          <a:prstGeom prst="line">
            <a:avLst/>
          </a:prstGeom>
          <a:ln w="9360">
            <a:solidFill>
              <a:srgbClr val="dcf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3657600" y="5486400"/>
            <a:ext cx="5029200" cy="0"/>
          </a:xfrm>
          <a:prstGeom prst="line">
            <a:avLst/>
          </a:prstGeom>
          <a:ln w="9360">
            <a:solidFill>
              <a:srgbClr val="dcf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5"/>
          <p:cNvSpPr/>
          <p:nvPr/>
        </p:nvSpPr>
        <p:spPr>
          <a:xfrm>
            <a:off x="3657600" y="5715000"/>
            <a:ext cx="5029200" cy="0"/>
          </a:xfrm>
          <a:prstGeom prst="line">
            <a:avLst/>
          </a:prstGeom>
          <a:ln w="9360">
            <a:solidFill>
              <a:srgbClr val="dcf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6"/>
          <p:cNvSpPr/>
          <p:nvPr/>
        </p:nvSpPr>
        <p:spPr>
          <a:xfrm>
            <a:off x="3657600" y="5943600"/>
            <a:ext cx="5029200" cy="0"/>
          </a:xfrm>
          <a:prstGeom prst="line">
            <a:avLst/>
          </a:prstGeom>
          <a:ln w="9360">
            <a:solidFill>
              <a:srgbClr val="dcf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7"/>
          <p:cNvSpPr/>
          <p:nvPr/>
        </p:nvSpPr>
        <p:spPr>
          <a:xfrm>
            <a:off x="3657600" y="6172200"/>
            <a:ext cx="5029200" cy="0"/>
          </a:xfrm>
          <a:prstGeom prst="line">
            <a:avLst/>
          </a:prstGeom>
          <a:ln w="9360">
            <a:solidFill>
              <a:srgbClr val="dcf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971640" y="260280"/>
            <a:ext cx="628560" cy="1828800"/>
            <a:chOff x="971640" y="260280"/>
            <a:chExt cx="628560" cy="1828800"/>
          </a:xfrm>
        </p:grpSpPr>
        <p:pic>
          <p:nvPicPr>
            <p:cNvPr id="10" name="Picture 29" descr="03"/>
            <p:cNvPicPr/>
            <p:nvPr/>
          </p:nvPicPr>
          <p:blipFill>
            <a:blip r:embed="rId5"/>
            <a:stretch/>
          </p:blipFill>
          <p:spPr>
            <a:xfrm>
              <a:off x="971640" y="260280"/>
              <a:ext cx="384120" cy="61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30" descr="04"/>
            <p:cNvPicPr/>
            <p:nvPr/>
          </p:nvPicPr>
          <p:blipFill>
            <a:blip r:embed="rId6"/>
            <a:stretch/>
          </p:blipFill>
          <p:spPr>
            <a:xfrm>
              <a:off x="1203480" y="1454040"/>
              <a:ext cx="396720" cy="635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" name="Picture 34" descr="06"/>
          <p:cNvPicPr/>
          <p:nvPr/>
        </p:nvPicPr>
        <p:blipFill>
          <a:blip r:embed="rId7"/>
          <a:stretch/>
        </p:blipFill>
        <p:spPr>
          <a:xfrm>
            <a:off x="3657600" y="4884840"/>
            <a:ext cx="2971800" cy="204948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1"/>
          <p:cNvSpPr>
            <a:spLocks noGrp="1"/>
          </p:cNvSpPr>
          <p:nvPr>
            <p:ph type="body"/>
          </p:nvPr>
        </p:nvSpPr>
        <p:spPr>
          <a:xfrm>
            <a:off x="428400" y="857160"/>
            <a:ext cx="8258040" cy="55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12A6-9698-4026-9889-E527196041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8127-2E60-451E-92DB-0E88DF8886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4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" Target="slide29.xm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5.xm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6.xml"/><Relationship Id="rId3" Type="http://schemas.openxmlformats.org/officeDocument/2006/relationships/slide" Target="slide37.xml"/><Relationship Id="rId4" Type="http://schemas.openxmlformats.org/officeDocument/2006/relationships/slide" Target="slide38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539880" y="907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思想政治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5364000" y="1197000"/>
            <a:ext cx="3170520" cy="9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3564000" y="2852640"/>
            <a:ext cx="55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树立正确的消费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429000" y="161352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必修一第一单元第三课第二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28600" y="1125360"/>
            <a:ext cx="89154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人无我有是求异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人有我有是从众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人有我优是攀比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理智实惠是求实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189000"/>
            <a:ext cx="541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巧记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820000" y="6597720"/>
            <a:ext cx="216000" cy="71280"/>
          </a:xfrm>
          <a:prstGeom prst="rightArrow">
            <a:avLst>
              <a:gd name="adj1" fmla="val 50000"/>
              <a:gd name="adj2" fmla="val 75758"/>
            </a:avLst>
          </a:prstGeom>
          <a:solidFill>
            <a:srgbClr val="ad6d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3300"/>
                </a:solidFill>
                <a:latin typeface="黑体"/>
                <a:ea typeface="黑体"/>
              </a:rPr>
              <a:t>〖</a:t>
            </a:r>
            <a:r>
              <a:rPr b="1" lang="zh-CN" sz="4600" spc="-1" strike="noStrike">
                <a:solidFill>
                  <a:srgbClr val="ff3300"/>
                </a:solidFill>
                <a:latin typeface="黑体"/>
                <a:ea typeface="黑体"/>
              </a:rPr>
              <a:t>预习检测</a:t>
            </a:r>
            <a:r>
              <a:rPr b="1" lang="en-US" sz="4600" spc="-1" strike="noStrike">
                <a:solidFill>
                  <a:srgbClr val="ff3300"/>
                </a:solidFill>
                <a:latin typeface="黑体"/>
                <a:ea typeface="黑体"/>
              </a:rPr>
              <a:t>〗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、人们的消费行为受哪些心理因素的影响</a:t>
            </a:r>
            <a:r>
              <a:rPr b="1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en-US" sz="4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200" spc="-1" strike="noStrike">
                <a:solidFill>
                  <a:srgbClr val="0000ff"/>
                </a:solidFill>
                <a:latin typeface="黑体"/>
                <a:ea typeface="黑体"/>
              </a:rPr>
              <a:t>、我们要做理智的消费者，必须遵循哪些消费原则（消费观）？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28400" y="857160"/>
            <a:ext cx="8258040" cy="55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44280"/>
            <a:ext cx="777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ahoma"/>
                <a:ea typeface="黑体"/>
              </a:rPr>
              <a:t>（二）做理智的消费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1773360"/>
            <a:ext cx="58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量出为入，适度消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2565360"/>
            <a:ext cx="59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避免盲从，理性消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4360" y="3303720"/>
            <a:ext cx="607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保护环境，绿色消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4022640"/>
            <a:ext cx="590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勤俭节约，艰苦奋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>
            <a:hlinkClick r:id="rId1"/>
          </p:cNvPr>
          <p:cNvSpPr/>
          <p:nvPr/>
        </p:nvSpPr>
        <p:spPr>
          <a:xfrm>
            <a:off x="181080" y="9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量入为出，适度消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30240" y="44280"/>
            <a:ext cx="913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黑体"/>
              </a:rPr>
              <a:t>（二）做理智的消费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34920" y="1844640"/>
            <a:ext cx="907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要求：在自己的经济承受能力之内进行消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0" y="3429000"/>
            <a:ext cx="8153280" cy="2638080"/>
            <a:chOff x="0" y="3429000"/>
            <a:chExt cx="8153280" cy="2638080"/>
          </a:xfrm>
        </p:grpSpPr>
        <p:sp>
          <p:nvSpPr>
            <p:cNvPr id="160" name=""/>
            <p:cNvSpPr/>
            <p:nvPr/>
          </p:nvSpPr>
          <p:spPr>
            <a:xfrm>
              <a:off x="1860120" y="3632400"/>
              <a:ext cx="6086880" cy="1043640"/>
            </a:xfrm>
            <a:custGeom>
              <a:avLst/>
              <a:gdLst>
                <a:gd name="textAreaLeft" fmla="*/ 1065240 w 6086880"/>
                <a:gd name="textAreaRight" fmla="*/ 4413240 w 6086880"/>
                <a:gd name="textAreaTop" fmla="*/ 139680 h 1043640"/>
                <a:gd name="textAreaBottom" fmla="*/ 903960 h 104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华文琥珀"/>
                  <a:ea typeface="华文琥珀"/>
                </a:rPr>
                <a:t>  </a:t>
              </a:r>
              <a:r>
                <a:rPr b="0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量</a:t>
              </a:r>
              <a:r>
                <a:rPr b="0" lang="zh-CN" sz="4000" spc="-1" strike="noStrike" u="sng">
                  <a:solidFill>
                    <a:srgbClr val="ff0000"/>
                  </a:solidFill>
                  <a:uFillTx/>
                  <a:latin typeface="黑体"/>
                  <a:ea typeface="黑体"/>
                </a:rPr>
                <a:t>入</a:t>
              </a:r>
              <a:r>
                <a:rPr b="0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为出，适度消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86000" y="4764240"/>
              <a:ext cx="4114800" cy="632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000" y="3600"/>
                  </a:moveTo>
                  <a:lnTo>
                    <a:pt x="22108" y="3600"/>
                  </a:lnTo>
                  <a:lnTo>
                    <a:pt x="22108" y="-3600"/>
                  </a:lnTo>
                  <a:lnTo>
                    <a:pt x="5600" y="-10800"/>
                  </a:lnTo>
                </a:path>
              </a:pathLst>
            </a:custGeom>
            <a:solidFill>
              <a:srgbClr val="5fb5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38280" y="4904640"/>
              <a:ext cx="3886200" cy="398880"/>
            </a:xfrm>
            <a:prstGeom prst="rect">
              <a:avLst/>
            </a:prstGeom>
            <a:solidFill>
              <a:srgbClr val="5fb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这里的“入”</a:t>
              </a:r>
              <a:r>
                <a:rPr b="1" lang="en-US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=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当前收入</a:t>
              </a:r>
              <a:r>
                <a:rPr b="1" lang="en-US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+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未来收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>
              <a:off x="6400800" y="4623480"/>
              <a:ext cx="1752480" cy="14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 txBox="1"/>
            <p:nvPr/>
          </p:nvSpPr>
          <p:spPr>
            <a:xfrm>
              <a:off x="0" y="3429000"/>
              <a:ext cx="2857680" cy="70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宋体"/>
                </a:rPr>
                <a:t>温馨提示：</a:t>
              </a:r>
              <a:endParaRPr b="0" lang="en-US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0" t="4258" r="0" b="0"/>
          <a:stretch/>
        </p:blipFill>
        <p:spPr>
          <a:xfrm>
            <a:off x="0" y="0"/>
            <a:ext cx="4427640" cy="6676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16720" y="4941720"/>
            <a:ext cx="24480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黑体"/>
              </a:rPr>
              <a:t>超前消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050920" y="31417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果戈里的小说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死灵魂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有个人物叫泼留希金，他积攒了很多的钱财却不消费，钱锁在箱子里，以至纸币霉烂变质，用手一碰就化为灰，地窖的面粉硬的像石头，要用斧子去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Object 3" descr=""/>
          <p:cNvPicPr/>
          <p:nvPr/>
        </p:nvPicPr>
        <p:blipFill>
          <a:blip r:embed="rId1"/>
          <a:stretch/>
        </p:blipFill>
        <p:spPr>
          <a:xfrm>
            <a:off x="395280" y="3789360"/>
            <a:ext cx="1371600" cy="175248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4"/>
          <p:cNvSpPr/>
          <p:nvPr/>
        </p:nvSpPr>
        <p:spPr>
          <a:xfrm>
            <a:off x="571680" y="357120"/>
            <a:ext cx="4214520" cy="2210040"/>
          </a:xfrm>
          <a:prstGeom prst="cloudCallout">
            <a:avLst>
              <a:gd name="adj1" fmla="val -25115"/>
              <a:gd name="adj2" fmla="val 94611"/>
            </a:avLst>
          </a:prstGeom>
          <a:gradFill rotWithShape="0">
            <a:gsLst>
              <a:gs pos="0">
                <a:srgbClr val="68b8e4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189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i="1" lang="zh-CN" sz="4800" spc="-1" strike="noStrike">
                <a:solidFill>
                  <a:srgbClr val="ff3300"/>
                </a:solidFill>
                <a:latin typeface="Times New Roman"/>
              </a:rPr>
              <a:t>启示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保密局"/>
          <p:cNvPicPr/>
          <p:nvPr/>
        </p:nvPicPr>
        <p:blipFill>
          <a:blip r:embed="rId2"/>
          <a:stretch/>
        </p:blipFill>
        <p:spPr>
          <a:xfrm>
            <a:off x="6877080" y="907920"/>
            <a:ext cx="1981080" cy="1663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money"/>
          <p:cNvPicPr/>
          <p:nvPr/>
        </p:nvPicPr>
        <p:blipFill>
          <a:blip r:embed="rId3"/>
          <a:stretch/>
        </p:blipFill>
        <p:spPr>
          <a:xfrm>
            <a:off x="4716360" y="1052640"/>
            <a:ext cx="1552680" cy="1676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556000" y="2637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抑制消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63720" y="34830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适度消费      抑制消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429264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过于紧缩消费会使人们的需求得不到满足，也不利于推动社会生产的发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40240" y="3284640"/>
            <a:ext cx="64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</a:rPr>
              <a:t>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595008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适度消费既不超前消费也不抑制消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42920" y="3319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适度消费      超前消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19800" y="115920"/>
            <a:ext cx="64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</a:rPr>
              <a:t>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1125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超前消费也叫过度消费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指超出自己的经济承受能力的消费。这种消费行为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缺乏理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具有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盲目性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容易助长攀比之风和浪费现象，于己于国是不利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75640" cy="60418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5589720"/>
            <a:ext cx="9396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材料：作为一般的工薪家庭，这对夫妻是否应该看到打折就购买玉器和珠宝？这给我们什么启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11280" y="836640"/>
            <a:ext cx="81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结论：不应该，因为打折而冲动购买自己不需要的商品，属于盲目消费。启示我们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356000" y="314172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d6d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24000" y="386064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避免盲从，理性消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508040" y="86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3733920"/>
            <a:ext cx="8762760" cy="2666880"/>
            <a:chOff x="0" y="3733920"/>
            <a:chExt cx="8762760" cy="2666880"/>
          </a:xfrm>
        </p:grpSpPr>
        <p:sp>
          <p:nvSpPr>
            <p:cNvPr id="188" name=""/>
            <p:cNvSpPr/>
            <p:nvPr/>
          </p:nvSpPr>
          <p:spPr>
            <a:xfrm>
              <a:off x="0" y="4586400"/>
              <a:ext cx="1769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避免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6200000">
              <a:off x="815040" y="4688280"/>
              <a:ext cx="2666880" cy="7581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5fb5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69400" y="4800600"/>
              <a:ext cx="589680" cy="304920"/>
            </a:xfrm>
            <a:prstGeom prst="rect">
              <a:avLst/>
            </a:prstGeom>
            <a:solidFill>
              <a:srgbClr val="5fb5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43320" y="3733920"/>
              <a:ext cx="229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盲目跟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43320" y="4648320"/>
              <a:ext cx="2780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情绪化消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27560" y="5715000"/>
              <a:ext cx="623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只重物质消费，忽视精神消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0" y="1197000"/>
            <a:ext cx="7696080" cy="2044440"/>
            <a:chOff x="0" y="1197000"/>
            <a:chExt cx="7696080" cy="2044440"/>
          </a:xfrm>
        </p:grpSpPr>
        <p:sp>
          <p:nvSpPr>
            <p:cNvPr id="195" name=""/>
            <p:cNvSpPr/>
            <p:nvPr/>
          </p:nvSpPr>
          <p:spPr>
            <a:xfrm>
              <a:off x="4511520" y="2416320"/>
              <a:ext cx="238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8a858"/>
                  </a:solidFill>
                  <a:latin typeface="黑体"/>
                  <a:ea typeface="黑体"/>
                </a:rPr>
                <a:t>“</a:t>
              </a:r>
              <a:r>
                <a:rPr b="0" lang="zh-CN" sz="4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三个避免</a:t>
              </a:r>
              <a:r>
                <a:rPr b="0" lang="zh-CN" sz="4800" spc="-1" strike="noStrike">
                  <a:solidFill>
                    <a:srgbClr val="f8a858"/>
                  </a:solidFill>
                  <a:latin typeface="黑体"/>
                  <a:ea typeface="黑体"/>
                </a:rPr>
                <a:t>”</a:t>
              </a: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>
              <a:off x="0" y="1197000"/>
              <a:ext cx="285768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宋体"/>
                </a:rPr>
                <a:t>温馨提示：</a:t>
              </a:r>
              <a:endParaRPr b="0" lang="en-US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146988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8a858"/>
                  </a:solidFill>
                  <a:latin typeface="Arial"/>
                  <a:ea typeface="黑体"/>
                </a:rPr>
                <a:t>在消费过程中应注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86600" y="1882800"/>
              <a:ext cx="609480" cy="990720"/>
            </a:xfrm>
            <a:custGeom>
              <a:avLst/>
              <a:gdLst>
                <a:gd name="textAreaLeft" fmla="*/ 81360 w 609480"/>
                <a:gd name="textAreaRight" fmla="*/ 528120 w 609480"/>
                <a:gd name="textAreaTop" fmla="*/ 173160 h 990720"/>
                <a:gd name="textAreaBottom" fmla="*/ 71820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ad6d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>
            <a:hlinkClick r:id="rId1"/>
          </p:cNvPr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、避免盲从，理性消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867280" y="3284640"/>
            <a:ext cx="30258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42920" y="115560"/>
            <a:ext cx="3095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学习目标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315200" y="914400"/>
            <a:ext cx="1547640" cy="1233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04920" y="1273320"/>
            <a:ext cx="8299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识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四种主要的消费心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理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何评价各种消费心理；如何践行正确的消费原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运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运用所学知识分析身边的消费现象，并能根据自己的实际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制定科学的消费计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815328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7301"/>
                </a:moveTo>
                <a:lnTo>
                  <a:pt x="19090" y="7301"/>
                </a:lnTo>
                <a:lnTo>
                  <a:pt x="19473" y="7667"/>
                </a:lnTo>
                <a:lnTo>
                  <a:pt x="28682" y="7667"/>
                </a:lnTo>
                <a:lnTo>
                  <a:pt x="29239" y="8224"/>
                </a:lnTo>
                <a:lnTo>
                  <a:pt x="29239" y="8772"/>
                </a:lnTo>
                <a:lnTo>
                  <a:pt x="31084" y="8772"/>
                </a:lnTo>
                <a:lnTo>
                  <a:pt x="31450" y="8224"/>
                </a:lnTo>
                <a:lnTo>
                  <a:pt x="32190" y="8224"/>
                </a:lnTo>
                <a:lnTo>
                  <a:pt x="32190" y="13376"/>
                </a:lnTo>
                <a:lnTo>
                  <a:pt x="31450" y="13376"/>
                </a:lnTo>
                <a:lnTo>
                  <a:pt x="31084" y="12828"/>
                </a:lnTo>
                <a:lnTo>
                  <a:pt x="29239" y="12828"/>
                </a:lnTo>
                <a:lnTo>
                  <a:pt x="29239" y="14107"/>
                </a:lnTo>
                <a:lnTo>
                  <a:pt x="19656" y="14107"/>
                </a:lnTo>
                <a:lnTo>
                  <a:pt x="19656" y="9877"/>
                </a:lnTo>
                <a:lnTo>
                  <a:pt x="19473" y="9877"/>
                </a:lnTo>
                <a:lnTo>
                  <a:pt x="19090" y="10243"/>
                </a:lnTo>
                <a:lnTo>
                  <a:pt x="18177" y="10243"/>
                </a:lnTo>
                <a:close/>
              </a:path>
            </a:pathLst>
          </a:custGeom>
          <a:solidFill>
            <a:srgbClr val="ad6d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8" dur="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94920" y="836640"/>
            <a:ext cx="8258040" cy="55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        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思考：视频中提到人们的消费亮点是什么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63640" y="299736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保护环境，绿色消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>
            <a:hlinkClick r:id="rId1"/>
          </p:cNvPr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、保护环境，绿色消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716280"/>
            <a:ext cx="102870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）绿色消费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主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                                   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）绿色消费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核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76320" y="4365720"/>
            <a:ext cx="633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保护消费者的健康和节约资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01600" y="5824440"/>
            <a:ext cx="303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可持续性消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05264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绿色消费的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含义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175248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保护消费者健康和节约资源为主旨，符合人的健康和环境保护标准的各种消费行为的总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2971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绿色消费   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R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16160" y="1549440"/>
            <a:ext cx="76849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节约资源，减少污染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educe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绿色生活，环保选购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Reevaluate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重复使用，多次利用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Reuse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类收回，循环再生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Recycle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保护自然，万物共存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Rescuse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09880" y="1828800"/>
            <a:ext cx="228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08000" y="1557360"/>
            <a:ext cx="381240" cy="4038480"/>
          </a:xfrm>
          <a:custGeom>
            <a:avLst/>
            <a:gdLst>
              <a:gd name="textAreaLeft" fmla="*/ 243720 w 381240"/>
              <a:gd name="textAreaRight" fmla="*/ 381600 w 38124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11280" y="4428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我们日常生活中，哪些行为符合绿色消费原则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4360" y="1341360"/>
            <a:ext cx="820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离开房间时要随手关灯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使用可回收材质包装的商品，少买其他包装的商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不使用浪费资源或会造成环境污染的产品（如发泡塑料餐盒、一次性木筷等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实行垃圾分类处理，注意废纸、铝罐、铁罐、塑胶罐等再生垃圾不能随意丢弃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多用再生纸及其他可以循环再生的产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尽量用蓄电池或可充电的电池，少用普通电池。旧电池应回收，切勿随意丢弃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商店购物拒绝不必要的塑料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rcRect l="0" t="0" r="10146" b="14189"/>
          <a:stretch/>
        </p:blipFill>
        <p:spPr>
          <a:xfrm>
            <a:off x="380880" y="228600"/>
            <a:ext cx="4876920" cy="3168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18" name="" descr=""/>
          <p:cNvPicPr/>
          <p:nvPr/>
        </p:nvPicPr>
        <p:blipFill>
          <a:blip r:embed="rId2"/>
          <a:srcRect l="0" t="0" r="0" b="12331"/>
          <a:stretch/>
        </p:blipFill>
        <p:spPr>
          <a:xfrm>
            <a:off x="304920" y="3589200"/>
            <a:ext cx="4997160" cy="30402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19" name=""/>
          <p:cNvSpPr/>
          <p:nvPr/>
        </p:nvSpPr>
        <p:spPr>
          <a:xfrm>
            <a:off x="4559400" y="3808440"/>
            <a:ext cx="68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fcde"/>
                </a:solidFill>
                <a:latin typeface="宋体"/>
              </a:rPr>
              <a:t>豪华坟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92720" y="476280"/>
            <a:ext cx="385128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有人认为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现在是什么时代了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有钱想怎么花就怎么花，还讲勤俭节约、艰苦奋斗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你认同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96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为什么要提倡勤俭节约，艰苦奋斗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8000" y="1116000"/>
            <a:ext cx="8977320" cy="47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1)(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历史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勤俭节约、艰苦奋斗是中华民族的传统美德和民族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8000" y="2031840"/>
            <a:ext cx="8977320" cy="47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2)(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个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个没有艰苦奋斗精神的人，难以战胜困难，成就事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6680" y="2997360"/>
            <a:ext cx="8977320" cy="47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3)(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国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国是一个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发展中的人口大国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更要戒奢从俭，一个没有艰苦奋斗精神作支撑的民族，难以自立自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6000" y="4653000"/>
            <a:ext cx="8893080" cy="47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结论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艰苦奋斗作为一种精神财富，任何时候都应该发扬光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508040" y="86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rId1"/>
          </p:cNvPr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、勤俭节约，艰苦奋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6372360" cy="44956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781320" y="2492280"/>
            <a:ext cx="1826280" cy="40323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艰苦奋斗为荣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骄奢淫逸为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121932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rId4" action="ppaction://hlinksldjump"/>
          </p:cNvPr>
          <p:cNvSpPr/>
          <p:nvPr/>
        </p:nvSpPr>
        <p:spPr>
          <a:xfrm>
            <a:off x="8748720" y="6669000"/>
            <a:ext cx="395280" cy="189000"/>
          </a:xfrm>
          <a:prstGeom prst="rightArrow">
            <a:avLst>
              <a:gd name="adj1" fmla="val 50000"/>
              <a:gd name="adj2" fmla="val 52286"/>
            </a:avLst>
          </a:prstGeom>
          <a:solidFill>
            <a:srgbClr val="ad6d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95280" y="1341360"/>
            <a:ext cx="93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勤俭节约与我们提倡的适度消费是否矛盾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8920" y="234936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它们是一致的。适度消费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反对超前消费而不抑制消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，勤俭节约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反对铺张浪费但不限制消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。因此，不能把艰苦奋斗、勤俭节约理解为对消费的限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51640" y="5013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名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900000" y="404640"/>
            <a:ext cx="20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想一想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wheel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79280" y="560520"/>
            <a:ext cx="8964720" cy="59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11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东北育才一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人们通常把尽可能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少二氧化碳排放的生活方式称为低碳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低碳生活离我们很近，把白炽灯换成节能灯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使用环保购物袋、教材循环使用、废物再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用等都能减少二氧化碳排放。这说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消费行为会对社会经济产生影响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家庭要超前消费，防止消费滞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要改变消费习惯，提倡绿色消费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低碳生活会导致消费水平的降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．①②　　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．③④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．①④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．①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96360" y="2565360"/>
            <a:ext cx="23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-146160" y="0"/>
            <a:ext cx="395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〖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对点练习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3300"/>
                </a:solidFill>
                <a:latin typeface="黑体"/>
                <a:ea typeface="黑体"/>
              </a:rPr>
              <a:t>〖</a:t>
            </a:r>
            <a:r>
              <a:rPr b="1" lang="zh-CN" sz="4600" spc="-1" strike="noStrike">
                <a:solidFill>
                  <a:srgbClr val="ff3300"/>
                </a:solidFill>
                <a:latin typeface="黑体"/>
                <a:ea typeface="黑体"/>
              </a:rPr>
              <a:t>预习检测</a:t>
            </a:r>
            <a:r>
              <a:rPr b="1" lang="en-US" sz="4600" spc="-1" strike="noStrike">
                <a:solidFill>
                  <a:srgbClr val="ff3300"/>
                </a:solidFill>
                <a:latin typeface="黑体"/>
                <a:ea typeface="黑体"/>
              </a:rPr>
              <a:t>〗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、人们的消费行为受哪些心理因素的影响</a:t>
            </a:r>
            <a:r>
              <a:rPr b="1" lang="en-US" sz="4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228240" y="43920"/>
            <a:ext cx="8915400" cy="59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11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冀州一模）时下，在许多大城市出现 了“酷抠族”。“酷抠族”是指拥有较高学历、较高收入的人群，他们精打细算，摈弃奢侈消费；他们关注打折信息、购买特价商品、打包吃剩饭菜、与人拼车出行……用最少的钱获取最大的满足感。“酷抠族”用自己的行为诠释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适度消费的理念和主张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②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超前消费的理念和主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抑制消费的理念和主张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④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节俭消费的理念和主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．①②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．①④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. ②③   D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．③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63640" y="2852640"/>
            <a:ext cx="261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-106560" y="115560"/>
            <a:ext cx="917388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岁的安徽小伙子小郑，是安徽淮山人，今年才上高一。他在网上接触到一个卖肾的中介，卖肾中介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万元做诱饵，带他到湖南郴州一医院进行了摘除手术。一个月过去了，小郑的身体每况愈下，现在他追悔莫及。小郑卖肾的初衷是“当时想要买一个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ipad2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，但是没钱。”卖肾之后，小郑买了笔记本电脑、苹果手机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请结合本课知识分析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）小郑的行为体现了什么消费心理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从众心理、攀比心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）作为中学生的我们，应该树立怎样的消费观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748720" y="652464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solidFill>
            <a:srgbClr val="ad6d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9960" y="555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190512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通过学习这一节课，你收获了什么？懂得了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24320" y="0"/>
            <a:ext cx="209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黑体"/>
              </a:rPr>
              <a:t>〖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自我总结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黑体"/>
              </a:rPr>
              <a:t>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539640" y="4149720"/>
            <a:ext cx="835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2920" y="1125360"/>
            <a:ext cx="810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42920" y="549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-468000" y="1447920"/>
            <a:ext cx="127764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0000"/>
                </a:solidFill>
                <a:latin typeface="Tahoma"/>
                <a:ea typeface="黑体"/>
              </a:rPr>
              <a:t>树立正确的消费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84360" y="1413000"/>
            <a:ext cx="649080" cy="4392360"/>
          </a:xfrm>
          <a:custGeom>
            <a:avLst/>
            <a:gdLst>
              <a:gd name="textAreaLeft" fmla="*/ 414720 w 649080"/>
              <a:gd name="textAreaRight" fmla="*/ 649440 w 649080"/>
              <a:gd name="textAreaTop" fmla="*/ 114480 h 4392360"/>
              <a:gd name="textAreaBottom" fmla="*/ 4277880 h 43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03280" y="105264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0000"/>
                </a:solidFill>
                <a:latin typeface="Tahoma"/>
                <a:ea typeface="黑体"/>
              </a:rPr>
              <a:t>消费心理面面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476360" y="4437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0000"/>
                </a:solidFill>
                <a:latin typeface="Tahoma"/>
                <a:ea typeface="黑体"/>
              </a:rPr>
              <a:t>做理智的消费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48000" y="549360"/>
            <a:ext cx="504720" cy="2270160"/>
          </a:xfrm>
          <a:custGeom>
            <a:avLst/>
            <a:gdLst>
              <a:gd name="textAreaLeft" fmla="*/ 322560 w 504720"/>
              <a:gd name="textAreaRight" fmla="*/ 505080 w 504720"/>
              <a:gd name="textAreaTop" fmla="*/ 59040 h 2270160"/>
              <a:gd name="textAreaBottom" fmla="*/ 2211120 h 227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3886200"/>
            <a:ext cx="432000" cy="2085840"/>
          </a:xfrm>
          <a:custGeom>
            <a:avLst/>
            <a:gdLst>
              <a:gd name="textAreaLeft" fmla="*/ 276120 w 432000"/>
              <a:gd name="textAreaRight" fmla="*/ 432360 w 432000"/>
              <a:gd name="textAreaTop" fmla="*/ 54360 h 2085840"/>
              <a:gd name="textAreaBottom" fmla="*/ 2031480 h 208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80000" y="47628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40000"/>
                </a:solidFill>
                <a:latin typeface="黑体"/>
                <a:ea typeface="黑体"/>
              </a:rPr>
              <a:t>、从众心理引发的消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80000" y="1052640"/>
            <a:ext cx="52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40000"/>
                </a:solidFill>
                <a:latin typeface="黑体"/>
                <a:ea typeface="黑体"/>
              </a:rPr>
              <a:t>、求异心理引发的消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80000" y="162864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40000"/>
                </a:solidFill>
                <a:latin typeface="黑体"/>
                <a:ea typeface="黑体"/>
              </a:rPr>
              <a:t>、攀比心理引发的消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80000" y="227664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40000"/>
                </a:solidFill>
                <a:latin typeface="黑体"/>
                <a:ea typeface="黑体"/>
              </a:rPr>
              <a:t>、求实心理引发的消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08360" y="357336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40000"/>
                </a:solidFill>
                <a:latin typeface="黑体"/>
                <a:ea typeface="黑体"/>
              </a:rPr>
              <a:t>、量出为入，适度消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08360" y="414972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40000"/>
                </a:solidFill>
                <a:latin typeface="黑体"/>
                <a:ea typeface="黑体"/>
              </a:rPr>
              <a:t>、避免盲从，理性消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80000" y="479736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40000"/>
                </a:solidFill>
                <a:latin typeface="黑体"/>
                <a:ea typeface="黑体"/>
              </a:rPr>
              <a:t>、保护环境，绿色消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780000" y="5445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40000"/>
                </a:solidFill>
                <a:latin typeface="黑体"/>
                <a:ea typeface="黑体"/>
              </a:rPr>
              <a:t>、勤俭节约，艰苦奋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课堂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2438280" y="609480"/>
            <a:ext cx="39625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dcfcde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课后实践题</a:t>
            </a:r>
            <a:endParaRPr b="1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dcfcde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68" name=""/>
          <p:cNvSpPr/>
          <p:nvPr/>
        </p:nvSpPr>
        <p:spPr>
          <a:xfrm>
            <a:off x="914400" y="2362320"/>
            <a:ext cx="79786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根据所学知识，设计一份个人消费的月度计划（假定你一个月有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30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元零用钱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392720" cy="5327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643280" y="189000"/>
            <a:ext cx="4321440" cy="5256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788000" y="573408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抢购莫言作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rId3" action="ppaction://hlinksldjump"/>
          </p:cNvPr>
          <p:cNvSpPr/>
          <p:nvPr/>
        </p:nvSpPr>
        <p:spPr>
          <a:xfrm>
            <a:off x="8317080" y="6453360"/>
            <a:ext cx="576000" cy="215640"/>
          </a:xfrm>
          <a:prstGeom prst="leftArrow">
            <a:avLst>
              <a:gd name="adj1" fmla="val 50000"/>
              <a:gd name="adj2" fmla="val 66778"/>
            </a:avLst>
          </a:prstGeom>
          <a:solidFill>
            <a:srgbClr val="ad6d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4392720" cy="5589720"/>
          </a:xfrm>
          <a:prstGeom prst="rect">
            <a:avLst/>
          </a:prstGeom>
          <a:ln w="0">
            <a:noFill/>
          </a:ln>
        </p:spPr>
      </p:pic>
      <p:sp>
        <p:nvSpPr>
          <p:cNvPr id="274" name="">
            <a:hlinkClick r:id="rId2" action="ppaction://hlinksldjump"/>
          </p:cNvPr>
          <p:cNvSpPr/>
          <p:nvPr/>
        </p:nvSpPr>
        <p:spPr>
          <a:xfrm>
            <a:off x="8532720" y="6524640"/>
            <a:ext cx="432000" cy="2160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ad6d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4788000" y="0"/>
            <a:ext cx="4176720" cy="58053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788000" y="5300640"/>
            <a:ext cx="43560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19440" y="6021360"/>
            <a:ext cx="26312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求异心理惹得“高回头率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87200" y="6021360"/>
            <a:ext cx="2204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追求个性的“汉服妹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28400" y="857160"/>
            <a:ext cx="8258040" cy="55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-34920" y="44280"/>
            <a:ext cx="9145440" cy="5689800"/>
          </a:xfrm>
          <a:prstGeom prst="rect">
            <a:avLst/>
          </a:prstGeom>
          <a:ln w="0">
            <a:noFill/>
          </a:ln>
        </p:spPr>
      </p:pic>
      <p:sp>
        <p:nvSpPr>
          <p:cNvPr id="282" name="">
            <a:hlinkClick r:id="rId2" action="ppaction://hlinksldjump"/>
          </p:cNvPr>
          <p:cNvSpPr/>
          <p:nvPr/>
        </p:nvSpPr>
        <p:spPr>
          <a:xfrm>
            <a:off x="8244000" y="6381720"/>
            <a:ext cx="720720" cy="476280"/>
          </a:xfrm>
          <a:prstGeom prst="leftArrow">
            <a:avLst>
              <a:gd name="adj1" fmla="val 50000"/>
              <a:gd name="adj2" fmla="val 37831"/>
            </a:avLst>
          </a:prstGeom>
          <a:solidFill>
            <a:srgbClr val="ad6d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95280" y="537372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隶书"/>
              </a:rPr>
              <a:t>抓住了人们什么心理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rId2" action="ppaction://hlinksldjump"/>
          </p:cNvPr>
          <p:cNvSpPr/>
          <p:nvPr/>
        </p:nvSpPr>
        <p:spPr>
          <a:xfrm>
            <a:off x="8317080" y="6453360"/>
            <a:ext cx="576000" cy="404640"/>
          </a:xfrm>
          <a:prstGeom prst="leftArrow">
            <a:avLst>
              <a:gd name="adj1" fmla="val 50000"/>
              <a:gd name="adj2" fmla="val 35587"/>
            </a:avLst>
          </a:prstGeom>
          <a:solidFill>
            <a:srgbClr val="ad6d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5520" cy="89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（一）消费心理面面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1557360"/>
            <a:ext cx="675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从众心理引发的消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2346480"/>
            <a:ext cx="77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求异心理引发的消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6920" y="3141720"/>
            <a:ext cx="697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攀比心理引发的消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3933720"/>
            <a:ext cx="675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求实心理引发的消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5084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各种消费心理有何特征、如何评价？对待它应秉持什么样的态度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79280" y="841320"/>
          <a:ext cx="8713800" cy="5611680"/>
        </p:xfrm>
        <a:graphic>
          <a:graphicData uri="http://schemas.openxmlformats.org/drawingml/2006/table">
            <a:tbl>
              <a:tblPr/>
              <a:tblGrid>
                <a:gridCol w="863640"/>
                <a:gridCol w="2665440"/>
                <a:gridCol w="1800000"/>
                <a:gridCol w="1656000"/>
                <a:gridCol w="172872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324720" y="981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心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04840" y="985680"/>
            <a:ext cx="24591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从众心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35280" y="1004760"/>
            <a:ext cx="166392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求异心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08360" y="333360"/>
            <a:ext cx="183528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04040" y="1004760"/>
            <a:ext cx="166032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攀比心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49960" y="1004760"/>
            <a:ext cx="18147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求实心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1700280"/>
            <a:ext cx="7333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2565360"/>
            <a:ext cx="652320" cy="13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3933720"/>
            <a:ext cx="65232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5445000"/>
            <a:ext cx="6523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态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1116000" y="1844640"/>
            <a:ext cx="24955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跟风随大流（仿效性、重复性、盲目性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1773360"/>
            <a:ext cx="266688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2637000"/>
            <a:ext cx="280836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健康合理的从众心理引发的消费可以带动一个产业的发展。</a:t>
            </a:r>
            <a:r>
              <a:rPr b="1" lang="zh-CN" sz="2000" spc="-1" strike="noStrike">
                <a:solidFill>
                  <a:srgbClr val="6600ff"/>
                </a:solidFill>
                <a:latin typeface="Arial"/>
                <a:ea typeface="Arial"/>
              </a:rPr>
              <a:t>如绿色消费带动绿色产业的发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87280" y="4005360"/>
            <a:ext cx="25084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不健康不合理的从众心理引发的消费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不利于经济的发展和个人的生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58920" y="5445000"/>
            <a:ext cx="2459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具体分析，盲目从众不可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3780000" y="184464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标新立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4360" y="2637000"/>
            <a:ext cx="158436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展示个性、推动新工艺新产品的出现和发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16440" y="4005360"/>
            <a:ext cx="16635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过分标新立异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代价大，社会不一定认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16440" y="5445000"/>
            <a:ext cx="1663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过分标新立异不值得提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5568840" y="1844640"/>
            <a:ext cx="1451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夸耀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盲目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13560" y="4076640"/>
            <a:ext cx="14508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不实用，对个人生活不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80000" y="5445000"/>
            <a:ext cx="1451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不健康的心理 、不可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4" action="ppaction://hlinksldjump"/>
          </p:cNvPr>
          <p:cNvSpPr/>
          <p:nvPr/>
        </p:nvSpPr>
        <p:spPr>
          <a:xfrm>
            <a:off x="7408800" y="1773360"/>
            <a:ext cx="15559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符合实际，讲究实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37520" y="2924280"/>
            <a:ext cx="155556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对个人和社会都有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288200" y="54468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理智的消费，应大力提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4"/>
          <p:cNvSpPr/>
          <p:nvPr/>
        </p:nvSpPr>
        <p:spPr>
          <a:xfrm>
            <a:off x="34920" y="-98280"/>
            <a:ext cx="6527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四种不同的消费心理比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54120" y="1143000"/>
            <a:ext cx="838188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们在购物时，总是追求“物美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廉”。这种消费属于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攀比心理消费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异心理消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实心理消费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从众心理消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076720" y="1773360"/>
            <a:ext cx="8794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C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9" name=""/>
          <p:cNvSpPr/>
          <p:nvPr/>
        </p:nvSpPr>
        <p:spPr>
          <a:xfrm>
            <a:off x="-146160" y="0"/>
            <a:ext cx="395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〖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对点练习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404640"/>
            <a:ext cx="806436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某学校一美术生在炎热的夏天剃了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头，又戴了一顶较厚的帽子，引起其他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异样的目光，学校对他进行批评教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位美术生的做法属于哪种心理引发的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费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攀比心理消费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异心理消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实心理消费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从众心理消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979640" y="2852640"/>
            <a:ext cx="64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B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44480" y="189000"/>
            <a:ext cx="829152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双）某大学一女生认为“修养学识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重要，但是如今的社会就是先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衣冠后敬人，再有修养，如果穿着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上档次，出门吃饭买东西连服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员都不热情，退一步讲，别的同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都有，我要是没有，怎么抬得起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头？”该女生的观点反映了部分学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消费过程中存在着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攀比心理消费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异心理消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实心理消费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从众心理消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508720" y="4365720"/>
            <a:ext cx="72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AD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00000" y="549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攀比心理 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VS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从众心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905120"/>
            <a:ext cx="8604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大家都有，我一定要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从众心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只要有人有，我就一定要有，甚至要更好的。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攀比心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02:13:39Z</dcterms:created>
  <dc:creator>龙帝国精品论坛</dc:creator>
  <dc:description/>
  <cp:keywords/>
  <dc:language>en-US</dc:language>
  <cp:lastModifiedBy>User</cp:lastModifiedBy>
  <dcterms:modified xsi:type="dcterms:W3CDTF">2012-10-21T13:59:07Z</dcterms:modified>
  <cp:revision>340</cp:revision>
  <dc:subject/>
  <dc:title>初中新课标研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42</vt:lpwstr>
  </property>
</Properties>
</file>