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88E-F060-4207-A865-95A9D1C7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508-3CCC-4F40-997F-ECEC4BD1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887-26B8-426F-8280-44F38406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553-7EE1-41A0-9F0C-483CCAE0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5D8-B7D2-4114-8C42-B043F5EE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489-26F6-47BF-B81D-DA95A9F8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7F7-57EE-4EB2-9E64-79A4DE72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0CA-FFDF-432B-BB10-6313BF71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D7C-552F-448E-8FF2-E387B831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998-2F79-4F93-8DEF-3B5A5903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F9B-7B22-4719-88E2-15C3F52C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66B-647B-4424-8005-AAA64F97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4488-F35E-4D53-BF80-EAB82CA2AD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3922"/>
          <a:stretch/>
        </p:blipFill>
        <p:spPr>
          <a:xfrm>
            <a:off x="6031080" y="0"/>
            <a:ext cx="3112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92760"/>
            <a:ext cx="5830920" cy="37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目：中国书画鉴赏的基础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东坡下载站编辑整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选修课以鉴赏和学习中国传统书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主要内容，分段来介绍和学习中国画的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识和笔墨情趣，为学生在学习书画鉴赏时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累一些知识与传承中国画笔墨之时提供一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途径。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3800" y="-23400"/>
            <a:ext cx="23158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鉴赏中国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画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家的作品，可表现出作者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就。画面的形象，就是画工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具体体现，我们往往主观批判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的好与坏，就是受画工的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大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4000" y="2985840"/>
            <a:ext cx="2315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书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画与西方绘画不同之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中一项就是书法。国画画面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常伴有诗句，而诗句是画的灵魂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时候一句题诗如画龙点睛，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生色不少，而画中的书法，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影响画面至大。书法不精的画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多不敢题字，虽然仅具签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亦可窥其功底一二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3331" r="890" b="0"/>
          <a:stretch/>
        </p:blipFill>
        <p:spPr>
          <a:xfrm>
            <a:off x="6156360" y="189000"/>
            <a:ext cx="2665440" cy="26287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2"/>
          <a:srcRect l="1449" t="4082" r="6548" b="0"/>
          <a:stretch/>
        </p:blipFill>
        <p:spPr>
          <a:xfrm>
            <a:off x="6227640" y="3213000"/>
            <a:ext cx="2629080" cy="3500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71440" y="266040"/>
            <a:ext cx="2727360" cy="61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印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面上常见的印章有各方面使用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家的印玺、题字者私章、闲章、收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印章、欣赏印章、鉴证印章等。而各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印章的雕工、印文内容、印章位置，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评价之列。尤其古画，往往有皇帝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名家、藏家及鉴赏家的印鉴，可佐真伪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装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画的装裱独具一格，常见的有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裱、绫裱两大类。纸裱较粗，绫裱较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裱边的颜色、宽窄、衬边、接驳、裱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都十分讲究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内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人欣赏字画不独欣赏表面功夫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着重于与作品有关和作者个人的相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系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1362240" cy="13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56360" y="930240"/>
            <a:ext cx="283824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3960" y="153720"/>
            <a:ext cx="2590200" cy="65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功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事书画修养越久的人，他表现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功力，是初学者无法掌握。尤其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书法，老手多仓劲有力，雄浑生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国画方面，其线条、设计、意景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现出作者的功力。所以人生经验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富的艺术家，其作品往往较年轻画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不同的表现，这就是功力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布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布局看来似是画面的设计，其实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者胸怀中的天地，从画面布局中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现出来。中国画与西方绘画不同的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方甚多，最明显之处就是“留白”，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传统上不加底色，于是留白甚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而疏、密、聚、散称为留白的布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留白之处，有人以书法、诗词、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章等来补白。亦有让其空白，故从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局可见作者独到之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57960" y="115920"/>
            <a:ext cx="3274920" cy="6669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8400" y="366120"/>
            <a:ext cx="2649600" cy="61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学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功力及布局可以从画面窥其一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至于作者的学识，对其作品影响很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故中国有“文人画”之称。著名文人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作品与众不同，就是一种“书卷气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家与画匠之别，学识是条件之一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西方画家，往往浪漫不羁，游戏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间为乐。而欣赏者只观其画而不理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家的私德。中国人不同，画家或书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行为不检、道德败坏、声名狼藉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奸大恶者，即使其书法美术如何精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亦无人问津。试问谁家高悬曹操、秦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奸臣作品，而岳飞的“还我河山”，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山的“天下为公”成为人尽皆知的好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额，就是这个道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19640" y="243000"/>
            <a:ext cx="3529080" cy="2930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84720" y="3341520"/>
            <a:ext cx="3564000" cy="33274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6080" y="482760"/>
            <a:ext cx="289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诗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画中的诗词，往往代表主人的心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句好诗能表现作者的内涵和学养，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句好诗，亦能起到画龙点睛的作用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印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无论字或画，常有“压角”的闲章出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谓闲章就是画面或书法留白的角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而印上的文字，有时影响字画甚大。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印文中也可看到作者的心态，或当时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环境。好的印文，配以好的雕刻刀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盖在字画上，使作品更添光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508720" y="3357720"/>
            <a:ext cx="3270240" cy="3303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973" r="0" b="0"/>
          <a:stretch/>
        </p:blipFill>
        <p:spPr>
          <a:xfrm>
            <a:off x="5508720" y="115920"/>
            <a:ext cx="324000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3:59:58Z</dcterms:created>
  <dc:creator>微软中国</dc:creator>
  <dc:description/>
  <dc:language>en-US</dc:language>
  <cp:lastModifiedBy>Sky123.Org</cp:lastModifiedBy>
  <dcterms:modified xsi:type="dcterms:W3CDTF">2015-10-27T02:20:06Z</dcterms:modified>
  <cp:revision>9</cp:revision>
  <dc:subject/>
  <dc:title>幻灯片 1</dc:title>
</cp:coreProperties>
</file>