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6FD-4D53-4D8C-90C5-B300B4F4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253-1DBE-4CC7-85BF-198CE614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44D-2AE7-468D-BF45-825C9E42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A67-C441-46B9-AC28-2C963A87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4ACA-E4E2-415D-BAAC-055DBD2D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0CF0-78C8-48B3-9EAD-134E7306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F33D-45CA-4400-9DB7-30A64570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67ED-BFEC-4864-80FC-AEEA70A7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4C12-85DC-4365-9E45-1435F2FB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0DC0-46FC-4D15-9DE8-880A2C07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CC8A-43A9-438E-8399-7E059E74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60B-7F3E-4A88-8E5D-663F5990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67ED-E3D9-431A-A8F2-6F02229B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4221-9FE3-4300-BDC2-FBC137E7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C81D-7B3E-4753-A003-9ADF046B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2AAA-EC3F-46A8-B3E3-6BC9569F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A1BD-1B74-47C2-8E11-441D335E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69A-ED20-45D9-B179-7C10BEFE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77F-47EF-494D-A30F-46DC5BE7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293-6F41-4E50-B15B-2452FC93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770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3B6-1C86-4EF4-97B4-47D795FE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FDC-8501-45A0-9C94-62CA27A8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559-2868-4466-A427-41CC8BCD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59E-3AFA-48CC-9725-E5D1934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3BC3-B203-4B69-888D-2EE1C715FCE4}" type="slidenum">
              <a:rPr b="0" lang="zh-CN" sz="14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4437000"/>
            <a:ext cx="701676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F818-0062-4298-900E-17DEB9727E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4437000"/>
            <a:ext cx="701676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16000" y="544500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3:08:28Z</dcterms:created>
  <dc:creator>tshchu</dc:creator>
  <dc:description/>
  <dc:language>en-US</dc:language>
  <cp:lastModifiedBy>未知用户</cp:lastModifiedBy>
  <dcterms:modified xsi:type="dcterms:W3CDTF">2015-11-23T10:42:25Z</dcterms:modified>
  <cp:revision>3</cp:revision>
  <dc:subject/>
  <dc:title>幻灯片 1</dc:title>
</cp:coreProperties>
</file>