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02F-6711-4ED4-976C-20489638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3DB-4B0C-4F50-B50C-51419CAB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5BD-54C6-4746-A15B-ED605C34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4A6-8588-4F11-A299-A6AA1002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60A0-CE64-4993-8E43-B26E0B7C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EC76-BE37-4286-8840-4B75CB97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87C2-1534-4D23-9569-3632DA29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4ABC-EA11-40F9-8FCA-05EA85AC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3CCE-79BB-4496-A532-A44C9E13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B473-3E85-4325-A7BE-121051A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AAFC-09D0-45C0-90EB-7F2B2820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B5F-AB97-4FDF-88BA-E971B6F2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4564-FB1B-498F-B9FF-617E1145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1FB7-9220-433D-A770-018E8D93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9376-35DB-4E3B-8B50-A3E3A20C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793E-D0E5-41D4-B4D2-5D171BA1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1DCF-3135-488D-B816-C231F548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387-AE4B-4CA6-B50A-4B26A301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6E9-FE5B-47DE-9D71-B7BB032B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7B8-2E7B-415B-9091-E89005AF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13D-17C1-4F7E-B1CE-4D223F8E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99A-52F3-422F-8D92-00557AFE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409-3808-435B-B463-11CB9076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D6A-77D6-4142-BFDC-563E9ABF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1781-CBFF-4553-B010-7C7F0190EB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3037-6534-4F89-A063-05FA296471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8020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755640" y="-316080"/>
            <a:ext cx="5904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师恩难忘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五（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2</a:t>
            </a: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）班主题班会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5562720" cy="31924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6585120" y="-92160"/>
            <a:ext cx="26668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932360" y="333360"/>
            <a:ext cx="345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心灵交流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619280" y="2349360"/>
            <a:ext cx="47815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和老师的故事。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332000" y="0"/>
            <a:ext cx="504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不经意的一眸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忽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您就回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一路透镜的微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浮在窗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您叠了只纸鹤握在手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笑容悠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传说天使下界的时候会唱动听的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楷体_GB2312"/>
              </a:rPr>
              <a:t>生命如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您种下了美妙的音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幸福秋风拂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来阵阵天籁之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老师，您如同天使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您的慈善笑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的谆谆教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爱的清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我心灵的河床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永远流淌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7667640" y="404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 rot="5400000">
            <a:off x="5784840" y="2287440"/>
            <a:ext cx="3384720" cy="134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诗朗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作者：郭希雅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11047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250560" y="1044360"/>
            <a:ext cx="8713800" cy="58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头上没有耀眼的光环，没有人把您当做偶像，您一点儿也不遗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您不是英雄，没有讲过一句壮语豪言，惊天地泣鬼神的业绩，离你那样遥远，你的岗位是那样的普通、平凡，选择了教师这一职业，就决定了你只能在三尺的讲台上把自己的人生走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人喝彩的日子里，你把无私奉献的精神默默地实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学生感到空虚时，你会帮他提供丰富的精神美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学生遇到挫折时，你会帮他扬起希望的风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学生失去信心时，你会为他点燃自信的火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学生骄傲自满时，你会帮他找回许下的诺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年三百六十天漫天纷飞的粉笔染白了您的头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脆的铃声长老了您的容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是春天的阳光，每一株小草都沐浴过您的温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是久旱的甘霖，每一颗禾苗都品尝过你的甘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是潺潺的小溪，滋润过你流经的每一寸土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真心的感恩老师，您们辛苦了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909800" y="73080"/>
            <a:ext cx="41022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感恩老师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       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作者：郭晶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5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5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5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5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5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4140360" y="620640"/>
            <a:ext cx="475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絮絮心语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45" name=""/>
          <p:cNvSpPr/>
          <p:nvPr/>
        </p:nvSpPr>
        <p:spPr>
          <a:xfrm>
            <a:off x="7866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语文老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46960" y="1197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数学老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50240" y="1844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英语老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083680" y="2440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体育老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24000" y="3068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音乐老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40000" y="3716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书法老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700360" y="43657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美术老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013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思品老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 rot="5400000">
            <a:off x="5467320" y="3397320"/>
            <a:ext cx="411480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仿宋_GB2312"/>
              </a:rPr>
              <a:t>——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仿宋_GB2312"/>
              </a:rPr>
              <a:t>老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仿宋_GB2312"/>
              <a:ea typeface="仿宋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仿宋_GB2312"/>
              </a:rPr>
              <a:t>我想对您说。。。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仿宋_GB2312"/>
              <a:ea typeface="仿宋_GB2312"/>
            </a:endParaRPr>
          </a:p>
        </p:txBody>
      </p:sp>
    </p:spTree>
  </p:cSld>
  <p:transition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820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男：在我们的心目中，您就是一部写不完的故事，每一天都会有新的开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女：那没有结尾的结尾，总是回味无穷，有时虽然平淡，但平淡也是真，也是美，——如遍布道旁的小花，清香怡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男：在我们的记忆中，您衣着很普通，不潇洒也不华丽，很难捕捉到流行的气息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女：其实，您也在追求一种美，那时智慧与文明的芬芳。每当您的身姿出现在讲台，——比将军还神气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男：一抬手，一投足，都是那么富有感召力。您瞧，几十双眼睛把您注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女：您抑扬顿挫的声音如同山间清泉，叮咚叮咚湿润每个人心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男：您和蔼可亲的笑容恰似严冬的暖流，带来人生的甜蜜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合：踏遍千山万水，历经风风雨雨，不能忘记的就是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女：知识的海洋无边无际，您就像那老练的舵手，带领我们劈风斩浪驶向远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男：也许有一天，我们站在一起，我比您高，但我清醒记得，是您把我高高擎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合：您就是我们敬爱的老师，学生心中永不落的太阳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让我们发自内心地问候您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老师，您好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268800" y="260280"/>
            <a:ext cx="27432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仿宋_GB2312"/>
              </a:rPr>
              <a:t>老师，您好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228232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68776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如何尊敬老师、报师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128600" y="692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学习上，勤学好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128600" y="1341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人格上，敬重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01320" y="3068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地位上，推崇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01320" y="3645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作用上，不忘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53920" y="513720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当前最直接的体现，就是珍惜时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自觉勤奋，在期末考试中夺得优异的成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01320" y="2133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态度上，虚心进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6"/>
          <p:cNvSpPr txBox="1"/>
          <p:nvPr/>
        </p:nvSpPr>
        <p:spPr>
          <a:xfrm>
            <a:off x="4211640" y="981000"/>
            <a:ext cx="446400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老师的话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——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会谨记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712800"/>
            <a:ext cx="9144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想飞上天 和太阳肩并肩 世界等着我去改变 想做的梦 从不怕别人看见 在这里我都能实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声欢笑让你我肩并肩 何处不能欢乐无限 抛开烦恼 勇敢的大步向前 我就站在舞台中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相信我就是我 我相信明天 我相信青春没有地平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日落的海边 在热闹的大街 都是我心中最美的乐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相信自由自在 我相信希望 我相信伸手就能碰到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你在我身边 让生活更新鲜 每一刻都精采万分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 do belie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想飞上天 和太阳肩并肩 世界等着我去改变 抛开烦恼 勇敢的大步向前 我就站在舞台中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相信我就是我 我相信明天 我相信青春没有地平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日落的海边 在热闹的大街 都是我心中最美的乐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相信自由自在 我相信希望 我相信伸手就能碰到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你在我身边 让生活更新鲜 每一刻都精采万分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 do belie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相信我就是我 我相信明天 我相信青春没有地平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日落的海边 在热闹的大街 都是我心中最美的乐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相信自由自在 我相信希望 我相信伸手就能碰到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你在我身边 让生活更新鲜 每一刻都精彩万分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 do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43280" y="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相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9" dur="247165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324000" y="115920"/>
            <a:ext cx="8604000" cy="66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每当我走过老师窗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静静的深夜群星在闪耀，老师的房间彻夜明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每当我轻轻走过您窗前， 明亮的灯光照耀我心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啊，每当想起您， 敬爱的好老师， 一阵阵暖流心中激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培育新一代辛勤的园丁， 今天深夜啊灯光仍在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呕心沥血您在写教材， 高大的身影映在您窗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啊，每当想起您， 敬爱的好老师， 一阵阵暖流心中激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新长征路上老师立新功， 一群群接班人茁壮成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肩负祖国希望奔向四方， 您总是含泪深情凝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啊，每当想起您， 敬爱的好老师， 一阵阵暖流心中激荡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6490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63302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76360" y="44280"/>
            <a:ext cx="61214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e40000"/>
                </a:solidFill>
                <a:latin typeface="新宋体"/>
                <a:ea typeface="新宋体"/>
              </a:rPr>
              <a:t>老师，让我最难忘的时刻                                                        作者：刘强</a:t>
            </a:r>
            <a:endParaRPr b="0" lang="en-US" sz="3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永远忘不了那节思品课，思品老师微笑地拍着我的肩：“没事了，上课去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是星期四的一节思品课，正巧赶上发报纸。我拿着发下来的报纸，草草地看了一遍。哎，颇为不满的对老师说了一句：“这没什么好看的。可能是老师心情不好吧。啪的一下拿起了讲桌上的报纸，撂下一句：“不看就不看。”她的身影，转眼就消失在了门后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当时就懵了，完全没有料到老师那么生气。我看着老师消失的地方。心里泛起了一阵苦涩，老师那么辛苦的备课，时常备课备到半夜。讲课的时候，也经常讲到嗓子疼，我却在这里说这样的话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在我自责的时候，一个熟悉的身影，出现在教室门口。那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品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834200" y="141300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下列哪些人对你的成长产生过比较大的影响？（可多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95280" y="33336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问卷调查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523880" y="2765520"/>
          <a:ext cx="6096240" cy="29685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父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朋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3017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87280" y="-100440"/>
            <a:ext cx="53294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40000"/>
                </a:solidFill>
                <a:latin typeface="Franklin Gothic Medium"/>
                <a:ea typeface="新宋体"/>
              </a:rPr>
              <a:t>师恩难忘</a:t>
            </a:r>
            <a:br>
              <a:rPr sz="2500"/>
            </a:br>
            <a:r>
              <a:rPr b="0" lang="zh-CN" sz="2500" spc="-1" strike="noStrike">
                <a:solidFill>
                  <a:srgbClr val="e40000"/>
                </a:solidFill>
                <a:latin typeface="Franklin Gothic Medium"/>
                <a:ea typeface="新宋体"/>
              </a:rPr>
              <a:t>                         作者：杨延旭</a:t>
            </a:r>
            <a:endParaRPr b="0" lang="en-US" sz="25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8920" y="864720"/>
            <a:ext cx="8713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小学，我的数学老师是一个可亲可敬的老师。她梳着长发，戴着一副眼睛，总是爱穿着一身黑色的教师工作服。第一次看见她，你会感觉她很严厉。其实，她是一位和蔼可亲的老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次月考，一道题把我难住了，看到别的同学打得那么顺利，我非常着急，于是我东望望西瞧瞧，趁蔡老师、李老师不在，向同桌的卷子看了一下，便把这道题写上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课了，我刚要走，忽然听到构面有人在叫我，啊！蔡老师，这下完了，我心里想，真是我抄同学卷子的时候被老师看见了，这次老师一定不会放过我的，肯定会吧这件事闹大，要我的家长来，我吞吞吐吐地说：“使您在叫我吗，蔡老师？”“对！到我办公室里来一下。”到了办公室，我当时不敢接近老师，也不敢抬头，只是觉得脸上热的火烧一样，蔡老师拍着我的肩膀说：“做错了事，不敢抬头？只要你改正错误，老师是不会怪你的。”这时，我心里舒服多了。慢慢地抬起头来，说：“老师，我错了。”蔡老师严厉的说：“即使你得了满分，也不明白这道题是什么意思怎样解答，我来给你讲讲吧。”于是蔡老师把那道题一部分一部分的讲给我，耐心的给我讲起来，一分钟、两分钟、三分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.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我吧这道题理解透彻了，自己能做，又要我照着这道题的意思又做了几题后，才让我离开，临走时，老师微笑地望着我，像在鼓励。从此我一定要好好学习。望着老师的身影，我真的感动及了！眼泪不由自主的流下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了一段时间，学校又进行了一次数学竞赛，通过上一段时间的努力，我顺利的霸体打上来了，第二天上数学课是，老师吧试卷念名字发下来了，轮到我的时候，老师大声地念说：”杨延续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后来同学们一片掌声，对我竖起了大拇指，似乎都在说：“好样的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50920" y="981000"/>
            <a:ext cx="8675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是谁，把无知的我们领进宽敞的教室，教给我们丰富的知识？</a:t>
            </a:r>
            <a:br>
              <a:rPr sz="2400"/>
            </a:b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    是您！老师！</a:t>
            </a:r>
            <a:br>
              <a:rPr sz="2400"/>
            </a:b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    您用辛勤的汗水，哺育了春日刚破土的嫩苗。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是谁，把调皮的我们教育成能体贴帮助别人的人？</a:t>
            </a:r>
            <a:br>
              <a:rPr sz="2400"/>
            </a:b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    是您！老师！</a:t>
            </a:r>
            <a:br>
              <a:rPr sz="2400"/>
            </a:b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    您的关怀就好似和煦的春风，温暖了我们的心灵。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是谁，把幼小的我们，培育成成熟懂事的少年？</a:t>
            </a:r>
            <a:br>
              <a:rPr sz="2400"/>
            </a:b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    是您！老师！</a:t>
            </a:r>
            <a:br>
              <a:rPr sz="2400"/>
            </a:b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    您的保护让我们健康成长，在金秋时节结下硕果。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您辛苦了！老师！在酷暑严寒中辛勤工作的老师。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您辛苦了！老师！ 把青春无私奉献的人们。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我们向您致以崇高的敬意！您辛苦了，老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2484360" y="187200"/>
            <a:ext cx="42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老师，您辛苦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427640" y="5084640"/>
            <a:ext cx="418284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张良拜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0" cy="45720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714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80880" y="33336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d60093"/>
                </a:solidFill>
                <a:latin typeface="Arial"/>
              </a:rPr>
              <a:t>张良闲暇无事。有一天他在桥上散步，碰到一个老人，走到张良旁边，故意把他的鞋子掉到桥下。然后对着张良说：“孩子！下桥去给我把鞋子拾上来！”张良听了一愣，但一看他是个老人，就强忍着怒气，到桥下把鞋拾了上来。那老人竟又命令说：“把鞋子给我穿上！”张良给他穿上鞋以后，那老人就走了。那老人走了几里路，又折回身来，对张良说：让张良五天后的早晨来这儿等他。张良跪下来说：“是。”第五天天刚亮，张良到了下邳桥上。不料那老人已经等在那里了，见了张良就生气地说：“和老人约会，怎么迟到了？以后的第五天早上再来相会！”说完就离去了。第二次，张良虽早，但还是来迟了。于是，老人又让他下一个第五天再来吧。到第五天，张良没到半夜就赶到桥上，那老人也来了，他拿出一本书来，指着说道：“认真研读这本书，就能做帝王的老师了！”老人说完就走了。 早上天亮时，张良拿出那本书来一看，原来是《太公兵法》。张良十分珍惜，他刻苦研究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74359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24000" y="123660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宋朝时，游醡、杨时两人跟着程颐老夫子学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他们对老师非常恭敬。在冬季的某一天，这两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学生陪着老师，静听老师的教诲。说了一会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夫子便闭目养神，不知不觉地睡着了。他们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不敢离开，又怕吵醒夫子，就静静地站在两旁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夫子醒来。夫子醒来见他俩还站在旁边，便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你们还没走啊！”他俩回答：“我们是因为先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睡着了，没有请命，不敢离去！”他们向老夫子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教过书中有疑问的地方，才向夫子拜辞。出门的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候他们才发现雪已经积了一尺深。这两位学生，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来都成为很有名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8360" y="595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程门立雪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7596360" y="33336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33326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826920" y="184464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在你学习的六多年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老师所做的最令你难忘的一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你认为他们让你感动的原因是什么？</a:t>
            </a: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95280" y="189000"/>
            <a:ext cx="172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静思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847440" y="641520"/>
            <a:ext cx="730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国务院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举行的第六届全国人民代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会上，决定    月    日为教师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19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国民党政府先是同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为教师节，后又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师节改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，因为那天是（   ）的生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子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庄子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常常把老师的比喻为人类灵魂的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程师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园丁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故弟子不必不如师，师不必贤于弟子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句话出于谁的作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教万教教人求真；千学万学学做真人。”这是许德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我国一位著名文人撰写了一副挽联，请问他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朱自清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巴金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老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218200" y="115920"/>
            <a:ext cx="345744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你对老师知多少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4831200" y="4005360"/>
            <a:ext cx="5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韩愈《师说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7080" y="530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朱自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60440" y="234936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5520" y="3197160"/>
            <a:ext cx="13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A.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工程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484360" y="1197000"/>
            <a:ext cx="5731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3132000" y="1125000"/>
            <a:ext cx="67968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1916280"/>
            <a:ext cx="916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也者，教之以事而喻诸德也。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礼记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生不应该专教书，他的责任是教人做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不应该专读书，他的责任是学习人生之道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行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师的职务是 ‘千教万教，教人求真’；学生的职务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学万学，学做真人’。” ——陶行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身正，不令而行；其身不正，虽令不从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人行，必有我师焉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教重于言教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夫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24000" y="404640"/>
            <a:ext cx="611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“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尊师重教”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-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中华民族的传统美德之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5:41:14Z</dcterms:created>
  <dc:creator>微软用户</dc:creator>
  <dc:description/>
  <dc:language>en-US</dc:language>
  <cp:lastModifiedBy>一中信息化教室</cp:lastModifiedBy>
  <dcterms:modified xsi:type="dcterms:W3CDTF">2013-09-12T06:46:19Z</dcterms:modified>
  <cp:revision>34</cp:revision>
  <dc:subject/>
  <dc:title>幻灯片 1</dc:title>
</cp:coreProperties>
</file>