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</p:sldMasterIdLst>
  <p:sldIdLst>
    <p:sldId id="256" r:id="rId52"/>
    <p:sldId id="257" r:id="rId53"/>
    <p:sldId id="258" r:id="rId54"/>
    <p:sldId id="259" r:id="rId55"/>
    <p:sldId id="260" r:id="rId56"/>
    <p:sldId id="261" r:id="rId57"/>
    <p:sldId id="262" r:id="rId58"/>
    <p:sldId id="263" r:id="rId59"/>
    <p:sldId id="264" r:id="rId60"/>
    <p:sldId id="265" r:id="rId61"/>
    <p:sldId id="266" r:id="rId62"/>
    <p:sldId id="267" r:id="rId63"/>
    <p:sldId id="268" r:id="rId64"/>
    <p:sldId id="269" r:id="rId65"/>
    <p:sldId id="270" r:id="rId66"/>
    <p:sldId id="271" r:id="rId67"/>
    <p:sldId id="272" r:id="rId68"/>
    <p:sldId id="273" r:id="rId69"/>
    <p:sldId id="274" r:id="rId70"/>
    <p:sldId id="275" r:id="rId71"/>
    <p:sldId id="276" r:id="rId72"/>
    <p:sldId id="277" r:id="rId73"/>
    <p:sldId id="278" r:id="rId74"/>
    <p:sldId id="279" r:id="rId75"/>
    <p:sldId id="280" r:id="rId76"/>
    <p:sldId id="281" r:id="rId77"/>
    <p:sldId id="282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" Target="slides/slide1.xml"/><Relationship Id="rId53" Type="http://schemas.openxmlformats.org/officeDocument/2006/relationships/slide" Target="slides/slide2.xml"/><Relationship Id="rId54" Type="http://schemas.openxmlformats.org/officeDocument/2006/relationships/slide" Target="slides/slide3.xml"/><Relationship Id="rId55" Type="http://schemas.openxmlformats.org/officeDocument/2006/relationships/slide" Target="slides/slide4.xml"/><Relationship Id="rId56" Type="http://schemas.openxmlformats.org/officeDocument/2006/relationships/slide" Target="slides/slide5.xml"/><Relationship Id="rId57" Type="http://schemas.openxmlformats.org/officeDocument/2006/relationships/slide" Target="slides/slide6.xml"/><Relationship Id="rId58" Type="http://schemas.openxmlformats.org/officeDocument/2006/relationships/slide" Target="slides/slide7.xml"/><Relationship Id="rId59" Type="http://schemas.openxmlformats.org/officeDocument/2006/relationships/slide" Target="slides/slide8.xml"/><Relationship Id="rId60" Type="http://schemas.openxmlformats.org/officeDocument/2006/relationships/slide" Target="slides/slide9.xml"/><Relationship Id="rId61" Type="http://schemas.openxmlformats.org/officeDocument/2006/relationships/slide" Target="slides/slide10.xml"/><Relationship Id="rId62" Type="http://schemas.openxmlformats.org/officeDocument/2006/relationships/slide" Target="slides/slide11.xml"/><Relationship Id="rId63" Type="http://schemas.openxmlformats.org/officeDocument/2006/relationships/slide" Target="slides/slide12.xml"/><Relationship Id="rId64" Type="http://schemas.openxmlformats.org/officeDocument/2006/relationships/slide" Target="slides/slide13.xml"/><Relationship Id="rId65" Type="http://schemas.openxmlformats.org/officeDocument/2006/relationships/slide" Target="slides/slide14.xml"/><Relationship Id="rId66" Type="http://schemas.openxmlformats.org/officeDocument/2006/relationships/slide" Target="slides/slide15.xml"/><Relationship Id="rId67" Type="http://schemas.openxmlformats.org/officeDocument/2006/relationships/slide" Target="slides/slide16.xml"/><Relationship Id="rId68" Type="http://schemas.openxmlformats.org/officeDocument/2006/relationships/slide" Target="slides/slide17.xml"/><Relationship Id="rId69" Type="http://schemas.openxmlformats.org/officeDocument/2006/relationships/slide" Target="slides/slide18.xml"/><Relationship Id="rId70" Type="http://schemas.openxmlformats.org/officeDocument/2006/relationships/slide" Target="slides/slide19.xml"/><Relationship Id="rId71" Type="http://schemas.openxmlformats.org/officeDocument/2006/relationships/slide" Target="slides/slide20.xml"/><Relationship Id="rId72" Type="http://schemas.openxmlformats.org/officeDocument/2006/relationships/slide" Target="slides/slide21.xml"/><Relationship Id="rId73" Type="http://schemas.openxmlformats.org/officeDocument/2006/relationships/slide" Target="slides/slide22.xml"/><Relationship Id="rId74" Type="http://schemas.openxmlformats.org/officeDocument/2006/relationships/slide" Target="slides/slide23.xml"/><Relationship Id="rId75" Type="http://schemas.openxmlformats.org/officeDocument/2006/relationships/slide" Target="slides/slide24.xml"/><Relationship Id="rId76" Type="http://schemas.openxmlformats.org/officeDocument/2006/relationships/slide" Target="slides/slide25.xml"/><Relationship Id="rId77" Type="http://schemas.openxmlformats.org/officeDocument/2006/relationships/slide" Target="slides/slide26.xml"/><Relationship Id="rId78" Type="http://schemas.openxmlformats.org/officeDocument/2006/relationships/slide" Target="slides/slide27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0D4F3-8162-4376-B49F-56ABCB7A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8172F-7B79-4924-98A3-E3E3E9CF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C68D0-329E-49BB-A43B-1846CE35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B58B4-0AE1-4E03-8A16-3B56D468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425CE-D7F9-4C57-9AE8-99528308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D38D8-AA05-40D8-A0BB-C62E905C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8CF4C-AA9C-4B6E-8363-DE18E7D8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7BE52-164C-419E-AD0F-7F57CFB6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3511E-2E96-401B-BC62-B6A1BAB3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44B8A-59A1-4452-9794-37D9F08A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5F873-D513-47D1-A087-A68A355B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136D5-6F51-4E2A-8E4D-BC92CD4B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4C489-7825-4A91-89D4-A8F296FD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A3A94-B24A-4AA8-BFE9-CE90A36A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A6B6A-8DC8-4F43-98C2-40F68B43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C3386-AE27-4DEE-96EC-F6F694BD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BB96B-A003-4623-B45E-B982E817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BDE6C-24EC-4E9F-84F5-B9C819F8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57B37-157D-447C-BBB5-AF423F33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02225-8B89-4612-B0CB-CF8F2A72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3DC42-C5DE-4ABF-8A3D-55249868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5CD6B-1A78-42FF-97FD-3EE30C18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E2910-1EB4-49FD-8FC6-94D430C1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A65FC-26B0-4E94-B0A5-7B310AB1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972EC-E5DE-4774-8EAB-9AD28ECF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3515D-92B9-4796-A7A9-2C946BD8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3E22A-9C5F-48BF-9C93-EC7EB309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A785E-9CA6-4588-AE5A-D19A4C9E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7A8D0-63D3-4EE4-A837-8E578091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D2F6A-6419-469A-B5C9-9C278034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5A416-C0C6-4970-A1CA-3A374A14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B44E8-2CDE-4AA9-A19A-747F10E4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411A2-1F0F-4C6F-B94D-0B7EAFDE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50311-43FB-40CE-AA9D-3CBE8D12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D721C-A346-405B-AB87-92C6BAB2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85959-871A-4EF6-9FBE-2B4242D2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A5FBA-6C23-4427-B92A-CB5501A3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B1E49-7885-478E-A400-5AC9924A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16174-26BE-4204-8C8A-BD39F7DF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3CAB5-C7DB-4F2E-887C-96567FC9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78FDE-34FD-491B-AFD0-B724C9F3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BEC32-B6BE-4F2A-A3D1-CF672470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AD4D3-295C-4CA2-9107-564E4F53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C3784-5F83-40D1-9895-9C424B7E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2FCBA-E175-4D95-B5F1-8355CD98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C48D0-8B87-4D13-8D33-292D136E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51C03-BF6E-4E88-B818-0B81D504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B5163-F8E8-494A-A658-3396BBD2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04EB9-0335-4C3E-95A2-187B196F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9C446-88D3-42C8-83DB-47E2024F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748A3-70C9-45FE-AD05-E91E0117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61345-B521-425D-BA7A-FDA16B0D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7ED8F-579E-47F7-B807-6056A147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1E0A2-EAF8-4CA2-A609-5CE537B7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4030E-E2C4-426C-A259-F5C48291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E1776-46E0-4E5B-9ACB-CDA86B59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F1BF7-C02E-4975-BEC9-E0B647BD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ECBC1-8728-4E33-819E-1C251F5B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A65DF-56F1-4A81-AF56-4208006F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9CE6F-9DF1-4D80-B725-5A6A0BEF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B3E79-9AFC-4C2A-8B67-8D9DB5F1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2F430-B6D6-43F7-9ABF-3A44AC80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1C55D-5E81-4D5C-97AA-D3EF5195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FBCB9-AAD5-4263-B19D-7FA2FB02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72B94-317E-4860-A602-234116F5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96AE5-900F-434B-8280-C57D967F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A7E1F-6993-4A26-801E-F664F470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396C9-7A9D-41F7-BDCA-AA30C7B7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42BCD-0E42-4FF4-9260-42AE7094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49289-25C7-449F-86A1-ED4AB96D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1C361-8DA4-43A1-B039-BAD3D83F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AE39D-03D9-4406-9A7A-1FE6247E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E755B-4FD5-4C14-B99C-A8E77DF7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09699-DAC2-4127-AA21-898FCF3F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0847B-D76B-46EF-8483-A21A559E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84F1B-BAA3-4008-B34E-794C2AE8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86F04-C989-4E3E-8504-B377259A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F2375-AA2D-45CB-851F-F5AA3C7D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B0535-E9B2-40B7-AAA9-45543158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575BA-88CB-4CA6-88E4-7AA915B1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1941D-CA44-4052-8538-560B593D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87C6B-631E-4A8A-BFC6-666ED9CB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DFE6F-7B04-474C-A7BB-86E60EAC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841B5-C355-4CDE-BC9B-14476A6B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4760F-38D6-426B-A5E8-443FD484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FB1A2-20E1-4E2C-89B8-286E8129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504C8-2647-466C-BFC4-7815621A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4F318-63A0-48B8-934F-6C636885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8A3EE-21E6-47CE-999F-D3045E3A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2963A-C98F-4DC1-B71E-32090DEE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D78DC-1808-48DA-A25D-63DE062E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FBCAB-F064-4F04-AD36-A435EF16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65F99-0578-45C1-A7D6-329CC0F0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0C547-521A-4531-A3E2-76EFAD79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E20EA9-B1F6-4064-B8C4-1F92E6F7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E7A670-24C9-4E93-9705-4EFB603D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EB2367-1C5C-4150-A345-35B19E51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70827-A46C-4016-94E9-09BDE266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40AB4E-8929-43E5-9777-671E763A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819C1-2E2F-4A0A-9C37-9E1C01F6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789490-03A7-469E-9FEF-60051356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B16237-AC11-4083-B10F-FDC84205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304BE-CAB2-4CA9-8453-16B0F84C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83BCC7-86AE-47CC-ADE0-A39FFDA4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8572D-0BBF-4468-B861-41B40158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1DD7E7-DDA7-4F9D-976E-3A98F701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B3083E-3331-444E-9C20-6CD06D09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166096-2CC9-41B0-ADAF-BF6F289C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49E0C9-335B-48CE-BAC7-C014FD00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F206F7-0C78-48E5-B043-D9FBC82E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7B8142-7747-43D5-926D-300D76A1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807317-B288-4474-88F6-4B87942B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943BC5-C61D-4069-B227-EFBB3A0B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F1AE6-A307-47FA-A7E4-5B8D8020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ED3257-76F6-4927-977B-A308EC55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F126DC-669F-4F2C-9B8C-35D43E07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3CCD5C-DBD1-43F5-B047-28935D14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A671C7-F6C5-471E-A2BA-22ACAFA5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7EE7E1-36AC-4D5D-B95C-CAEBB2B1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9D01D3-931C-4980-9ADB-955ED59B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1AB784-9A4D-42B2-8476-CC63FBE2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7AF804-904C-41A9-949E-E4951381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A8DFAA-EE8B-45DD-A5AE-7B49963B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055AA1-67CB-49D8-B8B0-D2B7B903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306DD1-6ED7-4965-AE98-C97DA964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B6E3FE-D420-498A-848D-CC754BFA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9F17BA-9B52-48BA-93F7-2827C19C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B521C1-ABFE-484B-9018-89F5E770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9DDBBD-74ED-41AB-BEE3-8D207DC5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6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7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2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5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5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6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7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0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0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44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45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3CF1-E032-4E19-BBB6-1BB073FC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9D10-2B05-4637-9DDA-1B9F6202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1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2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BD66-1082-41D9-836A-1C1E389E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5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5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706B-0AAC-4949-AC9E-2E8AFCF3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94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95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96B-950C-44D4-8698-79B8B5DE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A22C-38E4-49D9-A606-49E78C5B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32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33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130-50CC-4C76-93A6-E9D1A6EF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6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7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506C-4EC6-4A11-BBA9-6B96BD12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0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0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B4E9-4759-4FBE-AC3A-395B8EAE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38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43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44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45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D30C-6D2E-4A6E-BBA2-3C4F5602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82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83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C1E1-F89C-41A7-BE31-2CB49CDF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1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EB32-14B6-48DD-B508-D7F19188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1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2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CC2C-EE72-443A-9FDE-FA7C2B0F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7686-4CBF-43D6-8FE0-F370FACE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7671-DDB3-4798-9CA6-5E574E04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D183-4B8C-4A37-BDD7-1982C7FA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1C1A-75E7-4C1F-9377-D21D3B08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AC93-AB8E-4413-94C5-8DC008A8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A6ED-10DC-4F95-B5A5-566397B2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B44E-DA6F-432E-8BA1-C3CBEBC1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FBB8-D8BA-4351-B016-351A2953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182D-F65F-4FA2-9DF8-E62975CA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E9AD-50E0-420C-AD91-4C0C1A5D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45F7-E283-4784-86A6-F4B78254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D714C-D9EC-4A5A-8713-0A66996D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C6C10-B4B7-4A4F-BA65-E5150682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4DF15-0DF8-4416-9A16-45DE7309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6143B-F7AF-4888-8118-64600EA2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00D4E-C05C-4FCC-833D-66E3D339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6538C-6FE5-481B-9679-ABC34BB8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B109D-C1A6-4FF3-B333-63F22076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74394-84D1-4E16-9657-B94905B3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411B6-7302-4ACD-9017-0CE88D2D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5E5DA-C096-4DDA-B088-985E648C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317CB-C6E8-43D5-826D-95C7661F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69DCF-3A66-4D92-BD6D-BFC20694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F15A6-BEBB-4D0A-9D29-AF97C5B5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32D0F-37A9-427A-B222-4A0889DF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D96A1-6469-48D6-ABF3-D77CEA3A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06C5A-B141-46A4-8AA2-B10D9E1D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E540D-F4A9-433C-A6D9-025A65F7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BF568-0793-4880-B707-81C0C365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EC064-731E-4930-AAB3-E7F8F891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9B9C5-9EC2-46F2-BE0E-4FD9D3B6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8E753-9C68-4D25-BBFF-D2D841E7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E429F-7DFD-4495-98B4-BF2246E8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30A83-0CE7-4766-854A-FC3FA4F0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21BDF-10B0-49F9-9D71-C9B20913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4D13E-2676-4D2D-AEEB-B9006948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A22BB-3E92-4AE6-A365-246F4ED3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D8A40-9E06-4C7B-8010-3FEE91B6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74320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DE7F-BD4F-430A-A222-C54059A00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8133-4FA2-467F-AFD9-8647F970D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98864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5332-F47C-4568-A480-31B71F37B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CFD6-8C6F-4765-BFEA-E73EE7100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2827-8692-4BBB-AE59-65CC6F19789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3AC9-D64A-45E0-B612-432ED7872A6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DBA5-2472-43F0-A4BA-143A342FDCA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C64A-3D49-4727-9D07-CB557AE22D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0098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4509-3504-49F1-99DB-1FB3D926DA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body"/>
          </p:nvPr>
        </p:nvSpPr>
        <p:spPr>
          <a:xfrm>
            <a:off x="457200" y="148068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AEB1-532D-4647-A2B3-AB666AAB045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270180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1F5A-D0CF-46CC-841D-7D0FCF596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3206880"/>
            <a:ext cx="7772400" cy="1209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D87A-0C69-41CB-AFEC-5BDDBB2700C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4C93-C49F-4532-88FF-C009E245EA5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612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ddc3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dc3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31612d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31612d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612d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31612d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31612d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612d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31612d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31612d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612d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31612d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612d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31612d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612d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612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9684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1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d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a1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a1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d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a1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a1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a1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a1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d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a1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a1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d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a1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d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a1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d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a1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ddc3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612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ddc3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612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ddc3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612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ddc3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612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ddc3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612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ddc3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612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ddc3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612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ddc3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612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ddc3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612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ddc3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612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1612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612d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295E-0AFA-412C-951B-D273372C67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99cc00"/>
              </a:solidFill>
              <a:latin typeface="微软雅黑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ddc3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c4ddc3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669900"/>
              </a:solidFill>
              <a:latin typeface="微软雅黑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461A-269F-4178-BB04-42D5D05894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01F6-86EE-40BD-9D90-C7DEFEBE05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8065-D293-451C-B8A3-CA3265650E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92000" y="27576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692000" y="1601640"/>
            <a:ext cx="699444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3542-366B-43CF-B98B-4AB2DC0CB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43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2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45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7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48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9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0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4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4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53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9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55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6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57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4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685800" y="314136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4ddc3"/>
              </a:solidFill>
              <a:latin typeface="微软雅黑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dc3"/>
              </a:solidFill>
              <a:latin typeface="微软雅黑"/>
            </a:endParaRPr>
          </a:p>
        </p:txBody>
      </p:sp>
      <p:pic>
        <p:nvPicPr>
          <p:cNvPr id="1923" name="" descr=""/>
          <p:cNvPicPr/>
          <p:nvPr/>
        </p:nvPicPr>
        <p:blipFill>
          <a:blip r:embed="rId2"/>
          <a:stretch/>
        </p:blipFill>
        <p:spPr>
          <a:xfrm>
            <a:off x="-30240" y="-22320"/>
            <a:ext cx="9282240" cy="690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1692000" y="275760"/>
            <a:ext cx="699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月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1692000" y="1601640"/>
            <a:ext cx="699444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森林里的雪融化了，圣诞老人们开始给那些乖孩子准备礼物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们在田里洒下玩具的种子，然后浇上水；还从大山里捡回用来装饰礼物的流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们忙成了一片。逛荡，咣当，咣当当！玩具工厂里也传出热热闹闹的忙碌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pic>
        <p:nvPicPr>
          <p:cNvPr id="1948" name="" descr=""/>
          <p:cNvPicPr/>
          <p:nvPr/>
        </p:nvPicPr>
        <p:blipFill>
          <a:blip r:embed="rId2"/>
          <a:stretch/>
        </p:blipFill>
        <p:spPr>
          <a:xfrm>
            <a:off x="-30240" y="0"/>
            <a:ext cx="9212400" cy="698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月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pri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今天是驯鹿学校开学的日子。新入学的小驯鹿们要在这里学习拉雪橇和飞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在平安夜那天拉着雪橇是种荣誉，而成绩最好的驯鹿将被光荣地选为雪橇队队长。所以大家都很努力地练习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驯鹿妈妈们在地面上担心地看着她们的孩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612d"/>
                </a:solidFill>
                <a:latin typeface="微软雅黑"/>
              </a:rPr>
              <a:t> </a:t>
            </a: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612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1612d"/>
                </a:solidFill>
                <a:latin typeface="微软雅黑"/>
              </a:rPr>
              <a:t>    </a:t>
            </a:r>
            <a:r>
              <a:rPr b="0" lang="zh-CN" sz="2800" spc="-1" strike="noStrike">
                <a:solidFill>
                  <a:srgbClr val="31612d"/>
                </a:solidFill>
                <a:latin typeface="新宋体"/>
                <a:ea typeface="新宋体"/>
              </a:rPr>
              <a:t>   </a:t>
            </a:r>
            <a:r>
              <a:rPr b="0" lang="zh-CN" sz="2800" spc="-1" strike="noStrike">
                <a:solidFill>
                  <a:srgbClr val="31612d"/>
                </a:solidFill>
                <a:latin typeface="新宋体"/>
                <a:ea typeface="新宋体"/>
              </a:rPr>
              <a:t>在美丽北国那一望无际的森林里，住着很多善良友好的圣诞老人。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1612d"/>
              </a:buClr>
              <a:buFont typeface="新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1612d"/>
                </a:solidFill>
                <a:latin typeface="新宋体"/>
                <a:ea typeface="新宋体"/>
              </a:rPr>
              <a:t>       </a:t>
            </a:r>
            <a:r>
              <a:rPr b="0" lang="zh-CN" sz="2800" spc="-1" strike="noStrike">
                <a:solidFill>
                  <a:srgbClr val="31612d"/>
                </a:solidFill>
                <a:latin typeface="新宋体"/>
                <a:ea typeface="新宋体"/>
              </a:rPr>
              <a:t>有个子高大的圣诞老人，有身材瘦小的圣诞老人</a:t>
            </a:r>
            <a:r>
              <a:rPr b="0" lang="zh-CN" sz="2800" spc="-1" strike="noStrike">
                <a:solidFill>
                  <a:srgbClr val="31612d"/>
                </a:solidFill>
                <a:latin typeface="新宋体"/>
                <a:ea typeface="新宋体"/>
              </a:rPr>
              <a:t>...</a:t>
            </a:r>
            <a:r>
              <a:rPr b="0" lang="zh-CN" sz="2800" spc="-1" strike="noStrike">
                <a:solidFill>
                  <a:srgbClr val="31612d"/>
                </a:solidFill>
                <a:latin typeface="新宋体"/>
                <a:ea typeface="新宋体"/>
              </a:rPr>
              <a:t>这里生活着各种各样的圣诞老人，其中有一位胡子最长，长得最帅的，大家都叫他“圣诞祖爷爷”，所有人都很尊敬他。</a:t>
            </a: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pic>
        <p:nvPicPr>
          <p:cNvPr id="1953" name="" descr=""/>
          <p:cNvPicPr/>
          <p:nvPr/>
        </p:nvPicPr>
        <p:blipFill>
          <a:blip r:embed="rId2"/>
          <a:stretch/>
        </p:blipFill>
        <p:spPr>
          <a:xfrm>
            <a:off x="-30240" y="-22320"/>
            <a:ext cx="9469440" cy="68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五月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Ma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圣诞老人们在广场上接受体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平安夜那天，圣诞老人们要去往世界的每一个角落，不够健壮可不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特别是要严格地测量腰围和体重，因为，如果圣诞老人们太重的话，驯鹿们就很难拉着他们飞上天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pic>
        <p:nvPicPr>
          <p:cNvPr id="1958" name="" descr=""/>
          <p:cNvPicPr/>
          <p:nvPr/>
        </p:nvPicPr>
        <p:blipFill>
          <a:blip r:embed="rId2"/>
          <a:stretch/>
        </p:blipFill>
        <p:spPr>
          <a:xfrm>
            <a:off x="-31680" y="-93600"/>
            <a:ext cx="9283680" cy="697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8160" cy="10098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Calibri"/>
              </a:rPr>
              <a:t>六月     </a:t>
            </a:r>
            <a:r>
              <a:rPr b="1" lang="zh-CN" sz="3200" spc="-1" strike="noStrike">
                <a:solidFill>
                  <a:srgbClr val="a50021"/>
                </a:solidFill>
                <a:latin typeface="Calibri"/>
              </a:rPr>
              <a:t>June</a:t>
            </a:r>
            <a:endParaRPr b="1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圣诞老人们趁着雨季赶紧给雪橇做做保养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pic>
        <p:nvPicPr>
          <p:cNvPr id="1963" name="" descr=""/>
          <p:cNvPicPr/>
          <p:nvPr/>
        </p:nvPicPr>
        <p:blipFill>
          <a:blip r:embed="rId2"/>
          <a:stretch/>
        </p:blipFill>
        <p:spPr>
          <a:xfrm>
            <a:off x="-30240" y="0"/>
            <a:ext cx="9212400" cy="70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114444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七月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圣诞老人们拿上大大的望远镜，开始去世界各地寻找乖孩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们从一个小镇到另一个小镇，从一户人家到另一户人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没有认真学习？有没有好好帮妈妈干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圣诞老人们在本子上记下了全世界所有乖孩子的名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48068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1968" name="" descr=""/>
          <p:cNvPicPr/>
          <p:nvPr/>
        </p:nvPicPr>
        <p:blipFill>
          <a:blip r:embed="rId2"/>
          <a:stretch/>
        </p:blipFill>
        <p:spPr>
          <a:xfrm>
            <a:off x="0" y="-106200"/>
            <a:ext cx="9180360" cy="70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简介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平安夜那天，圣诞老人要前往世界各地，为乖孩子们送去精心准备的礼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只有一个圣诞老人？那可不够！在遥远的北国森林里，住着许许多多的圣诞老人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不过，除了圣诞节，平日里他们都在做些什么呢？  要培养驯鹿，要打理红色圣诞装，还要准备一大堆的玩具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当然，还要在夏日里度个假。可是，那么多的玩具礼物从哪里来呢？圣诞老人怎么知道谁是认真学习、好好帮妈妈干活的乖孩子呢？今年你会得到什么礼物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不用担心，圣诞老人们早就准备好了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</a:rPr>
              <a:t>八月      </a:t>
            </a:r>
            <a:r>
              <a:rPr b="0" lang="zh-CN" sz="3200" spc="-1" strike="noStrike">
                <a:solidFill>
                  <a:srgbClr val="996633"/>
                </a:solidFill>
                <a:latin typeface="Arial"/>
              </a:rPr>
              <a:t>Augus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48068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996633"/>
                </a:solidFill>
                <a:latin typeface="Arial"/>
              </a:rPr>
              <a:t>北国迎来了短暂的夏天，也迎来了一年一度的快乐暑假。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33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996633"/>
                </a:solidFill>
                <a:latin typeface="Arial"/>
              </a:rPr>
              <a:t>圣诞老人们每天都和海豹、海象、海豚们开心地玩耍着。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33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996633"/>
                </a:solidFill>
                <a:latin typeface="Arial"/>
              </a:rPr>
              <a:t>圣诞祖爷爷还浮在海面上睡午觉呢，连胡子都晒黑了。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0124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"/>
              </a:rPr>
              <a:t>九月      </a:t>
            </a:r>
            <a:r>
              <a:rPr b="1" lang="zh-CN" sz="3200" spc="-1" strike="noStrike">
                <a:solidFill>
                  <a:srgbClr val="ff6699"/>
                </a:solidFill>
                <a:latin typeface="Arial"/>
              </a:rPr>
              <a:t>September</a:t>
            </a:r>
            <a:endParaRPr b="1" lang="en-US" sz="32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玩具收获的日子到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红色、蓝色、黄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玩具树上结满了五颜六色的果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圣诞老人们把玩具一个一个丛树上摘下来，放进小盒子里。接下来，他们还要给盒子系上漂亮的丝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pic>
        <p:nvPicPr>
          <p:cNvPr id="197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80720" cy="73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十月      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Octo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今天要举行隆重的“圣诞老人大会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圣诞老人们聚集到了森林中的大礼堂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这个女孩送布娃娃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这个男孩送玩具汽车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圣诞祖爷爷一边看着圣诞老人们的“乖孩子名单”，一边快速地安排着该给哪个孩子送什么礼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pic>
        <p:nvPicPr>
          <p:cNvPr id="19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693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十一月   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Novemb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为了迎接圣诞节的到来，圣诞老人们开始精心准备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他们不仅要打理长胡子，还要用刷子清洁红色圣诞装，驯鹿脖子上要挂的金铃铛，也得擦得闪闪发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为了防止迷路，他们还早早地把地图放进了衣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最后，他们把礼物全都装进大口袋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pic>
        <p:nvPicPr>
          <p:cNvPr id="1988" name="" descr=""/>
          <p:cNvPicPr/>
          <p:nvPr/>
        </p:nvPicPr>
        <p:blipFill>
          <a:blip r:embed="rId2"/>
          <a:stretch/>
        </p:blipFill>
        <p:spPr>
          <a:xfrm>
            <a:off x="1440" y="-22320"/>
            <a:ext cx="9142560" cy="709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pic>
        <p:nvPicPr>
          <p:cNvPr id="1928" name="" descr=""/>
          <p:cNvPicPr/>
          <p:nvPr/>
        </p:nvPicPr>
        <p:blipFill>
          <a:blip r:embed="rId2"/>
          <a:stretch/>
        </p:blipFill>
        <p:spPr>
          <a:xfrm>
            <a:off x="-31680" y="-22320"/>
            <a:ext cx="9273960" cy="690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微软雅黑"/>
              </a:rPr>
              <a:t> </a:t>
            </a:r>
            <a:endParaRPr b="0" lang="en-US" sz="3200" spc="-1" strike="noStrike">
              <a:solidFill>
                <a:srgbClr val="99cc00"/>
              </a:solidFill>
              <a:latin typeface="微软雅黑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新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在美丽北国那一望无际的森林里，住着很多善良友好的圣诞老人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新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有个子高大的圣诞老人，有身材瘦小的圣诞老人</a:t>
            </a: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...</a:t>
            </a: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这里生活着各种各样的圣诞老人，其中有一位胡子最长，长得最帅的，大家都叫他“圣诞祖爷爷”，所有人都很尊敬他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pic>
        <p:nvPicPr>
          <p:cNvPr id="1933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907560" cy="68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月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圣诞老人们全都来到了圣诞祖爷爷家，一起庆祝新年的到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壁炉里的柴火噼噼啪啪地燃烧着，大大的桌子上摆满了美味佳肴。窗外雪不停地下着，他们开心地聊着天，屋子里到处都暖融融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pic>
        <p:nvPicPr>
          <p:cNvPr id="1938" name="" descr=""/>
          <p:cNvPicPr/>
          <p:nvPr/>
        </p:nvPicPr>
        <p:blipFill>
          <a:blip r:embed="rId2"/>
          <a:stretch/>
        </p:blipFill>
        <p:spPr>
          <a:xfrm>
            <a:off x="-30240" y="0"/>
            <a:ext cx="94266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9684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a1d00"/>
                </a:solidFill>
                <a:latin typeface="Arial"/>
              </a:rPr>
              <a:t>二月    </a:t>
            </a:r>
            <a:r>
              <a:rPr b="1" lang="zh-CN" sz="3200" spc="-1" strike="noStrike">
                <a:solidFill>
                  <a:srgbClr val="3a1d00"/>
                </a:solidFill>
                <a:latin typeface="Arial"/>
              </a:rPr>
              <a:t>February</a:t>
            </a:r>
            <a:endParaRPr b="1" lang="en-US" sz="32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d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1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a1d00"/>
                </a:solidFill>
                <a:latin typeface="Arial"/>
              </a:rPr>
              <a:t>       “</a:t>
            </a:r>
            <a:r>
              <a:rPr b="0" lang="zh-CN" sz="2800" spc="-1" strike="noStrike">
                <a:solidFill>
                  <a:srgbClr val="3a1d00"/>
                </a:solidFill>
                <a:latin typeface="Arial"/>
              </a:rPr>
              <a:t>嘣咚”一声巨响，孩子们寄来了一堆堆的贺年卡。</a:t>
            </a:r>
            <a:endParaRPr b="0" lang="en-US" sz="2800" spc="-1" strike="noStrike">
              <a:solidFill>
                <a:srgbClr val="3a1d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1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a1d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3a1d00"/>
                </a:solidFill>
                <a:latin typeface="Arial"/>
              </a:rPr>
              <a:t>圣诞祖爷爷最爱读那些可爱的贺卡了——那都是孩子们用心写的。</a:t>
            </a:r>
            <a:endParaRPr b="0" lang="en-US" sz="2800" spc="-1" strike="noStrike">
              <a:solidFill>
                <a:srgbClr val="3a1d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1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a1d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3a1d00"/>
                </a:solidFill>
                <a:latin typeface="Arial"/>
              </a:rPr>
              <a:t>他一张一张仔细地读着，一会儿哈哈大笑，笑得肚皮一颤一颤的，一会儿又开心地眯起了眼睛。</a:t>
            </a:r>
            <a:endParaRPr b="0" lang="en-US" sz="2800" spc="-1" strike="noStrike">
              <a:solidFill>
                <a:srgbClr val="3a1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1612d"/>
              </a:solidFill>
              <a:latin typeface="微软雅黑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1612d"/>
              </a:solidFill>
              <a:latin typeface="微软雅黑"/>
            </a:endParaRPr>
          </a:p>
        </p:txBody>
      </p:sp>
      <p:pic>
        <p:nvPicPr>
          <p:cNvPr id="19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5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6:43:44Z</dcterms:created>
  <dc:creator>lenovo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63</vt:lpwstr>
  </property>
</Properties>
</file>