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4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26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0C5-117B-420D-BF06-4E1CB007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108-D630-40C5-A2BA-0F3D2738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8C093-2177-4C74-A3F5-E648A411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7602E-BFD3-46A3-8434-E7D0C10C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A7987-1006-4A00-BA3B-44CE73E9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BC1E4-CF31-429F-AF8D-F47394BC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ABF1E-0FF2-480F-BC53-441C107E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D695C-3712-41C5-935B-7B827A7D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BE480-C4F4-486B-BCC1-6C191D04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DCDEE-7A32-4128-89D8-7129B003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35944-F9C7-46B0-902F-C65BEB35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CBB7F-CAA2-4C0D-A48B-1A238873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30E-3787-475D-BFFE-9450340C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1E93E-52E1-431E-9002-216E7444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856F0-8D5A-4BCA-B7B4-1C29EDDA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D3C21-8936-426D-933B-F3AA6E2A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154E1-BEF8-450B-B3B5-137611BD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F93AB-1304-49AA-9FE0-6DEB1CA6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BA079-0CBA-4D9D-B024-F93EB791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7DBE3-0A45-4AD6-AA11-204B9E63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6F781-0680-46FE-99F8-72A976E5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0FC23-2A24-4C0F-9DBF-7B75062D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9734D-01E5-41F4-A14D-A16C1D71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F44-7345-4526-B2A5-A77BB553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77889-EBC6-47A7-9E00-BBAF0E02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19AA7-630D-4BEF-A1DC-ED93C203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B78F1-5210-4CC1-A07A-1D6499D7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B28F9-5492-4D2F-8604-D2C23DD6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4169E-A194-4D84-83A1-02284464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CD4E3-F703-4CD5-8876-BB0B47E8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44DFF-FF71-4518-B5C3-6F3478B7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33D95-07F2-4186-BC17-94EC5A3B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2396F-DB16-49EE-B8DC-DC978B34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87649-A5C6-4058-9CCE-20054AF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144F-C948-4E9D-8563-52596E73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B2451-7E8A-46FF-94A9-AC384CA0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F07B3-E8FE-40A8-9E7E-F221CEC6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26C1B-DE95-472C-B7FF-1BA51DEB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14575-C702-40EA-BAC3-99B32154F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01839-A32F-4504-B1E3-040EEAE8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E5C01-9C6C-4F92-B70B-6D54D4E9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21BB6-05AD-4A88-BBA3-97E2A278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74EAF2-6780-4EC3-BCCE-5BF34A05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CAC89-C0E9-42E4-823D-DE014294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491DA-6034-4304-90ED-E82EE1CF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31B1-908B-487D-8F19-E52327FF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0D0C7-20E7-4D52-BE07-C7D09A7E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ADC02-8D9B-41AF-9AA0-DDA3C078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A27AF-D880-48D4-9139-51ADD9C8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55550-F870-4764-9EA4-8A07733B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F5241-E147-448B-84FF-F1BFE02A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F4F4E-4C0D-4640-8D92-0B8813BE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68783-B0E5-45B9-BF56-70BA56F1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E19D3-1F8B-4184-BD0A-E3E88259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59CE8-A9C0-4B9A-830D-EF55D4DE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E45B2-B5E2-4B9C-BCF0-13B873C6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5953-6F27-4ADF-A6CB-A1D7E59A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FCA38-11EF-477A-8355-74261DC4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C55FE-7E5C-4978-B634-75F1EFAF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83117-808E-482F-B44A-4C482388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98AD2-F37F-443C-85E3-3F81A2DB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9116D-BE2F-4A43-9AE6-970E289E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9B3C3-8FCD-465F-A5E6-FF7018E0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FD179-7142-4939-970A-12AB3C9A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BD19C-7548-48E9-B7A6-A185E317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1932B-8BD7-4299-89F5-8EAB23CD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5B17A4-CC68-4888-A937-AE58002E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49EE-73B9-4A83-8602-1B11C5D2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910553-5275-4B32-B338-34C7CE7D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5D602-9431-4D21-B9BD-FAA891A8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A64EB-A711-4C52-81DF-2031AC5F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679F42-7ECE-4CF4-9B49-6D02E75A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30FAE-7F15-44FF-8BE3-13832C45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759A0-2025-441D-AA1B-0D989A27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872DCE-D288-4812-9BE1-54C9DF25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37695-FBFD-4A15-A97A-1D0B8B8F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AAAEA9-7365-46CD-80A1-6DD4494D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1734-DCFB-410E-AF9B-B9F37CFB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8F9C-898A-4D99-B788-EAEEC3FF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9A0C-03AF-4AB9-9E53-8AA9379F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2B5A-F3DF-45C6-97A1-73F57153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F544-E619-48C9-8340-FAD22809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AF12-4546-4BF5-9998-5FE3B6D0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50C2-9E60-4A9A-BF50-F59D9056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0039-0944-4CFC-955D-9CFC9E93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CCFB-791C-4656-B1EB-6A7C22F4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0273C-CA84-4CAE-8123-07F78B9F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C1A43-648B-41B5-AE67-194FF326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82DFE-DEB6-46D0-80C9-3D2F2AA5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39102-4130-4EBF-B20A-214E0842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31828-7727-431C-B805-FE1586ED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035-2931-499D-9225-59904A71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8E5F6-F9EC-4B10-BEE1-5518AE7D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7E23E-5D8A-451F-8859-74226CF1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F67F7-ECF4-432E-95A9-DFC383AE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CF0CD-BAF8-4976-9890-D8CC7F01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7575-F2D5-4622-8E96-D6940A45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8E73C-78BF-4351-B0AD-D21348EA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4E84A-35FB-4B75-9D5B-F6AF9690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B2817-741B-415D-AA92-F3998E68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E4BC8-3F92-431A-B51F-551DF3B4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4B52A-C5F0-4A14-9203-8C1BBA78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719-3C9E-4E48-BFBD-F13B13E6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43C86-3B18-4968-8FC0-84E1E0D1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04FD8-695F-4377-9681-B19C77AE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04149-82B5-4866-84A2-3C26765F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A8853-7620-47E4-AC11-81A9D777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10836-50F2-4BCB-9B81-45090A71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F3F3F-8975-4C46-B06A-934F77BC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63DDC-277B-4123-9BD2-EDE5533D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7A0E8-A20F-4483-80A8-2F409B09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39A36-9F64-4659-8227-B2BAE1C0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E1CC3-C0C2-40C6-A9CC-C73F2ACD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78D-FDCC-48DE-AA9E-965A3B61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CD43A-6F92-4EB9-9ECF-843E519B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9D5B1-5F02-4CDF-93AA-25A96AB5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E474F-D8B2-4795-86BF-91476074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271D3-A758-4512-86DC-E6FA2B0A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2ADB4-3995-469A-8CFE-C49D9753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F9149-3ACD-4957-8603-5747310D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9BA19-6C53-4DA1-B368-A7B30A1D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D0FD8-8B7C-4099-9C82-733C6127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91A8E-8DC5-43E6-8B37-B5240197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4CF04-D6BE-485A-905A-E5905B1E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D06-6B52-4077-8ABF-37B8712E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801FB-EA33-49D3-97DF-27AE27B62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07DAE-351D-413D-AEB2-36C25346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176A9-E1E0-4F15-80F6-A4FF09BF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19B15-FB33-4F31-AAFB-BF356C7F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0FD36-8E57-4D57-B60C-B1AE4516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E8CA7-8A6C-4C05-9965-ED35085F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A6F62-8D13-4268-9848-F3EB0EEA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172DF-2570-4E23-A663-3C701EE0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502FA-AC37-4111-B2F5-1F7E0B2C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039FB-6EAE-41FC-9F2D-D2B1FBF8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855-6399-4228-A5E5-01F9350C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74FC5-F820-4FFE-98A5-B7EDBAC8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5F47E-B0DD-4E7A-BC74-D59BBB8D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AF268-9EDC-43F6-9C9D-7B1F1B79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F3ED8-544B-48A8-ADB5-9C8278F6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CC308-1A2F-49E6-8027-119EB687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95972-919C-460A-9F1C-F84CA98E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93CBA-981B-48AC-B66E-EF31C670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AB46-53AA-4703-A99F-62D26CFD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CA676-A2AD-49AD-ADF3-8B93FCC7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F0940-2ABE-44E7-88BF-B9C0E701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264-89AB-488C-AC7F-A050FA30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8D716-E657-4708-B739-509C6C21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339E5-231A-4175-99B0-E19D9B35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CE5FE-ADC0-4152-9DF9-2A2DFD6D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4463A-CD12-41A9-A4C5-A5FF935C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6A234-570E-4777-9138-C7DA1A29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6B0BB-AD2A-43BF-B6BF-39175CD8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36861-45C1-49AA-B907-DB944CB8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F74CE-F8F1-4969-8B08-E6353901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8D5F2-56F6-4930-B021-97126DBF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CF32B-0CEA-400C-8477-1F785AF7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D80E-A02D-4B96-B9A7-F3DD8F2F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2AE8F-067D-4829-8F2B-07BDEC06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30D54-D7CB-42FF-B207-DFB13595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6D3EA-2169-44CC-BEB1-C76CFE92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B19A1-4758-4DC6-9B23-30DC902E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772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535C6-16E6-4F95-8C0D-84B5E68B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68480" y="4146480"/>
            <a:ext cx="37926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9E9C3-9FA9-4BAE-9EA8-C894F656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1380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41440" y="4146480"/>
            <a:ext cx="25023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933CC-8CF7-4B0A-AFF6-7D9173D1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D4D63-D46A-417F-9DB2-13D05B7B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D6FEF-0040-4605-B279-E03A4BF7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D6316-731E-48A2-B9ED-0ADEC735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4AF4-E674-498D-8EC1-D8FA9B0140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8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9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30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39DE-D87A-400F-B0E9-6E1F8440CA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73C4-BAB0-4E67-8E0B-BC7484D764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B30C-7EAB-4DE7-8D1A-A4421B21A9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CE01-F593-4380-9E7F-D677F32F28B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7A57-B4D4-4733-B1BC-141290E5272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B792-44FA-4756-9811-ABCB1110E3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25BB-AF16-42CB-A87B-D709EFB330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D3AE-D1EC-40CC-9D03-18BD2662EE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50D5-5378-4232-AA2E-73665401BD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CFA0-0770-4150-A3BB-4646FE8353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F89E-39AB-43C4-BD16-6428DAB8E8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0536-220C-452A-AC78-0580447034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7F9D-4A67-407E-8B78-DC201A985C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17.png"/><Relationship Id="rId4" Type="http://schemas.openxmlformats.org/officeDocument/2006/relationships/slide" Target="slide8.xml"/><Relationship Id="rId5" Type="http://schemas.openxmlformats.org/officeDocument/2006/relationships/image" Target="../media/image18.png"/><Relationship Id="rId6" Type="http://schemas.openxmlformats.org/officeDocument/2006/relationships/slide" Target="slide6.xml"/><Relationship Id="rId7" Type="http://schemas.openxmlformats.org/officeDocument/2006/relationships/image" Target="../media/image19.png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2"/>
          <a:srcRect l="4120" t="0" r="48570" b="63004"/>
          <a:stretch/>
        </p:blipFill>
        <p:spPr>
          <a:xfrm>
            <a:off x="0" y="0"/>
            <a:ext cx="515448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4836240" y="533520"/>
            <a:ext cx="286164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9900"/>
                </a:solidFill>
                <a:latin typeface="Arial"/>
              </a:rPr>
              <a:t>三袋麦子</a:t>
            </a:r>
            <a:endParaRPr b="0" lang="en-US" sz="8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2"/>
          <a:srcRect l="9362" t="1644" r="51354" b="63004"/>
          <a:stretch/>
        </p:blipFill>
        <p:spPr>
          <a:xfrm>
            <a:off x="228600" y="152280"/>
            <a:ext cx="2209680" cy="30481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2590920" y="45720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第二年，土地爷爷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又拜访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了他们，对他们的做法又是怎么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评价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的呢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23880" y="3352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2">
            <a:lum bright="-18000"/>
          </a:blip>
          <a:srcRect l="31430" t="65413" r="14288" b="5410"/>
          <a:stretch/>
        </p:blipFill>
        <p:spPr>
          <a:xfrm>
            <a:off x="6095880" y="4191120"/>
            <a:ext cx="2895840" cy="22096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380880" y="7621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他先到小猪家，小猪说：“感谢您去年送给我那袋麦子，让我吃到了最好吃的东西。”说着，不由得舔了舔嘴唇。看着小朱憨厚可爱的样子，土地爷爷忍不住哈哈大笑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37600" y="487692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想一想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他笑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2"/>
          <a:srcRect l="12903" t="3001" r="13980" b="62001"/>
          <a:stretch/>
        </p:blipFill>
        <p:spPr>
          <a:xfrm>
            <a:off x="0" y="0"/>
            <a:ext cx="3200400" cy="304308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2590920" y="1676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告别了小猪，土地爷爷来到小牛家。小牛告诉老人：“去年您送我的麦子至今还没吃完呢。”小牛抱出那只口袋，里面仍有半口袋麦子。老人点点头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784880" y="502920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讨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土地爷爷点点头什么意思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2"/>
          <a:srcRect l="11553" t="61002" r="0" b="0"/>
          <a:stretch/>
        </p:blipFill>
        <p:spPr>
          <a:xfrm>
            <a:off x="4476600" y="3505320"/>
            <a:ext cx="4667400" cy="29718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609480" y="6094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猴拉着老人的手，神秘地说：“请跟我来。”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65040" y="3625920"/>
            <a:ext cx="458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讨论：小猪、小牛、小猴的做法你最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赞成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谁？为什么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740600" y="2209680"/>
            <a:ext cx="568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老人抚摸着小猴的头，兴奋地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说：“你真聪明！真能干！”     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685800" y="685800"/>
            <a:ext cx="3429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推贤榜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41" name=""/>
          <p:cNvSpPr/>
          <p:nvPr/>
        </p:nvSpPr>
        <p:spPr>
          <a:xfrm>
            <a:off x="2169360" y="2306520"/>
            <a:ext cx="5319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天宫的粮仓少了一个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保管员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你推荐（     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天宫的食堂需要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面点大厨师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你觉得谁最合适（      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你是天宫长远发展部门领导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想选个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规划师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，你选（     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198600" y="29718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小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559120" y="42670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小猪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25800" y="56386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小猴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990720" y="198108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"/>
              </a:rPr>
              <a:t>如果，土地爷爷也送你一袋麦子，你有什么打算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3405600" y="990720"/>
            <a:ext cx="4691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</a:rPr>
              <a:t>麦子    迫不及待    食品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</a:rPr>
              <a:t>一份   保存   防止  拜访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dc5900"/>
                </a:solidFill>
                <a:latin typeface="Arial"/>
              </a:rPr>
              <a:t>仍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31840" y="4702680"/>
            <a:ext cx="10033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Arial"/>
                <a:ea typeface="华文新魏"/>
              </a:rPr>
              <a:t>读一读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81280" y="3733920"/>
            <a:ext cx="4444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太棒啦  馒头  发霉  搬到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憨厚   告诉   神秘   收获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能干   烙饼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rcRect l="9362" t="1644" r="51354" b="63004"/>
          <a:stretch/>
        </p:blipFill>
        <p:spPr>
          <a:xfrm>
            <a:off x="0" y="0"/>
            <a:ext cx="22096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rcRect l="9362" t="1644" r="51354" b="63004"/>
          <a:stretch/>
        </p:blipFill>
        <p:spPr>
          <a:xfrm>
            <a:off x="0" y="457200"/>
            <a:ext cx="2209680" cy="304812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28600" y="3657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快要过年了，土地爷爷送（         ）（         ）（         ）一份礼物，他们获得礼物后的心情怎样？他们又是如何处置这份礼物的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57200" y="502920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757920" y="3505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小猪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042920" y="4114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小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024360" y="4114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小猴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2819520" y="1676520"/>
            <a:ext cx="48765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楷体"/>
              </a:rPr>
              <a:t>走进课文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2"/>
          <a:srcRect l="9362" t="1644" r="51354" b="63004"/>
          <a:stretch/>
        </p:blipFill>
        <p:spPr>
          <a:xfrm>
            <a:off x="0" y="152280"/>
            <a:ext cx="2209680" cy="30481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2362320" y="2590920"/>
            <a:ext cx="6248160" cy="228744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、读准字音（正确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2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、读通句子（流利）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3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、抓住关键词句（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动作、语言、心理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）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读出感受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7a77"/>
                </a:solidFill>
                <a:latin typeface="隶书"/>
                <a:ea typeface="隶书"/>
              </a:rPr>
              <a:t>读出感情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743200" y="685800"/>
            <a:ext cx="4876920" cy="14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"/>
              </a:rPr>
              <a:t>我会读书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477120" y="137160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505320" y="1600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143000" y="1447920"/>
            <a:ext cx="1752480" cy="25905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8431200" y="632448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8" action="ppaction://hlinksldjump"/>
              </a:rPr>
              <a:t>下一张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500120" y="4191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吃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243320" y="41911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保存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808680" y="41911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种下了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304920" y="304920"/>
            <a:ext cx="65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小猪看着黄灿灿的麦子，开心地喊道：“太棒啦！我最爱吃白面馒头和烙饼了！”他迫不及待地把麦子磨成面粉，做成了各种各样的食品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149360" y="3049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黄灿灿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08080" y="9144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开心地喊道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095200" y="2286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990720" y="1676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6781680" y="2971800"/>
            <a:ext cx="2210040" cy="35053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877560" y="2286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黑体"/>
              </a:rPr>
              <a:t>迫不及待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1822320" y="1752480"/>
            <a:ext cx="573408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0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、看到桌上香喷喷的饭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菜，我（        ）。</a:t>
            </a:r>
            <a:r>
              <a:rPr b="0" lang="zh-CN" sz="4000" spc="-1" strike="noStrike" u="sng">
                <a:solidFill>
                  <a:srgbClr val="ffffff"/>
                </a:solidFill>
                <a:uFillTx/>
                <a:latin typeface="楷体"/>
                <a:ea typeface="楷体"/>
              </a:rPr>
              <a:t>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ffff"/>
                </a:solidFill>
                <a:uFillTx/>
                <a:latin typeface="楷体"/>
                <a:ea typeface="楷体"/>
              </a:rPr>
              <a:t>     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17680" y="47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47480" y="45720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楷体"/>
              </a:rPr>
              <a:t>造句：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14080" y="4114800"/>
            <a:ext cx="817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0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、不等妈妈说完，我就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楷体"/>
                <a:ea typeface="楷体"/>
              </a:rPr>
              <a:t>（              ）。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357560" y="40021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6019920"/>
            <a:ext cx="660240" cy="622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09480" y="838080"/>
            <a:ext cx="815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    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28954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15880" y="685800"/>
            <a:ext cx="6522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小牛捧起 饱满的麦粒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看了又看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心想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: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多好的麦子呀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我要先把它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存起来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等家里的草料和杂粮都吃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完了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再慢慢吃着好东西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.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为了防止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发霉和虫蛀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小牛经常把那袋麦子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搬到屋外透透风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,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黑体"/>
              </a:rPr>
              <a:t>晒晒太阳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057400" y="6858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905120" y="68580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捧起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477120" y="68580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看了又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1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91520" y="4572000"/>
            <a:ext cx="1752480" cy="228600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8473680" y="1371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21337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存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76560" y="1371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先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447920" y="28195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再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841320" y="1447920"/>
            <a:ext cx="734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楷体"/>
              </a:rPr>
              <a:t>       </a:t>
            </a: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楷体"/>
              </a:rPr>
              <a:t>小猴呢，他觉得面前的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楷体"/>
              </a:rPr>
              <a:t>这袋麦子是上等的麦种，便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楷体"/>
              </a:rPr>
              <a:t>把一口袋麦子全种下了地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2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828800" cy="23623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4267080" y="30481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  <a:ea typeface="楷体"/>
              </a:rPr>
              <a:t>全种下了地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12-07T12:21:3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