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E01-6AF3-4A72-A744-8303C17B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D7F-6498-4BCE-AA55-AD66B7C8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F65-6D4F-4E04-8BE2-180466E6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6724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3156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0328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6724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3156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B40-B823-402A-A48E-EB824FD0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6919-4A1C-40BF-B72E-5191B4FD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1CBF-17DF-4113-8194-DF495FA4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B393-26D0-4489-B0B8-8CF7598D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CFBC-ECFD-42AC-BA85-6606857A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F593-4BBC-49AB-82C0-5B3712E8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16160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AB1A-E05C-4DF2-995E-14E01416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9872-D338-4617-B485-FDB997AF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2A0-D238-4AF5-95FC-C0EFC40A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5B6D-6B41-447E-8C7B-E91FFA82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09EF-C1EB-4E13-B435-21989407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931C-5090-4520-928F-4557964F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7FB5-B1FB-4109-BAD7-89F2763B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6724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3156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40328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6724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73156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427C-6495-4F31-9CA4-E5ACEBE7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E2DE-868D-4B6A-A0DE-367ECAC0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A3B5B-9B8B-4EE2-892E-AACA0197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392E4-DBD6-44EF-B35D-70FAB590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46B6-C0BC-441E-812D-166D57BB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43987-A34F-4F03-BB69-4796CEF9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C44-B0B0-4CB1-A584-D0F072CB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6160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88AD0-ABC0-4309-A515-0F8F56CC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55C3E-B164-41D6-9F9C-B17C11AC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EB10A-ADA1-4F23-A3C1-F241C839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DE5AB-DE8C-466E-95EC-E2BF9FB0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EDE3D-88F6-480C-B110-C3298AC6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302EE-C16F-4C76-B730-CF6702E7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6724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3156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0328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6724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3156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6DE2-571B-492F-92B5-0D527978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E0A1C-C331-4B63-82E5-D9F9FBE0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1725-F781-4A48-941C-9CECB4CA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6F603-1021-46FA-A3B0-239C7827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48E-EEE3-4921-B3DE-A292A199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96B7-AD10-4039-ADEF-7CE3957C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3B55-3441-4389-8F7F-60DD93A2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160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81817-27D9-4E74-A934-84DDDCB2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B9EF4-ED17-4734-9EAD-8BB24D4A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BFA11-A6F9-4B0D-83AE-88D45FDD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5E712-5E96-4591-A69E-20B8E44C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8ABF9-2D76-47DA-8AB2-688C637D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3AEA6-EBEE-48A2-BE40-97978325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6724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73156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40328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6724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73156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E669-4ED4-4993-ADD5-0815ADBE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831-BBF6-413C-B573-7D917F8B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6160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2FB-2B9B-48C7-9354-0F45523D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664-3118-4685-A5C7-ADFAB9F4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604-3FB7-457A-AA50-F87D0E91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5F8-B833-4146-9906-C2B1FF86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63A1-0F02-489E-9C7B-34228B2129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2397-06F3-4A78-8D1A-0B55E084B9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E80E-8FAD-4B3F-83CA-4430B3241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7776-48F9-46FC-ABEA-3F8348F0B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6360" y="117360"/>
            <a:ext cx="9117000" cy="6696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3480" y="259920"/>
            <a:ext cx="77025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那一天，我闭目在经殿的香雾中，蓦然听见你颂经中的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</a:rPr>
              <a:t>真言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那一月，我摇动所有的经筒，不为超度，只为触摸你的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</a:rPr>
              <a:t>指尖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那一年；磕长头匍匐在山路，不为觐见，只为贴着你的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</a:rPr>
              <a:t>温暖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那一世，转山转水转佛塔，为修来世，只为途中与你相见</a:t>
            </a:r>
            <a:r>
              <a:rPr b="0" lang="zh-CN" sz="4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那一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六世达赖 仓央嘉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00280" y="2133720"/>
            <a:ext cx="809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第二关：找到适合自己的方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学习不会像转动飞轮那样简单，需要智慧和毅力，你需要找到适合自己的一套方法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10920" y="220500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听说过五步学习法吗？你不妨试试—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步，课前自学，对于不理解的地方做好标记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步，课堂领悟，掌握基本原理的来龙去脉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步，课后回顾，加深课堂理解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步，检验巩固，做到脱离课本，独立思考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五步，经常总结，能够用自己的语言表述所学的知识并加以运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4866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这也是学习的基本过程，问问自己，有没有做到？千万不要小看这几个步骤，也不要怕麻烦，这是无数成功学子的经验之谈。要知道，一旦你坚持这样做了，你就是已经在转动“飞轮”，接下来的学习就会变得高效而轻松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0920" y="24210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什么是学习？简单一句话，就是养成习惯。找到令自己满意的方法，并且坚持下去，成为习惯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样你就过了第二关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10920" y="2205000"/>
            <a:ext cx="806436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第三关：你需要不断调整自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个人都有自己的梦想，在梦想中描绘着自己将来的生活。开始时，我们会满腔热情。然而“事情永远不会百分之百地像我们预计的那样”，总会遇到种种问题，你一旦屈服、妥协，刚刚“旋转的飞轮”就会慢慢停止转动，直到有一天，你无奈地发现梦想和现实是那么的遥远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天，都有很多架飞机从我们头顶飞过，飞机上的乘客也坚信他们会到达自己的目的地。然而，你知道吗？在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5﹪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飞行时间里，飞机都是偏离航道飞行的，也就是说，没有人控制，飞机几乎一起飞就偏离了航道。区别就在于飞机是由飞行员负责方向的。飞行员有预定的目标，他清楚飞机会被气流吹得偏离航道，所以他监控着飞机的飞行方向，不时地进行调整，最终到达他的目的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640" y="2276280"/>
            <a:ext cx="84153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也是这样，你所要做的不过是不断地调整自己——向着自己预定的方向努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确，优秀是一种习惯，但是，首先，你必须习惯于优秀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1699920"/>
            <a:ext cx="82710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关：是什么阻碍着我们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惰性，是缺乏勇气，还是不够自信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关：找到适合自己的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课前自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堂领悟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             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课后回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检验巩固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经常总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关：你需要不断调整自己  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0000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6000" y="3286080"/>
            <a:ext cx="676908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ALL IS WE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关于语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☺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坚持有计划地阅读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惟有高品位高质量的阅读（阅读经典，涉猎理性著作）方能夯实语言基础，提升语言功力，体悟人生真情，开拓心胸视野，养成深邃思想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习惯要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坚持计划阅读，思考让文字从脑子里过一遍，作读书笔记，诵读记忆名篇名段名句，在作文时勾引起阅读的记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508360" y="5084640"/>
            <a:ext cx="3166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主题班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00000" y="1699920"/>
            <a:ext cx="7772760" cy="14623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>
                <a:alpha val="78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9280" y="261720"/>
            <a:ext cx="8417160" cy="66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☺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坚持有效地训练：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课后思考练习题不能轻视；字音病句成语等语言基础积累训练常抓不懈；诗与文的阅读训练要全身心卷入并要始终激活思维，注重反思；对测试训练中呈现的问题要注意梳理归纳并能形成省悟的文字；作文训练事关语文学业大局轻视不得，马虎不得，练一次要能有一次收获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习惯要求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学会自主安排，独立完成，定时定量，掌握方法，注重反思，积极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探究思维过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-72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卓越在一些特别的习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4560" y="1125000"/>
            <a:ext cx="8569440" cy="60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坚持自主学习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以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问题与弱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安排时间与内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以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阅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作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念，严谨训练，突破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坚持阅读笔记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坚持高效训练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坚持动笔思考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坚持翻工具书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新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代汉语词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语词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古代汉语常用字字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古代汉语辞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坚持高效地上好早读课（精神饱满，内容实在，记忆高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吃苦之心追求卓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050920" y="1197000"/>
            <a:ext cx="5329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可奈年光似水声，迢迢去不停（晏殊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读书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做题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修补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整理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笔记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问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追求卓越，创造辉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青春或许可以挥霍，但父母的血汗不能挥霍，肩头的责任不能挥霍，老师的劳动不能挥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个没有理想的人是痛苦的，一个没有心愿的人生活是昏暗的，一个没有目标的人梦是没有光彩的，一个好逸恶劳的人是享受不到真正的快乐的，一个没有恒心的人是不会有番作为的，一个只想不做的人是不会成功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55920"/>
            <a:ext cx="8278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祝同学们学得愉快，学有所成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一定熟悉这样的现象：骑自行车的时候，刚开始是不是很费力气？而一旦骑起来以后，就会感到轻松多了。汽车在发动的时候很慢，而后速度会越来越快……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91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就是“飞轮效应”。为了使静止的飞轮转动起来，一开始我们必须使很大的力气，一圈一圈反复地推，每转一圈都很费力，但是每一圈的努力都不会白费，飞轮会转动得越来越快。达到某一临界点后，你无须再费更大的力气，飞轮依旧会快速转动，而且不停地转动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12360" y="2017800"/>
            <a:ext cx="828036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每个人都想出色，都想让自己发展得更快些，但却往往输在起点上。正如“飞轮效应”一样，一开始我们必须付出数倍的努力，而你一旦开始，就会有一定的惯性推动着你去行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希腊哲学家亚里士多德说“优秀是一种习惯”，而要想让优秀成为一种习惯。你需要通过下面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三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仿宋_GB2312"/>
                <a:ea typeface="黑体"/>
              </a:rPr>
              <a:t>第一关：是什么阻碍着我们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飞轮一开始转动是很困难的，那么是什么阻碍着？看看下面的故事吧，或许能给我们一些启示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仿宋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仿宋_GB2312"/>
              </a:rPr>
              <a:t>有个懒惰的年轻人，四处寻访能够克服凡事提不起劲的原因，最后终于找到一位大师。大师听完年轻人的来意后，便带着他来到一个火车头旁边。大师将一个木块卡住火车头的轮子，然后让年轻人启动火车。蒸汽火车头马力已全部开启了，可是火车头就是不动。接着，大师拿起了木块，火车头立即动了起来，缓缓加速前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000" y="201780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大师笑着对年轻人说：“就这个小小的木块，让这个时速可达一百公里以上的火车头寸步难行。年轻人，你内心的火车头被什么样的小木块阻挡住了呢？除了你自己之外，没有任何人能帮你拿掉你的惰性，当然也包括我在内。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247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轻人听了大师的话，内心大受震撼。从此以后，他不断地行动，决不让自己停顿下来，不仅克服了自己的惰性，更创造了无比惊人的庞大的事业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呀，又是什么挡住了我们追求卓越的道路？是惰性，是缺乏勇气，还是不够自信？你把挡住自己的小木块拿掉了吗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是这样，那么，恭喜你，你已通过了第一关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00:36:02Z</dcterms:created>
  <dc:creator>萝卜家园</dc:creator>
  <dc:description/>
  <dc:language>en-US</dc:language>
  <cp:lastModifiedBy>萝卜家园</cp:lastModifiedBy>
  <cp:lastPrinted>1899-12-30T00:00:00Z</cp:lastPrinted>
  <dcterms:modified xsi:type="dcterms:W3CDTF">2008-07-25T01:36:05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