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gif" ContentType="image/gif"/>
  <Override PartName="/ppt/media/image28.gif" ContentType="image/gif"/>
  <Override PartName="/ppt/media/image23.wmf" ContentType="image/x-wmf"/>
  <Override PartName="/ppt/media/image27.gif" ContentType="image/gif"/>
  <Override PartName="/ppt/media/image22.gif" ContentType="image/gif"/>
  <Override PartName="/ppt/media/image20.wmf" ContentType="image/x-wmf"/>
  <Override PartName="/ppt/media/image17.png" ContentType="image/png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9.png" ContentType="image/png"/>
  <Override PartName="/ppt/media/image26.gif" ContentType="image/gif"/>
  <Override PartName="/ppt/media/image16.gif" ContentType="image/gif"/>
  <Override PartName="/ppt/media/image15.gif" ContentType="image/gif"/>
  <Override PartName="/ppt/media/image24.png" ContentType="image/png"/>
  <Override PartName="/ppt/media/image34.jpeg" ContentType="image/jpeg"/>
  <Override PartName="/ppt/media/image12.gif" ContentType="image/gif"/>
  <Override PartName="/ppt/media/image45.wmf" ContentType="image/x-wmf"/>
  <Override PartName="/ppt/media/image30.gif" ContentType="image/gif"/>
  <Override PartName="/ppt/media/image35.jpeg" ContentType="image/jpeg"/>
  <Override PartName="/ppt/media/image5.png" ContentType="image/png"/>
  <Override PartName="/ppt/media/image25.gif" ContentType="image/gif"/>
  <Override PartName="/ppt/media/image38.png" ContentType="image/png"/>
  <Override PartName="/ppt/media/image9.wmf" ContentType="image/x-wmf"/>
  <Override PartName="/ppt/media/image44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39.png" ContentType="image/png"/>
  <Override PartName="/ppt/media/image41.jpeg" ContentType="image/jpeg"/>
  <Override PartName="/ppt/media/image42.png" ContentType="image/png"/>
  <Override PartName="/ppt/media/image43.png" ContentType="image/png"/>
  <Override PartName="/ppt/media/image10.gif" ContentType="image/gif"/>
  <Override PartName="/ppt/media/image40.png" ContentType="image/png"/>
  <Override PartName="/ppt/media/image8.wmf" ContentType="image/x-wmf"/>
  <Override PartName="/ppt/media/image13.png" ContentType="image/png"/>
  <Override PartName="/ppt/media/image37.wmf" ContentType="image/x-wmf"/>
  <Override PartName="/ppt/media/image7.wmf" ContentType="image/x-wmf"/>
  <Override PartName="/ppt/media/image33.jpeg" ContentType="image/jpeg"/>
  <Override PartName="/ppt/media/image4.gif" ContentType="image/gif"/>
  <Override PartName="/ppt/media/image6.wmf" ContentType="image/x-wmf"/>
  <Override PartName="/ppt/media/image3.gif" ContentType="image/gif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B8B5-83AD-4B65-9AA8-25CC6A8F24C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DA31-16ED-4678-8B23-B9A6CB1B7254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552C-A2EF-423F-9F30-C22BD96B42C5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entury Gothic"/>
              </a:rPr>
              <a:t>略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Object 1028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609480" cy="4143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029"/>
          <p:cNvSpPr/>
          <p:nvPr/>
        </p:nvSpPr>
        <p:spPr>
          <a:xfrm>
            <a:off x="1523880" y="434340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4723-D9AD-4C78-9DA7-E6E19E553897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略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952D-5060-4AE0-870A-59867F9AB5A9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心理调整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人只有在一个地方没有压力，那就是天堂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背水一战的故事：三十六计当中的一则故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BE28-13F5-4DB2-BB5E-FAB6ADE57499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个人努力改变自己首先就要了解自己。（引出下节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DEAB-6984-4ACA-9114-099941A841D7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职业压力测评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从来没有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）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很少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）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有时侯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常常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几乎都如此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感觉到因为权为太小而无法完成你的职责？ 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时常觉得工作范围和职责分不清楚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时常不知道自己有什麽晋升的机会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时常感到工作负荷太重，在一般情况下不能完成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时常感到对周围的人所给予的冲突感到无力应付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对于你的工作，你是否时常感到无法完全胜任？ 　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时常不知道上司对你的评价如何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对完成工作所需要的信息，你是否常感到不足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担心你的决定会影响到他人的生活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常常觉得无法改变上司对你有影响的决定和行动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时常觉得你的同事可能不喜欢或不接受你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时常不了解工作伙伴对你的期望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经常觉得在工作上时常要做自己判断相左的事情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时常认为工作量可能妨碍到工作的质量？ 　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你是否感到工作会干扰你的家庭生活？ 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 填完测评表后，请将各题所得的分数相加在一起，然后再除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，分数愈高，表示你的职业压力越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BDD6-1FB7-4C3E-AA9C-060842F17346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有时没有压力就没有动力，说明压力和动力是可以互相转化的，客观理性的识别压力，把消极的压力转变成积极的压力反而会给到我们一定的帮助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59D7-6320-4A90-8D72-8CEE63DB3CFD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C9F5-61A8-4792-B700-69BF1D0866DC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DAF7-0FB0-4D6E-B0BA-3221371B970E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380520" y="4266720"/>
            <a:ext cx="6248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3500-F813-4379-95F2-10C28AAE13AD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6D15-6569-4171-9AA6-F3848EFA420E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常常听到“压力”这个词语，压力也似乎成了现代人的“口头禅”。“我的压力好大啊”，“请你不要再给我压力好不好”，“我现在没有能力承受那种压力了”，“看到他就让觉得好有压力哦”，而且现场大部分同事因为压力大而产生离职的念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希望通过此课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压力有一个理性和科学的认识，从而懂得用积极的行为来应对压力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有效缓解自我压力的根本途径和方法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最终给到大家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生活和工作方面一些帮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! 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略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D9B2-621D-445F-966C-A16338C0F245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54A9-92DA-4EAC-B44E-32FD3ED333FC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9542-F1B0-4DC2-B3BB-7B8B38AD1A1F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DDE6-2AA8-43B0-9780-16FE637CB7AA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3B78-E3D3-4624-BA94-274CDB8F141D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A7ED-6C06-4D93-8A2B-EE88E51E413B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任何事情都有利有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学会用相对论去看问题，看世界．回顾中学学过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塞翁失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3E97-A32C-44CE-A069-9E2AEE764616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2BEB-8539-4296-B006-FEF8E9F2EF01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A101-FFD4-44DB-BB2E-864C5F358AFA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重要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一、合理宣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将心中有烦恼、不痛快、伤心的事，</a:t>
            </a:r>
            <a:r>
              <a:rPr b="1" i="1" lang="zh-CN" sz="800" spc="-1" strike="noStrike">
                <a:solidFill>
                  <a:srgbClr val="000000"/>
                </a:solidFill>
                <a:latin typeface="Times New Roman"/>
              </a:rPr>
              <a:t>向朋友或亲人倾诉，借此释放下不快。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外国不是有这样一句名言：“一个人欢乐，两个人分享，欢乐就变成了两个，一个痛苦两个人分担，痛苦就变成了半个”。</a:t>
            </a:r>
            <a:r>
              <a:rPr b="1" i="1" lang="zh-CN" sz="800" spc="-1" strike="noStrike">
                <a:solidFill>
                  <a:srgbClr val="000000"/>
                </a:solidFill>
                <a:latin typeface="Times New Roman"/>
              </a:rPr>
              <a:t>写作也不乏是一种较好的宣泄方式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，一个人静悄悄的在自己的天地里用纸和笔倾诉着，不但可以缓和当时的情绪，还可以将这种情绪体验当作回忆和借鉴的财富。另外，</a:t>
            </a:r>
            <a:r>
              <a:rPr b="1" i="1" lang="zh-CN" sz="800" spc="-1" strike="noStrike">
                <a:solidFill>
                  <a:srgbClr val="000000"/>
                </a:solidFill>
                <a:latin typeface="Times New Roman"/>
              </a:rPr>
              <a:t>哭和喊叫也是一种释放积聚能量，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调整机体平衡的方式，所以当我们忧愁、烦恼时，找一个适当的地方大哭一场或大喊一通也未尝不可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4E1D-9EC1-40E0-B59B-329C88378E5C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0000"/>
                </a:solidFill>
                <a:latin typeface="Times New Roman"/>
              </a:rPr>
              <a:t>重要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二、转移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科学研究表明，当一个人产生某种情绪时，头脑里就会出现一个较强的兴奋区。这时，如果另外建立一个或几个兴奋区，就可以抵消或冲淡这个较强的兴奋区。因而，当我们处于苦闷、烦恼或发怒时，便可以将注意力转移到有兴趣的活动中去。如</a:t>
            </a:r>
            <a:r>
              <a:rPr b="1" i="1" lang="zh-CN" sz="800" spc="-1" strike="noStrike">
                <a:solidFill>
                  <a:srgbClr val="000000"/>
                </a:solidFill>
                <a:latin typeface="Times New Roman"/>
              </a:rPr>
              <a:t>去户外散散步，欣赏大自然美景；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1" i="1" lang="zh-CN" sz="800" spc="-1" strike="noStrike">
                <a:solidFill>
                  <a:srgbClr val="000000"/>
                </a:solidFill>
                <a:latin typeface="Times New Roman"/>
              </a:rPr>
              <a:t>打一打球，做一些运动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；或者</a:t>
            </a:r>
            <a:r>
              <a:rPr b="1" i="1" lang="zh-CN" sz="800" spc="-1" strike="noStrike">
                <a:solidFill>
                  <a:srgbClr val="000000"/>
                </a:solidFill>
                <a:latin typeface="Times New Roman"/>
              </a:rPr>
              <a:t>听听轻松愉快的音乐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800" spc="-1" strike="noStrike">
                <a:solidFill>
                  <a:srgbClr val="000000"/>
                </a:solidFill>
                <a:latin typeface="Times New Roman"/>
              </a:rPr>
              <a:t>看看喜剧电影，幽默漫画；或与其他人聊聊天，参加一些公益活动；或是逛逛街，买些自己喜欢的小玩意等等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。这些都可以在一定程度上冲淡以致忘却烦恼，排遣内心不快，使情绪逐步好转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E923-463F-4096-9792-85CE80E4EE2B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略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721C-F867-4891-A6E1-14C969698B8E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三、激励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自我激励是一种精神动力，一个人在困难和逆境中，如果能有效进行自我激励，就能从不良情绪中振作起来。日常生活中，我们可以用名言、格言激动自己、约束自己。</a:t>
            </a:r>
            <a:r>
              <a:rPr b="1" i="1" lang="zh-CN" sz="800" spc="-1" strike="noStrike">
                <a:solidFill>
                  <a:srgbClr val="000000"/>
                </a:solidFill>
                <a:latin typeface="Times New Roman"/>
              </a:rPr>
              <a:t>如发怒时，想一想“忍一时风平浪静，退一步海阔天空”；受到挫折，灰心丧气时，就多想想“病树前头万木春，沿舟侧畔千帆过”。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这样都会收到很好的效果。有时，我们也可以用自己的理想进行激励，暗示自己要达到预定目标，就要能为常人之所不能为，</a:t>
            </a:r>
            <a:r>
              <a:rPr b="1" i="1" lang="zh-CN" sz="800" spc="-1" strike="noStrike">
                <a:solidFill>
                  <a:srgbClr val="000000"/>
                </a:solidFill>
                <a:latin typeface="Times New Roman"/>
              </a:rPr>
              <a:t>使自己在追求理想的道路上始终有积极兴奋的情绪相伴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2C8C-76B0-433D-81CD-F48436547267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四、换位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换位就是指应该多站在对方的角度上想问题，与他人互换角色位置去体会别人的情绪和思想。在工作当中，经常要站在上司或下属的角度考虑一些问题，便会多一些同感及理解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54A5-E291-4183-BE54-C13F658079F1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五、暗示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如压力很大时，很紧张时，我们可以温和地反复对自己说：“我很沉着冷静”，”我很有信心“等。这样通过自我安慰的暗示，增强了取胜的信心；另外像平时面对一些目前没做过的事情，缺乏自信心，我们就可以在心里默念，“我能行！”“只要努力，一定能成功”，促使自己取得成绩，树立自信，形成积极的情绪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8B54-D955-4298-8B26-C21DA1A11567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六、升华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升华是指个体受挫折后，把压抑在心里的情绪冲动转向社会许可的其他活动中去，屈原放逐，乃赋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离骚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》”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，蒲松龄落第而著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聊斋志异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，德国诗人歌德失恋而著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少年维特之烦恼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都是他们失意后情感升华所致。当我们对其它同事有嫉妒和不满心理时，我们不应是讽刺、打击，或中伤他人，而是应该自觉刻苦钻研，奋力拼搏，争取超过其对手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C116-23BA-441F-B15C-D66C49BDBF9A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七、幽默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幽默是指个体遇到挫折、处境困难或尴尬时，用一种奇特、含蓄、双关、讽喻、诙谐、巧合等语言动作的良性刺激，来化解困难，以摆脱内心的失衡状态。它是一种优美的、健康的品质，可以增添情趣，摆脱尴尬，冰释误会，驱除忧愁。生活中，幽默的方式有很多，比如说些幽默有趣的小故事或俏皮活，故意开开玩笑，做些滑稽好笑的动作等等。这些都可以放松我们的心理，解除被压抑的情绪，使我们处在愉快、兴奋的情绪中。我们应该努力创造条件使自己成为一个具有幽默感的人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C21D-577A-4245-87E4-E0F4D2C15E8F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八、慎食法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饮食对不良情绪的调控和疏导：如含有丰富的维生素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的食品草莓、洋葱头、菜花、菠菜、水果就能适当放松紧张情绪；香蕉含有血清素，有助于在自卑或挫折面前产生成功意识；柠檬能使人在疲劳、颓废的情况下精力充沛，产生兴奋的情绪；虾、海蛰含有多种脂肪酸可以保持长时间注意力集中。所以，花一些时间，多了解食品的特性，对我们疏导不良情绪，也是大有裨益的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DB2E-C277-4E02-A781-6667C78C5D15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在大千世界，我真如一粒沙粒，因此不必太庸人自扰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7A3A-B0CC-4F31-8B58-EB47FFD82E7C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55D1-29BA-4CA6-8B34-9DFE0C0CEC0E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D0EB-AACA-47D5-8BB0-3BAC69B4EB10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85B8-7D72-44B5-81F3-DAF34276542C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让学员分享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分享：死囚实验：说割开了他的血管，让他血滴而尽死亡，其实是打开水笼头滴水。过了一个晚上，死囚面色苍白死亡。他不是流血而死亡，而是被自己巨大的恐惧和压力杀死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975C-9BE8-4639-A401-5D8C18F7D8A1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一张一弛及文武之道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7306-EC45-4F06-9805-1D152A01B4BB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0462-8553-4DF2-8E40-A8E789265045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68CC-3A34-4BCE-B4B5-4EA9B31F15D2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5197-B519-4898-9892-E0F45BAE658F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9F37-BEF9-4991-BA07-19FE198A21FC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E021-13C5-42C7-AD50-D59FE40B1C01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顾前面有压力时我们情绪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体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为症状及工作方面的表现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绪上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躁不安、易怒、心烦意乱、沮丧、惶恐等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体方面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失眠、头晕、背痛、肌肉抽搐、心跳过速、全身无力、手脚冰凉等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为症状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括暴饮暴食、易哭、大叫、坐立不安、易发脾气、逃避社交、以及做恶梦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作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可能会经常迟到、常请病假、频频缺席、工作效率降低，易犯错误、士气低落、缺乏工作满足感、甚至身心俱疲而累垮累透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略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C7BC-25D8-4F7B-9A5B-387B9ED3008D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743C-5B95-4518-BE25-7E9ECDB7798D}" type="slidenum">
              <a:rPr b="0" lang="zh-CN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社会压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人际关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现实生活：比如说离婚、无孕、大龄未婚等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工作压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任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指标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调整岗位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家庭压力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夫妻关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经济收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父母赡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子女读书就业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032" descr="paint"/>
          <p:cNvPicPr/>
          <p:nvPr/>
        </p:nvPicPr>
        <p:blipFill>
          <a:blip r:embed="rId2"/>
          <a:stretch/>
        </p:blipFill>
        <p:spPr>
          <a:xfrm>
            <a:off x="90792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934320" cy="21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 Black"/>
                <a:ea typeface="隶书"/>
              </a:rPr>
              <a:t>如 何 缓 解 压 力</a:t>
            </a:r>
            <a:br>
              <a:rPr sz="6600"/>
            </a:br>
            <a:endParaRPr b="0" lang="en-US" sz="66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6" name="Rectangle 1039"/>
          <p:cNvSpPr/>
          <p:nvPr/>
        </p:nvSpPr>
        <p:spPr>
          <a:xfrm>
            <a:off x="1676520" y="1752480"/>
            <a:ext cx="6400800" cy="17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内部压力来源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649116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自身的个性会加重负面压力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完美主义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过度服从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过分执着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疾病、死亡等健康方面的压力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3" name="Picture 2053" descr="1610293"/>
          <p:cNvPicPr/>
          <p:nvPr/>
        </p:nvPicPr>
        <p:blipFill>
          <a:blip r:embed="rId1"/>
          <a:stretch/>
        </p:blipFill>
        <p:spPr>
          <a:xfrm>
            <a:off x="6732720" y="0"/>
            <a:ext cx="208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总结：压力来源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31640" y="2276640"/>
            <a:ext cx="37450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缺乏人际支持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想法不切实际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身体紧张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情绪压抑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忽略自己的需要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感官刺激过度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6" name="Picture 6" descr="1610298"/>
          <p:cNvPicPr/>
          <p:nvPr/>
        </p:nvPicPr>
        <p:blipFill>
          <a:blip r:embed="rId1"/>
          <a:stretch/>
        </p:blipFill>
        <p:spPr>
          <a:xfrm>
            <a:off x="324000" y="0"/>
            <a:ext cx="22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64800" y="2637000"/>
            <a:ext cx="81788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原则一：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压力会无可避免地伴随你的一生。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四、如何去缓解压力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29" name="Text Box 1028"/>
          <p:cNvSpPr/>
          <p:nvPr/>
        </p:nvSpPr>
        <p:spPr>
          <a:xfrm>
            <a:off x="971640" y="3860640"/>
            <a:ext cx="80010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原则二：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压力是双刃剑，适当的压力也会创造佳绩。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WordArt 2055"/>
          <p:cNvSpPr txBox="1"/>
          <p:nvPr/>
        </p:nvSpPr>
        <p:spPr>
          <a:xfrm>
            <a:off x="4859280" y="1341360"/>
            <a:ext cx="3960720" cy="11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教你两招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1" name="Rectangle 2056"/>
          <p:cNvSpPr/>
          <p:nvPr/>
        </p:nvSpPr>
        <p:spPr>
          <a:xfrm>
            <a:off x="971640" y="1844640"/>
            <a:ext cx="30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心理调整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正确面对压力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6346800" cy="33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通过有效的压力管理，从而大幅提高生活的质量。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需要个人努力改变自己。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4" name="Picture 1029" descr="16102911"/>
          <p:cNvPicPr/>
          <p:nvPr/>
        </p:nvPicPr>
        <p:blipFill>
          <a:blip r:embed="rId1"/>
          <a:stretch/>
        </p:blipFill>
        <p:spPr>
          <a:xfrm>
            <a:off x="6804000" y="0"/>
            <a:ext cx="201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了解自己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1692360" y="2781360"/>
            <a:ext cx="5410080" cy="28954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6175e"/>
              </a:gs>
              <a:gs pos="100000">
                <a:srgbClr val="ff00ff"/>
              </a:gs>
            </a:gsLst>
            <a:lin ang="18900000"/>
          </a:gradFill>
          <a:ln cap="sq"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971800" y="3962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Times New Roman"/>
              </a:rPr>
              <a:t>自我评估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533412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楷体_GB2312"/>
              </a:rPr>
              <a:t>你的工作压力指数？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识别压力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64800" y="2781000"/>
            <a:ext cx="81788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楷体_GB2312"/>
              </a:rPr>
              <a:t>识别积极和消极的压力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6443640" y="2060640"/>
          <a:ext cx="2305080" cy="33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2060640"/>
                    <a:ext cx="2305080" cy="33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6"/>
          <p:cNvGraphicFramePr/>
          <p:nvPr/>
        </p:nvGraphicFramePr>
        <p:xfrm>
          <a:off x="2411280" y="3933720"/>
          <a:ext cx="206532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933720"/>
                    <a:ext cx="206532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面对压力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916360" y="234936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事件控制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191120" y="400536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自我调整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6" descr="1610299"/>
          <p:cNvPicPr/>
          <p:nvPr/>
        </p:nvPicPr>
        <p:blipFill>
          <a:blip r:embed="rId1"/>
          <a:stretch/>
        </p:blipFill>
        <p:spPr>
          <a:xfrm>
            <a:off x="395280" y="0"/>
            <a:ext cx="24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面对压力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64800" y="2420640"/>
            <a:ext cx="81788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  <a:ea typeface="楷体_GB2312"/>
              </a:rPr>
              <a:t>事件控制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10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楷体_GB2312"/>
              </a:rPr>
              <a:t>突发事件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10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楷体_GB2312"/>
              </a:rPr>
              <a:t>不得不做的事情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1" name="Picture 4" descr="16102917"/>
          <p:cNvPicPr/>
          <p:nvPr/>
        </p:nvPicPr>
        <p:blipFill>
          <a:blip r:embed="rId1"/>
          <a:stretch/>
        </p:blipFill>
        <p:spPr>
          <a:xfrm>
            <a:off x="6227640" y="0"/>
            <a:ext cx="230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突发事件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处理方法：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问自己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66"/>
                </a:solidFill>
                <a:latin typeface="Century Gothic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是否我该处理？”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是”</a:t>
            </a:r>
            <a:r>
              <a:rPr b="1" lang="zh-CN" sz="2800" spc="-1" strike="noStrike">
                <a:solidFill>
                  <a:srgbClr val="000066"/>
                </a:solidFill>
                <a:latin typeface="Century Gothic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接受并面对它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努力寻找资源。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不是”</a:t>
            </a:r>
            <a:r>
              <a:rPr b="1" lang="zh-CN" sz="2800" spc="-1" strike="noStrike">
                <a:solidFill>
                  <a:srgbClr val="000066"/>
                </a:solidFill>
                <a:latin typeface="Century Gothic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请说 </a:t>
            </a:r>
            <a:r>
              <a:rPr b="1" lang="en-US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no !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否则，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会一边埋怨，一边做。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258920" y="5409360"/>
            <a:ext cx="2286000" cy="5205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你有权拒绝他人过多地侵占你的时间。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突发事件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2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处理这类问题的前提条件：不要将他人的压力转移到自己身上。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Text Box 5125"/>
          <p:cNvSpPr/>
          <p:nvPr/>
        </p:nvSpPr>
        <p:spPr>
          <a:xfrm>
            <a:off x="611280" y="378936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要做的赶快记下来——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随时带着小笔记本（例如小翻页本）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8" name="Picture 5126" descr=""/>
          <p:cNvPicPr/>
          <p:nvPr/>
        </p:nvPicPr>
        <p:blipFill>
          <a:blip r:embed="rId1"/>
          <a:stretch/>
        </p:blipFill>
        <p:spPr>
          <a:xfrm>
            <a:off x="6804000" y="5013360"/>
            <a:ext cx="120168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培训目标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5122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对压力有一个理性和科学的认识。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学会分析自己和他人的各种压力，懂得用积极的行为来应对压力。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掌握有效缓解自我压力的根本途径和方法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9" name="Picture 12" descr="1610291"/>
          <p:cNvPicPr/>
          <p:nvPr/>
        </p:nvPicPr>
        <p:blipFill>
          <a:blip r:embed="rId1"/>
          <a:stretch/>
        </p:blipFill>
        <p:spPr>
          <a:xfrm>
            <a:off x="6372360" y="0"/>
            <a:ext cx="252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突发事件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63640" y="1885680"/>
            <a:ext cx="68724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处理步骤：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冷静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判断、分析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寻求解决方法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1" name="Picture 4" descr="PROGRESS"/>
          <p:cNvPicPr/>
          <p:nvPr/>
        </p:nvPicPr>
        <p:blipFill>
          <a:blip r:embed="rId1"/>
          <a:stretch/>
        </p:blipFill>
        <p:spPr>
          <a:xfrm>
            <a:off x="1187280" y="3573360"/>
            <a:ext cx="74901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920" y="1844280"/>
            <a:ext cx="55627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练习放松数到十</a:t>
            </a:r>
            <a:br>
              <a:rPr sz="3600"/>
            </a:br>
            <a:br>
              <a:rPr sz="3600"/>
            </a:b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6948360" y="3860640"/>
            <a:ext cx="1257480" cy="25131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突发事件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WordArt 7"/>
          <p:cNvSpPr txBox="1"/>
          <p:nvPr/>
        </p:nvSpPr>
        <p:spPr>
          <a:xfrm>
            <a:off x="2195640" y="5084640"/>
            <a:ext cx="352872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请跟我做呼吸练习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9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不得不做的事情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楷体_GB2312"/>
              </a:rPr>
              <a:t>心理准备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楷体_GB2312"/>
              </a:rPr>
              <a:t>预       演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8" name="Object 1029" descr=""/>
          <p:cNvPicPr/>
          <p:nvPr/>
        </p:nvPicPr>
        <p:blipFill>
          <a:blip r:embed="rId1"/>
          <a:stretch/>
        </p:blipFill>
        <p:spPr>
          <a:xfrm>
            <a:off x="5508720" y="4365720"/>
            <a:ext cx="2448000" cy="20286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30"/>
          <p:cNvSpPr/>
          <p:nvPr/>
        </p:nvSpPr>
        <p:spPr>
          <a:xfrm>
            <a:off x="2700360" y="314172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有助于改善你的表现并建立信心，成为一个主动的人。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1031"/>
          <p:cNvSpPr/>
          <p:nvPr/>
        </p:nvSpPr>
        <p:spPr>
          <a:xfrm>
            <a:off x="3132000" y="177336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重复放映感到有压力的事——潜意识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8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面对压力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132000" y="2276640"/>
            <a:ext cx="35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c0c0"/>
                </a:solidFill>
                <a:latin typeface="Times New Roman"/>
                <a:ea typeface="楷体_GB2312"/>
              </a:rPr>
              <a:t>事件控制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492360" y="378936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自我调整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4" descr="16102929"/>
          <p:cNvPicPr/>
          <p:nvPr/>
        </p:nvPicPr>
        <p:blipFill>
          <a:blip r:embed="rId1"/>
          <a:stretch/>
        </p:blipFill>
        <p:spPr>
          <a:xfrm>
            <a:off x="468360" y="0"/>
            <a:ext cx="215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自我调整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42926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ahoma"/>
                <a:ea typeface="楷体_GB2312"/>
              </a:rPr>
              <a:t>心理的重要性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468360" y="2882520"/>
            <a:ext cx="8207280" cy="35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我的的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心境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我作主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i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灵  商  提  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不合理的信念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68480" y="1828440"/>
            <a:ext cx="52070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楷体_GB2312"/>
              </a:rPr>
              <a:t>绝对化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楷体_GB2312"/>
              </a:rPr>
              <a:t>过分概括化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ahoma"/>
                <a:ea typeface="楷体_GB2312"/>
              </a:rPr>
              <a:t>糟糕至极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80" name="Picture 8" descr="16102933"/>
          <p:cNvPicPr/>
          <p:nvPr/>
        </p:nvPicPr>
        <p:blipFill>
          <a:blip r:embed="rId1"/>
          <a:stretch/>
        </p:blipFill>
        <p:spPr>
          <a:xfrm>
            <a:off x="6300720" y="0"/>
            <a:ext cx="239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Object 1026" descr=""/>
          <p:cNvPicPr/>
          <p:nvPr/>
        </p:nvPicPr>
        <p:blipFill>
          <a:blip r:embed="rId1"/>
          <a:stretch/>
        </p:blipFill>
        <p:spPr>
          <a:xfrm>
            <a:off x="3124080" y="2133720"/>
            <a:ext cx="2984760" cy="4103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027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不合理的信念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WordArt 1028"/>
          <p:cNvSpPr txBox="1"/>
          <p:nvPr/>
        </p:nvSpPr>
        <p:spPr>
          <a:xfrm>
            <a:off x="2700360" y="2637000"/>
            <a:ext cx="360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扩大化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2" dur="20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00000" y="2565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不要为打翻的牛奶哭泣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826920" y="4320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人生不如意，十之八九。无法改变的事，忘掉它；有机会去补救的，抓住最后机会。后悔、埋怨、消沉不但于往事无补，反而会阻碍新的前进步伐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合理情绪控制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6516720" y="2708280"/>
            <a:ext cx="20034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自我疏导八大法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16360" y="2781360"/>
            <a:ext cx="5719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合理宣泄 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找人倾诉、写作、大哭、大声喊叫</a:t>
            </a:r>
            <a:r>
              <a:rPr b="1" lang="en-US" sz="3600" spc="-1" strike="noStrike">
                <a:solidFill>
                  <a:srgbClr val="000066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90" name="Picture 5" descr="16102931"/>
          <p:cNvPicPr/>
          <p:nvPr/>
        </p:nvPicPr>
        <p:blipFill>
          <a:blip r:embed="rId1"/>
          <a:stretch/>
        </p:blipFill>
        <p:spPr>
          <a:xfrm>
            <a:off x="250920" y="0"/>
            <a:ext cx="230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自我疏导八大法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87640" y="1628280"/>
            <a:ext cx="56484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乾坤大挪移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93" name="Picture 4" descr="16102938"/>
          <p:cNvPicPr/>
          <p:nvPr/>
        </p:nvPicPr>
        <p:blipFill>
          <a:blip r:embed="rId1"/>
          <a:stretch/>
        </p:blipFill>
        <p:spPr>
          <a:xfrm>
            <a:off x="250920" y="0"/>
            <a:ext cx="259236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3635280" y="2421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去户外散散步，欣赏大自然美景；或者打一打球，做一些运动；或者听听轻松愉快的音乐，看看喜剧电影，幽默漫画；或与其他人聊聊天，参加一些公益活动；或是逛逛街，买些自己喜欢的小玩意等等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培训大纲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640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压力会给我们带来什么样的后果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什么是压力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压力源自何方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如何去缓解压力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2" name="Picture 5" descr="1610290"/>
          <p:cNvPicPr/>
          <p:nvPr/>
        </p:nvPicPr>
        <p:blipFill>
          <a:blip r:embed="rId1"/>
          <a:stretch/>
        </p:blipFill>
        <p:spPr>
          <a:xfrm>
            <a:off x="6516720" y="0"/>
            <a:ext cx="230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自我疏导八大法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66564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自我激励法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97" name="Picture 4" descr="16102910"/>
          <p:cNvPicPr/>
          <p:nvPr/>
        </p:nvPicPr>
        <p:blipFill>
          <a:blip r:embed="rId1"/>
          <a:stretch/>
        </p:blipFill>
        <p:spPr>
          <a:xfrm>
            <a:off x="6732720" y="0"/>
            <a:ext cx="208728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1979640" y="30560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用名言、格言激励自己、约束自己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用自己的理想进行激励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自我疏导八大法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665640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换位思考法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2340000" y="314172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经常站在他人的角度考虑一些问题，便会多一些同感及理解。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2" name="Picture 5" descr="16102937"/>
          <p:cNvPicPr/>
          <p:nvPr/>
        </p:nvPicPr>
        <p:blipFill>
          <a:blip r:embed="rId1"/>
          <a:stretch/>
        </p:blipFill>
        <p:spPr>
          <a:xfrm>
            <a:off x="6588000" y="0"/>
            <a:ext cx="196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自我疏导八大法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03640" y="1885680"/>
            <a:ext cx="54324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暗示法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627280" y="3068640"/>
            <a:ext cx="61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我很沉着冷静！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我很有信心！”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我能行！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只要努力，一定能成功！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6" name="Picture 5" descr="16102919"/>
          <p:cNvPicPr/>
          <p:nvPr/>
        </p:nvPicPr>
        <p:blipFill>
          <a:blip r:embed="rId1"/>
          <a:stretch/>
        </p:blipFill>
        <p:spPr>
          <a:xfrm>
            <a:off x="395280" y="0"/>
            <a:ext cx="212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自我疏导八大法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979640" y="1885680"/>
            <a:ext cx="66564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升华法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700360" y="314172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把压抑在心里的情绪冲动转向社会许可的其他活动中去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0" name="Picture 6" descr="20041242023574091"/>
          <p:cNvPicPr/>
          <p:nvPr/>
        </p:nvPicPr>
        <p:blipFill>
          <a:blip r:embed="rId1"/>
          <a:stretch/>
        </p:blipFill>
        <p:spPr>
          <a:xfrm>
            <a:off x="324000" y="0"/>
            <a:ext cx="172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8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自我疏导八大法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66564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幽默自嘲法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971640" y="3141720"/>
            <a:ext cx="51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说些幽默有趣的小故事或俏皮活，故意开开玩笑，做些滑稽好笑的动作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790092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WordArt 12"/>
          <p:cNvSpPr txBox="1"/>
          <p:nvPr/>
        </p:nvSpPr>
        <p:spPr>
          <a:xfrm>
            <a:off x="4859280" y="1989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奇特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6" name="WordArt 13"/>
          <p:cNvSpPr txBox="1"/>
          <p:nvPr/>
        </p:nvSpPr>
        <p:spPr>
          <a:xfrm>
            <a:off x="6300720" y="2205000"/>
            <a:ext cx="9144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含蓄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WordArt 14"/>
          <p:cNvSpPr txBox="1"/>
          <p:nvPr/>
        </p:nvSpPr>
        <p:spPr>
          <a:xfrm>
            <a:off x="7093080" y="3141720"/>
            <a:ext cx="91440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双关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8" name="WordArt 15"/>
          <p:cNvSpPr txBox="1"/>
          <p:nvPr/>
        </p:nvSpPr>
        <p:spPr>
          <a:xfrm>
            <a:off x="4716360" y="443700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讽喻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9" name="WordArt 16"/>
          <p:cNvSpPr txBox="1"/>
          <p:nvPr/>
        </p:nvSpPr>
        <p:spPr>
          <a:xfrm>
            <a:off x="5940360" y="5084640"/>
            <a:ext cx="18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巧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0" name="WordArt 17"/>
          <p:cNvSpPr txBox="1"/>
          <p:nvPr/>
        </p:nvSpPr>
        <p:spPr>
          <a:xfrm>
            <a:off x="2556000" y="4581360"/>
            <a:ext cx="9144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诙谐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3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8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自我疏导八大法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79640" y="1885680"/>
            <a:ext cx="66564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慎食法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3" name="Picture 5" descr="u=1481657489,989924395&amp;fm=0&amp;gp=30"/>
          <p:cNvPicPr/>
          <p:nvPr/>
        </p:nvPicPr>
        <p:blipFill>
          <a:blip r:embed="rId1"/>
          <a:stretch/>
        </p:blipFill>
        <p:spPr>
          <a:xfrm>
            <a:off x="6012000" y="4365720"/>
            <a:ext cx="2087280" cy="1439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u=2722743144,3579150026&amp;fm=0&amp;gp=34"/>
          <p:cNvPicPr/>
          <p:nvPr/>
        </p:nvPicPr>
        <p:blipFill>
          <a:blip r:embed="rId2"/>
          <a:stretch/>
        </p:blipFill>
        <p:spPr>
          <a:xfrm>
            <a:off x="4178160" y="620640"/>
            <a:ext cx="2040120" cy="230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u=3448506561,3136355923&amp;fm=0&amp;gp=16"/>
          <p:cNvPicPr/>
          <p:nvPr/>
        </p:nvPicPr>
        <p:blipFill>
          <a:blip r:embed="rId3"/>
          <a:stretch/>
        </p:blipFill>
        <p:spPr>
          <a:xfrm>
            <a:off x="6588000" y="1989000"/>
            <a:ext cx="2232000" cy="1622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u=962814329,1626787726&amp;fm=0&amp;gp=16"/>
          <p:cNvPicPr/>
          <p:nvPr/>
        </p:nvPicPr>
        <p:blipFill>
          <a:blip r:embed="rId4"/>
          <a:stretch/>
        </p:blipFill>
        <p:spPr>
          <a:xfrm>
            <a:off x="684360" y="314172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AZ045"/>
          <p:cNvPicPr/>
          <p:nvPr/>
        </p:nvPicPr>
        <p:blipFill>
          <a:blip r:embed="rId5"/>
          <a:stretch/>
        </p:blipFill>
        <p:spPr>
          <a:xfrm>
            <a:off x="2916360" y="4581360"/>
            <a:ext cx="230508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1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8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66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8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074"/>
          <p:cNvSpPr/>
          <p:nvPr/>
        </p:nvSpPr>
        <p:spPr>
          <a:xfrm>
            <a:off x="1130040" y="2093040"/>
            <a:ext cx="274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冥想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.....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3076"/>
          <p:cNvSpPr/>
          <p:nvPr/>
        </p:nvSpPr>
        <p:spPr>
          <a:xfrm>
            <a:off x="324000" y="536832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厦门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国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界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地球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太阳系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银河系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宇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0" name="Object 3077"/>
          <p:cNvGraphicFramePr/>
          <p:nvPr/>
        </p:nvGraphicFramePr>
        <p:xfrm>
          <a:off x="4140360" y="2060640"/>
          <a:ext cx="2819160" cy="32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307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060640"/>
                    <a:ext cx="281916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WordArt 3078"/>
          <p:cNvSpPr txBox="1"/>
          <p:nvPr/>
        </p:nvSpPr>
        <p:spPr>
          <a:xfrm>
            <a:off x="6300720" y="692280"/>
            <a:ext cx="18288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我放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9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0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1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286000" y="198108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234936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正确对待别人的批评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116000" y="2997360"/>
            <a:ext cx="525636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有趣又有效的尝试：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别指望你一点都没有压力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别指望人们都很友好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把每个人当成你的老师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把每个问题当成你的老师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116080" cy="31626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0" y="18288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脸皮练厚点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WordArt 2052"/>
          <p:cNvSpPr txBox="1"/>
          <p:nvPr/>
        </p:nvSpPr>
        <p:spPr>
          <a:xfrm>
            <a:off x="6300720" y="692280"/>
            <a:ext cx="182880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我放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3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2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3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7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8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8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3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8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8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8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 Black"/>
                <a:ea typeface="隶书"/>
              </a:rPr>
              <a:t>聊天室</a:t>
            </a:r>
            <a:endParaRPr b="0" lang="en-US" sz="48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40" name="Text Box 1027"/>
          <p:cNvSpPr/>
          <p:nvPr/>
        </p:nvSpPr>
        <p:spPr>
          <a:xfrm>
            <a:off x="533520" y="20574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大家聊聊：还有哪些放松的方法？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1" name="Picture 1028" descr=""/>
          <p:cNvPicPr/>
          <p:nvPr/>
        </p:nvPicPr>
        <p:blipFill>
          <a:blip r:embed="rId1"/>
          <a:stretch/>
        </p:blipFill>
        <p:spPr>
          <a:xfrm>
            <a:off x="2627280" y="3860640"/>
            <a:ext cx="3745080" cy="2743200"/>
          </a:xfrm>
          <a:prstGeom prst="rect">
            <a:avLst/>
          </a:prstGeom>
          <a:ln w="0">
            <a:noFill/>
          </a:ln>
        </p:spPr>
      </p:pic>
      <p:sp>
        <p:nvSpPr>
          <p:cNvPr id="242" name="WordArt 1030"/>
          <p:cNvSpPr txBox="1"/>
          <p:nvPr/>
        </p:nvSpPr>
        <p:spPr>
          <a:xfrm>
            <a:off x="3657600" y="2666880"/>
            <a:ext cx="18288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生活保健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4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5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6" dur="8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026"/>
          <p:cNvSpPr/>
          <p:nvPr/>
        </p:nvSpPr>
        <p:spPr>
          <a:xfrm>
            <a:off x="1066680" y="214776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《圣经》有一句话：“不要为明日忧虑，让今天最快乐是第一步。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Rectangle 1027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行动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6299280" y="2334960"/>
            <a:ext cx="1255680" cy="49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融入生命，融入生活，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融入今天，融入快乐。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6" name="Object 1029"/>
          <p:cNvGraphicFramePr/>
          <p:nvPr/>
        </p:nvGraphicFramePr>
        <p:xfrm>
          <a:off x="2286000" y="3200400"/>
          <a:ext cx="311472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200400"/>
                    <a:ext cx="31147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5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6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8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一、压力会给我们带来什么样的后果</a:t>
            </a:r>
            <a:endParaRPr b="0" lang="en-US" sz="36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27280" y="1844280"/>
            <a:ext cx="38163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情绪方面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身体方面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行为症状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工作学习生活方面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1258920" y="2637000"/>
            <a:ext cx="2663640" cy="313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活得真累！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让时间去对付压力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6927840" cy="37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没有不能被时间减轻、软化的悲伤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不想做就暂放一下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在压力过强时，你需要停下来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50" name="Picture 4" descr="WATCH"/>
          <p:cNvPicPr/>
          <p:nvPr/>
        </p:nvPicPr>
        <p:blipFill>
          <a:blip r:embed="rId1"/>
          <a:stretch/>
        </p:blipFill>
        <p:spPr>
          <a:xfrm>
            <a:off x="6877080" y="2852640"/>
            <a:ext cx="194004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5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7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7" dur="8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 Black"/>
              </a:rPr>
              <a:t>结束语</a:t>
            </a:r>
            <a:endParaRPr b="0" lang="en-US" sz="40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5640" y="2492280"/>
            <a:ext cx="75200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你并不能对每一种减压方法都有兴趣。没关系，只要找出符合你生活形态和对你有用的方法，经过一段时间的努力后，你终究能控制自己的压力。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5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538440" y="49417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谢谢参与！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推荐书籍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----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好好学习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天天向上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!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457200" y="17524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如何舒解压力        红旗出版社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685800" y="2209680"/>
            <a:ext cx="5791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826920" y="2421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缓解压力            上海科技技术出版社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8" name="Object 8"/>
          <p:cNvGraphicFramePr/>
          <p:nvPr/>
        </p:nvGraphicFramePr>
        <p:xfrm>
          <a:off x="4788000" y="4653000"/>
          <a:ext cx="1670040" cy="17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4653000"/>
                    <a:ext cx="167004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Object 9" descr=""/>
          <p:cNvPicPr/>
          <p:nvPr/>
        </p:nvPicPr>
        <p:blipFill>
          <a:blip r:embed="rId3"/>
          <a:stretch/>
        </p:blipFill>
        <p:spPr>
          <a:xfrm>
            <a:off x="2124000" y="3789360"/>
            <a:ext cx="2187720" cy="26370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"/>
          <p:cNvSpPr/>
          <p:nvPr/>
        </p:nvSpPr>
        <p:spPr>
          <a:xfrm>
            <a:off x="539640" y="306792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简单生活             中华工商联合出版社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3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4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5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0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362320" y="2362320"/>
          <a:ext cx="4495680" cy="35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362320"/>
                    <a:ext cx="449568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一、压力会给我们带来什么样的后果</a:t>
            </a:r>
            <a:endParaRPr b="0" lang="en-US" sz="36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5842800" y="522936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0066"/>
                </a:solidFill>
                <a:latin typeface="Times New Roman"/>
              </a:rPr>
              <a:t>你是这样吗？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二、压力定义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476360" y="2565360"/>
            <a:ext cx="71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压力是我们对刺激产生的一种心理与生理上产生的综合感受。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任何能扰乱人们心理、生理健康状态的干扰都可称之为压力。严格来说，压力是一个选择结果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意思是你可选择生活在压力下、或者生活在没有压力之下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300720" y="907920"/>
          <a:ext cx="1344600" cy="13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907920"/>
                    <a:ext cx="13446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 Black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rial Black"/>
                <a:ea typeface="隶书"/>
              </a:rPr>
              <a:t>聊天室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1332000" y="2205000"/>
            <a:ext cx="57909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你什么时候会感到有压力？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08" name="Object 10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1979640" cy="23925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2879640" y="4076640"/>
            <a:ext cx="6264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ahoma"/>
                <a:ea typeface="楷体_GB2312"/>
              </a:rPr>
              <a:t>有压力时我们有什么样的表现？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三、压力来源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1403280" y="3284640"/>
          <a:ext cx="2895840" cy="21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2895840" cy="21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7"/>
          <p:cNvSpPr/>
          <p:nvPr/>
        </p:nvSpPr>
        <p:spPr>
          <a:xfrm>
            <a:off x="755640" y="24199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外部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564000" y="24199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内部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050920" y="5588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压力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6" name="Object 10"/>
          <p:cNvGraphicFramePr/>
          <p:nvPr/>
        </p:nvGraphicFramePr>
        <p:xfrm>
          <a:off x="5292720" y="836640"/>
          <a:ext cx="2502000" cy="532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836640"/>
                    <a:ext cx="250200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外部压力来源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32000" y="2349000"/>
            <a:ext cx="6516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社会压力</a:t>
            </a: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: 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社会关系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工作压力：市场、职场都是战场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cc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家庭压力：小家庭、大压力</a:t>
            </a:r>
            <a:r>
              <a:rPr b="0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0" name="Picture 4" descr="BD05545_"/>
          <p:cNvPicPr/>
          <p:nvPr/>
        </p:nvPicPr>
        <p:blipFill>
          <a:blip r:embed="rId1"/>
          <a:stretch/>
        </p:blipFill>
        <p:spPr>
          <a:xfrm>
            <a:off x="6588000" y="1628640"/>
            <a:ext cx="1798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6:08:46Z</dcterms:created>
  <dc:creator>rosen</dc:creator>
  <dc:description/>
  <dc:language>en-US</dc:language>
  <cp:lastModifiedBy>rosen</cp:lastModifiedBy>
  <cp:lastPrinted>2001-03-05T02:37:46Z</cp:lastPrinted>
  <dcterms:modified xsi:type="dcterms:W3CDTF">2012-07-18T10:13:06Z</dcterms:modified>
  <cp:revision>355</cp:revision>
  <dc:subject/>
  <dc:title>压力管理</dc:title>
</cp:coreProperties>
</file>