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26.gif" ContentType="image/gif"/>
  <Override PartName="/ppt/media/image20.jpeg" ContentType="image/jpeg"/>
  <Override PartName="/ppt/media/image22.jpeg" ContentType="image/jpeg"/>
  <Override PartName="/ppt/media/image39.png" ContentType="image/png"/>
  <Override PartName="/ppt/media/click.wav" ContentType="audio/x-wav"/>
  <Override PartName="/ppt/media/image18.jpeg" ContentType="image/jpeg"/>
  <Override PartName="/ppt/media/image17.jpeg" ContentType="image/jpeg"/>
  <Override PartName="/ppt/media/image21.jpeg" ContentType="image/jpeg"/>
  <Override PartName="/ppt/media/chimes.wav" ContentType="audio/x-wav"/>
  <Override PartName="/ppt/media/camera.wav" ContentType="audio/x-wav"/>
  <Override PartName="/ppt/media/image14.jpeg" ContentType="image/jpeg"/>
  <Override PartName="/ppt/media/image41.jpeg" ContentType="image/jpeg"/>
  <Override PartName="/ppt/media/image16.jpeg" ContentType="image/jpeg"/>
  <Override PartName="/ppt/media/image1.png" ContentType="image/png"/>
  <Override PartName="/ppt/media/image24.jpeg" ContentType="image/jpeg"/>
  <Override PartName="/ppt/media/image8.jpeg" ContentType="image/jpeg"/>
  <Override PartName="/ppt/media/image35.jpeg" ContentType="image/jpeg"/>
  <Override PartName="/ppt/media/image27.jpeg" ContentType="image/jpeg"/>
  <Override PartName="/ppt/media/image33.jpeg" ContentType="image/jpeg"/>
  <Override PartName="/ppt/media/image6.jpeg" ContentType="image/jpeg"/>
  <Override PartName="/ppt/media/image28.jpeg" ContentType="image/jpeg"/>
  <Override PartName="/ppt/media/image34.jpeg" ContentType="image/jpeg"/>
  <Override PartName="/ppt/media/image29.gif" ContentType="image/gif"/>
  <Override PartName="/ppt/media/image13.jpeg" ContentType="image/jpeg"/>
  <Override PartName="/ppt/media/image40.jpeg" ContentType="image/jpeg"/>
  <Override PartName="/ppt/media/image7.jpeg" ContentType="image/jpeg"/>
  <Override PartName="/ppt/media/image38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15.gif" ContentType="image/gif"/>
  <Override PartName="/ppt/media/image5.jpeg" ContentType="image/jpeg"/>
  <Override PartName="/ppt/media/image10.gif" ContentType="image/gif"/>
  <Override PartName="/ppt/media/image3.jpeg" ContentType="image/jpeg"/>
  <Override PartName="/ppt/media/image37.jpeg" ContentType="image/jpeg"/>
  <Override PartName="/ppt/media/image9.jpeg" ContentType="image/jpeg"/>
  <Override PartName="/ppt/media/image11.png" ContentType="image/png"/>
  <Override PartName="/ppt/media/image19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4539-13DD-4E14-B47C-3527A92CA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0F41-DDFA-406B-9740-A27072C24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0B94315-34EB-48B1-9E39-C77145E8E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28BB66-3917-44A9-84E4-557DB771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100DE6A-C490-4C8C-83EE-5A6B29FAE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558A485-BF15-40D3-9546-9CC2F1819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B8046902-0ADB-4CA7-8409-2BBDA5905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11E129B-B4DC-45E7-A368-1FC73DE42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1CC1730-4B91-4E29-8F45-CD641C8A1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F4A7AE7-2EC3-4CBC-9901-7A89CD0E4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CB2888A-AD1E-4AD7-A7B8-ECE97C928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177AA-AF24-4EBF-8FF5-468F7775B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AC7D-FAA3-4993-9CA1-D6593731B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45602-D17E-4916-928C-C912386F3D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949C3-EEC6-4451-A049-5D2EB2EE7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B1701-CED6-4901-8529-11B12847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14DA1-45CB-488F-A2F4-90D591B2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FFE32-5455-4D12-B203-981B23630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397E5-44C1-4752-B046-8A3924B5A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50DAC-C6D4-4611-9EEB-099EF296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E3AE-856A-451E-B902-C57779944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03F3E-2C5D-4355-BBE6-763EF0EFD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ED75E-3A61-4A7B-8715-DD734D85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1177A-F88D-47D4-ACC9-B58E612AB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7D91-554F-4566-85B2-588984566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189B2-B040-465A-9C0F-E72461282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436CE4-251E-4CFC-9A58-FCE2E89AB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732F4C-715F-4C16-943C-9EE0F87F4C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1FD3E-4995-4B8B-97FA-F41DA0703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32AFBD-6AB1-41D4-BB38-C72BDA2FD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32F7CC-B85D-4B61-A4CF-1968853EC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1F61-218C-4F0F-95C6-9EF214019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917BDE-68D9-4FF2-92C6-DB2BF09FA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0106F-AC7B-4DB5-8D73-7C065769C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44F69-BFED-4EF3-AAE2-0ED2C4A78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6ECF63-F46E-4632-8210-6D0EB5769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D91AA-5048-4252-8165-163FD31A67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9BB80B-D2F7-472D-AC78-7F35EAD1F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4EA25F-FB9C-4D6D-B61A-C46094D24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DFD012-7DED-4D26-A4F4-79695BE44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437E9F-1471-4117-A9BD-12FE6CD03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1DD7B-4297-4842-8064-E1437EC0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3788-BCCC-4665-8BA4-F15DE61F2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C1F966-2A75-4A26-BF30-774D45063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773DB2-BE14-4CAA-B0C5-D9814EFF5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A3CB50-A4C5-4684-8A4E-CB7E2EC0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D0D4E-E69C-4F32-A868-5A24F341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0A45C2-B80C-4CC7-9A7C-67892625C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3EAF3-6423-4A06-8106-6F114EB18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2A6588-05B0-4F1C-86A7-6A1FEAFD3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967AAF-2470-4569-9407-C5916B5C7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9033A-D792-4B15-A1F4-76281EF71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D581FE-AAFE-4002-B1E7-CAEEC5AC0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D13F-CFAA-4124-A8B5-306ADB23A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5F5E97-603B-4C78-95E7-B4DCFCD38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7A343D-A473-465E-BF6F-AE472659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A8AAB9-AAD1-48DB-B7E8-1E69EA931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7CD832-8E0F-4748-85D8-E497C6A4E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1DEBC9-BAB6-47CE-9A0F-326A333AB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2F9880-95F5-4EC3-BC46-57F6AE8A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9FDB0B-0AE1-4DF6-8643-DA5BB0CB3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9AF36-1DAD-4348-80DC-898A509DD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161243-1D2E-4077-B5E0-2DF2A9D45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6EEA6-C7F9-4ACB-BC60-2414FF815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CE21-4CC1-4DB4-B7F0-C6E19D45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AF8ED-245C-4806-823E-E08A1B53E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638D7B-92C4-42BC-8149-80EA29E2B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F26A17-A521-42E6-A337-4E6D2E8B0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A46C98-73B4-4799-ADC2-C93A8623A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5CD997-DFDE-4C56-AE7B-62261D65D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2AC4ED-A4D5-41C7-B3B5-5E3277AC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824339-19F5-4FD2-9FC4-2232689AA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B16465-0F51-4501-9EEC-71188415F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CE50F9-6EC3-44C5-AADD-EA9C3635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5178C-CDF2-4CE8-AF68-6F737CDF1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E745-6F22-4B35-B3D6-92DAD2B40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90886F-D54C-470D-A98E-321E0801F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A931A6-B760-447C-9FFF-57244D45B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187EC6-6BA2-4E18-B820-AE129571C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E50741-6C2A-40EF-B40C-9771873EF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BEF5A1-EE34-4BCF-A19A-F1069983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7298CE-93F3-4F9E-9A7F-D786D1C92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34DD5B-FC21-4B19-ADD5-04EB88FAA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1D992B-BC0E-4624-A5ED-0E40F7B13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6F2F49-0BF8-4CAE-9181-C0FA58FAD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9CCB0A-D590-4E06-B725-C3B54B7FE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9C4A-C441-4222-B00D-79D2264F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F2971-49AD-47BE-994A-98DF8A373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9B1E7-E1AA-470F-84DF-70C5FD8A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59881F-0B6B-460D-9BC7-644F4597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8F97A-E604-4B30-8FE5-1E55B5632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38C025-F7CE-4DD2-996E-8CB256ACA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CD39A3-7DF5-448A-8949-0F13E88026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4795BB-5753-45D8-8ACD-55C2F43A8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7F6823-78FD-4D4E-9075-822C4767D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2827D6-9CA7-40B8-9C20-341DBC4B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F30F20-CAE4-4756-8AD4-A16E5D83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1CBD5-950F-497C-8A88-97DED2CB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CB0E9-6617-4868-A0AA-B7F6BCB06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8759F4-9DF1-4D9D-B439-6DC36A2C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66E3FA-4A35-46AA-9835-1419FB39E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909B73-017E-418B-99E8-B6FF6481E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2D8B23-F220-4B99-9781-D378F4697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2DD4CE-A604-46C2-9CD2-6F1DBF511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96EA6D-DA20-40AF-A738-89C02D418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037BBCE-8FD0-4E66-995C-EFDBEC424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8132AF0F-EB58-4D8A-A70D-EAA9C0346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A9C61008-C4EE-40BA-A4F4-2696F7DB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2CCAE-5809-41ED-AC16-9F05ABDC9E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2B272-D058-4ECC-8F16-7602A148ECF9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5C21C-194F-45A6-8EE1-D717AFC4949E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26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98547-C330-4E5F-BE93-AD5706BF44EF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73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PlaceHolder 1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FE503-74B2-471E-A6D7-187FE162D86C}" type="slidenum">
              <a:rPr b="0" lang="zh-CN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F050-4C06-4127-8C3A-6DA753378A0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dt" idx="19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ftr" idx="20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sldNum" idx="21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32519-DCF1-4759-945E-7BF82DC9F61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B7294-8DBE-4531-884A-783EFEC883EE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ftr" idx="2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 type="sldNum" idx="2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A9849-D4C8-42AE-A56D-43F2B3BF66AF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news.tom.com/1002/3291/2004417-840013.html" TargetMode="External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himes.wav"/><Relationship Id="rId3" Type="http://schemas.openxmlformats.org/officeDocument/2006/relationships/audio" Target="../media/click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8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548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/>
          <p:nvPr/>
        </p:nvSpPr>
        <p:spPr>
          <a:xfrm>
            <a:off x="2959920" y="1295280"/>
            <a:ext cx="3106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9900"/>
                </a:solidFill>
                <a:latin typeface="Times New Roman"/>
                <a:ea typeface="隶书"/>
              </a:rPr>
              <a:t>欢迎光临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971640" y="5300640"/>
            <a:ext cx="7549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陈瑞琪中学初三（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）班主题班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6" name=""/>
          <p:cNvSpPr/>
          <p:nvPr/>
        </p:nvSpPr>
        <p:spPr>
          <a:xfrm>
            <a:off x="1476360" y="2708280"/>
            <a:ext cx="7086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源于《史记》。季布是楚国的义士，他生性耿直，乐善好施，特别是他答应过的事情，无论困难再大，他都一定要设法办好，所以深受当时人们的赞誉。当时有个叫曹邱生的人，特地去见季布。并说：“我听楚人说过：得到百斤黄金，也抵不上季布的一个诺言。” 后来，人们把这个故事概括为“一诺千金”，用来比喻重视诺言，说话算数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116000" y="2060640"/>
            <a:ext cx="723888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8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1676520" cy="1981080"/>
          </a:xfrm>
          <a:prstGeom prst="rect">
            <a:avLst/>
          </a:prstGeom>
          <a:ln w="0">
            <a:noFill/>
          </a:ln>
        </p:spPr>
      </p:pic>
      <p:sp>
        <p:nvSpPr>
          <p:cNvPr id="419" name=""/>
          <p:cNvSpPr txBox="1"/>
          <p:nvPr/>
        </p:nvSpPr>
        <p:spPr>
          <a:xfrm>
            <a:off x="1523880" y="380880"/>
            <a:ext cx="1971720" cy="134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 </a:t>
            </a:r>
            <a:r>
              <a:rPr b="0" lang="zh-CN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议一议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0" name=""/>
          <p:cNvSpPr/>
          <p:nvPr/>
        </p:nvSpPr>
        <p:spPr>
          <a:xfrm>
            <a:off x="1828800" y="1219320"/>
            <a:ext cx="38955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一诺千金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615600" y="731880"/>
            <a:ext cx="911520" cy="341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  <a:ea typeface="楷体"/>
              </a:rPr>
              <a:t>立木为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2124000" y="18900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春秋战国时，秦国的商鞅在秦孝公的支持下主持变法。当时处于战争频繁、人心惶惶之际，为了树立威信，推进改革，商鞅下令在都城南门外立一根三丈长的木头，并当众许下诺言：谁能把这根木头搬到北门，赏金十两。围观的人不相信如此轻而易举的事能得到如此高的赏赐，结果没人肯出手一试。于是，商鞅将赏金提高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金。重赏之下必有勇夫，终于有人站起将木头扛到了北门。商鞅立即赏了他五十金。商鞅这一举动，在百姓心中树立起了威信，而商鞅接下来的变法就很快在秦国推广开了。新法使秦国渐渐强盛，最终统一了中国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1120320" y="548280"/>
            <a:ext cx="911520" cy="42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Times New Roman"/>
              </a:rPr>
              <a:t>烽火戏诸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2050920" y="0"/>
            <a:ext cx="662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同样在商鞅“立木为信”的地方，在早它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年以前，却曾发生过一场令人啼笑皆非的“烽火戏诸侯”的闹剧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周幽王有个宠妃叫褒姒，为博取她的一笑，周幽王下令在都城附近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多座烽火台上点起烽火——烽火是边关报警的信号，只有在外敌入侵需召诸侯来救援的时候才能点燃。结果诸侯们见到烽火，率领兵将们匆匆赶到，弄明白这是君王为博妻一笑的花招后又愤然离去。褒姒看到平日威仪赫赫的诸侯们手足无措的样子，终于开心一笑。五年后，酉夷太戎大举攻周，幽王烽火再燃而诸侯未到——谁也不愿再上第二次当了。结果幽王被逼自刎而褒姒也被俘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/>
          <p:nvPr/>
        </p:nvSpPr>
        <p:spPr>
          <a:xfrm>
            <a:off x="755640" y="1197000"/>
            <a:ext cx="838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楷体"/>
              </a:rPr>
              <a:t>立木为信与烽火戏诸候的对比事例说明了什么</a:t>
            </a:r>
            <a:r>
              <a:rPr b="0" lang="zh-CN" sz="48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-252360" y="0"/>
            <a:ext cx="1676520" cy="198108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 txBox="1"/>
          <p:nvPr/>
        </p:nvSpPr>
        <p:spPr>
          <a:xfrm>
            <a:off x="1476360" y="44280"/>
            <a:ext cx="1971720" cy="134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 </a:t>
            </a:r>
            <a:r>
              <a:rPr b="0" lang="zh-CN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议一议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29" name=""/>
          <p:cNvSpPr/>
          <p:nvPr/>
        </p:nvSpPr>
        <p:spPr>
          <a:xfrm>
            <a:off x="539640" y="2922480"/>
            <a:ext cx="817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一个“立木取信”，一诺千金；一个帝王无信，戏玩“狼来了”的游戏。结果前者变法成功，国强势壮；后者自取其辱，身死国亡。可见，“信”对一个国家的兴衰存亡都起着非常重要的作用。中国自古就有“民惟邦本，本固邦宁”、“得民心者得天下，失民心者失天下”的明训，还有“水可载舟亦可覆舟”之说，唐代魏征把诚信说成是“国之大纲”，可见“诚信”之重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 txBox="1"/>
          <p:nvPr/>
        </p:nvSpPr>
        <p:spPr>
          <a:xfrm>
            <a:off x="3722760" y="122400"/>
            <a:ext cx="36576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诚信是立国之本。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p:transition>
    <p:strips dir="rd"/>
  </p:transition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4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155520" y="0"/>
            <a:ext cx="97308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 vert="eaVert">
            <a:spAutoFit/>
          </a:bodyPr>
          <a:p>
            <a:pPr>
              <a:spcBef>
                <a:spcPts val="3314"/>
              </a:spcBef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88800" y="1130400"/>
            <a:ext cx="5150160" cy="210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zh-CN" sz="37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至今已有</a:t>
            </a:r>
            <a:r>
              <a:rPr b="1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1200</a:t>
            </a:r>
            <a:r>
              <a:rPr b="1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多年历史，通过几十代人的不懈努力、清朝光绪年间，就在莱比锡国际博览会上获金奖的三大名牌火腿之冠的金华火腿，也是当地的一个支柱产业；然而不法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429000" y="2546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28_19_4192" descr="图：千年金华火腿销售降到最低点 1 ::河南铁通::"/>
          <p:cNvPicPr/>
          <p:nvPr/>
        </p:nvPicPr>
        <p:blipFill>
          <a:blip r:embed="rId1"/>
          <a:stretch/>
        </p:blipFill>
        <p:spPr>
          <a:xfrm>
            <a:off x="5446800" y="1130400"/>
            <a:ext cx="3541680" cy="266220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1853280" y="0"/>
            <a:ext cx="527544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5600" spc="-1" strike="noStrike">
                <a:solidFill>
                  <a:srgbClr val="f80e24"/>
                </a:solidFill>
                <a:latin typeface="Times New Roman"/>
                <a:ea typeface="华文新魏"/>
              </a:rPr>
              <a:t>利欲熏心</a:t>
            </a:r>
            <a:r>
              <a:rPr b="0" lang="zh-CN" sz="5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—</a:t>
            </a:r>
            <a:r>
              <a:rPr b="0" lang="zh-CN" sz="5000" spc="-1" strike="noStrike">
                <a:solidFill>
                  <a:srgbClr val="ffff00"/>
                </a:solidFill>
                <a:latin typeface="Times New Roman"/>
                <a:ea typeface="黑体"/>
              </a:rPr>
              <a:t>千年火腿遭封查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46040" y="4033800"/>
            <a:ext cx="8697960" cy="53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分子曹锡平、曹锡洪却用有毒农药“敌敌畏”淹制了有毒火腿，至使</a:t>
            </a:r>
            <a:r>
              <a:rPr b="1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160</a:t>
            </a:r>
            <a:r>
              <a:rPr b="1" lang="zh-CN" sz="2900" spc="-1" strike="noStrike">
                <a:solidFill>
                  <a:srgbClr val="000000"/>
                </a:solidFill>
                <a:latin typeface="黑体"/>
                <a:ea typeface="黑体"/>
              </a:rPr>
              <a:t>多家生产厂家毫无例外地遭政府部门封查，全国各大、中、小城市纷纷撤柜，各地经销商不约而同地退货；导致名牌火腿跌入低谷，毁了千年的名牌。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0"/>
                            </p:stCondLst>
                            <p:childTnLst>
                              <p:par>
                                <p:cTn id="186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8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6500"/>
                            </p:stCondLst>
                            <p:childTnLst>
                              <p:par>
                                <p:cTn id="190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">
            <a:hlinkClick r:id="rId1"/>
          </p:cNvPr>
          <p:cNvSpPr/>
          <p:nvPr/>
        </p:nvSpPr>
        <p:spPr>
          <a:xfrm>
            <a:off x="1619280" y="450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122480" y="1503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" descr="不少营养不良的婴儿极度浮肿，甚至睁不开眼睛"/>
          <p:cNvPicPr/>
          <p:nvPr/>
        </p:nvPicPr>
        <p:blipFill>
          <a:blip r:embed="rId2"/>
          <a:stretch/>
        </p:blipFill>
        <p:spPr>
          <a:xfrm>
            <a:off x="5148360" y="836640"/>
            <a:ext cx="3995640" cy="3573360"/>
          </a:xfrm>
          <a:prstGeom prst="rect">
            <a:avLst/>
          </a:prstGeom>
          <a:ln w="0">
            <a:noFill/>
          </a:ln>
        </p:spPr>
      </p:pic>
      <p:sp>
        <p:nvSpPr>
          <p:cNvPr id="440" name=""/>
          <p:cNvSpPr/>
          <p:nvPr/>
        </p:nvSpPr>
        <p:spPr>
          <a:xfrm>
            <a:off x="0" y="617400"/>
            <a:ext cx="5076720" cy="1842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spAutoFit/>
          </a:bodyPr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                 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度泛滥安徽阜阳市农村市场的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“无营养”劣质婴儿奶粉，导致婴儿头大、嘴小、浮肿，低烧。鲜花般娇嫩的幼小生命，刚来到人世几个月就枯萎、凋谢，罪魁祸首竟是本应为他们提供充足“养料”的奶粉。致使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个婴儿无治死亡，残废的婴儿六七十名之多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全市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8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户劣质奶粉经销商被工商局立案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, 3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种劣质奶粉 依法取缔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731680" y="-171360"/>
            <a:ext cx="3029400" cy="94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5600" spc="-1" strike="noStrike">
                <a:solidFill>
                  <a:srgbClr val="fc1239"/>
                </a:solidFill>
                <a:latin typeface="Times New Roman"/>
                <a:ea typeface="隶书"/>
              </a:rPr>
              <a:t>花朵</a:t>
            </a:r>
            <a:r>
              <a:rPr b="0" lang="zh-CN" sz="46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—本该鲜艳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297120" y="7342200"/>
            <a:ext cx="61668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zh-CN" sz="800" spc="-1" strike="noStrike">
                <a:solidFill>
                  <a:srgbClr val="000000"/>
                </a:solidFill>
                <a:latin typeface="Times New Roman"/>
              </a:rPr>
              <a:t>图片来自新华网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918040" y="5027760"/>
            <a:ext cx="237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阜阳大头娃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4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3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3500"/>
                            </p:stCondLst>
                            <p:childTnLst>
                              <p:par>
                                <p:cTn id="215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7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r>
              <a:rPr b="1" lang="zh-CN" sz="3600" spc="-1" strike="noStrike">
                <a:solidFill>
                  <a:srgbClr val="cc0000"/>
                </a:solidFill>
                <a:latin typeface="Times New Roman"/>
                <a:ea typeface="楷体"/>
              </a:rPr>
              <a:t>三鹿奶粉事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4464000" cy="3025800"/>
          </a:xfrm>
          <a:prstGeom prst="rect">
            <a:avLst/>
          </a:prstGeom>
          <a:ln w="0">
            <a:noFill/>
          </a:ln>
        </p:spPr>
      </p:pic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4643280" y="1628640"/>
            <a:ext cx="4319640" cy="3251160"/>
          </a:xfrm>
          <a:prstGeom prst="rect">
            <a:avLst/>
          </a:prstGeom>
          <a:ln w="0">
            <a:noFill/>
          </a:ln>
        </p:spPr>
      </p:pic>
      <p:pic>
        <p:nvPicPr>
          <p:cNvPr id="448" name="" descr=""/>
          <p:cNvPicPr/>
          <p:nvPr/>
        </p:nvPicPr>
        <p:blipFill>
          <a:blip r:embed="rId3"/>
          <a:stretch/>
        </p:blipFill>
        <p:spPr>
          <a:xfrm>
            <a:off x="179280" y="3429000"/>
            <a:ext cx="4464000" cy="2986200"/>
          </a:xfrm>
          <a:prstGeom prst="rect">
            <a:avLst/>
          </a:prstGeom>
          <a:ln w="0">
            <a:noFill/>
          </a:ln>
        </p:spPr>
      </p:pic>
      <p:sp>
        <p:nvSpPr>
          <p:cNvPr id="449" name="">
            <a:hlinkClick r:id="" action="ppaction://hlinkshowjump?jump=previousslide"/>
          </p:cNvPr>
          <p:cNvSpPr/>
          <p:nvPr/>
        </p:nvSpPr>
        <p:spPr>
          <a:xfrm>
            <a:off x="7164360" y="5877000"/>
            <a:ext cx="503280" cy="216000"/>
          </a:xfrm>
          <a:custGeom>
            <a:avLst/>
            <a:gdLst>
              <a:gd name="textAreaLeft" fmla="*/ 13680 w 503280"/>
              <a:gd name="textAreaRight" fmla="*/ 489600 w 503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50280" h="21600">
                <a:moveTo>
                  <a:pt x="0" y="0"/>
                </a:moveTo>
                <a:lnTo>
                  <a:pt x="50280" y="0"/>
                </a:lnTo>
                <a:lnTo>
                  <a:pt x="50280" y="21600"/>
                </a:lnTo>
                <a:lnTo>
                  <a:pt x="0" y="21600"/>
                </a:lnTo>
                <a:close/>
              </a:path>
              <a:path fill="lightenLess" w="50280" h="21600">
                <a:moveTo>
                  <a:pt x="0" y="0"/>
                </a:moveTo>
                <a:lnTo>
                  <a:pt x="50280" y="0"/>
                </a:lnTo>
                <a:lnTo>
                  <a:pt x="48880" y="1400"/>
                </a:lnTo>
                <a:lnTo>
                  <a:pt x="1400" y="1400"/>
                </a:lnTo>
                <a:close/>
              </a:path>
              <a:path fill="darken" w="50280" h="21600">
                <a:moveTo>
                  <a:pt x="50280" y="0"/>
                </a:moveTo>
                <a:lnTo>
                  <a:pt x="50280" y="21600"/>
                </a:lnTo>
                <a:lnTo>
                  <a:pt x="48880" y="20200"/>
                </a:lnTo>
                <a:lnTo>
                  <a:pt x="48880" y="1400"/>
                </a:lnTo>
                <a:close/>
              </a:path>
              <a:path fill="darkenLess" w="50280" h="21600">
                <a:moveTo>
                  <a:pt x="502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880" y="20200"/>
                </a:lnTo>
                <a:close/>
              </a:path>
              <a:path fill="lighten" w="502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280" h="21600">
                <a:moveTo>
                  <a:pt x="18134" y="3794"/>
                </a:moveTo>
                <a:lnTo>
                  <a:pt x="32147" y="10800"/>
                </a:lnTo>
                <a:lnTo>
                  <a:pt x="18134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601560" y="0"/>
            <a:ext cx="6554880" cy="94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spcBef>
                <a:spcPts val="3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000000"/>
                </a:solidFill>
                <a:latin typeface="Times New Roman"/>
                <a:ea typeface="隶书"/>
              </a:rPr>
              <a:t>海尔</a:t>
            </a:r>
            <a:r>
              <a:rPr b="0" lang="zh-CN" sz="5600" spc="-1" strike="noStrike">
                <a:solidFill>
                  <a:srgbClr val="ff0066"/>
                </a:solidFill>
                <a:latin typeface="Times New Roman"/>
                <a:ea typeface="隶书"/>
              </a:rPr>
              <a:t>“砸冰箱”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1413000" y="1052640"/>
            <a:ext cx="7731000" cy="3619080"/>
            <a:chOff x="1413000" y="1052640"/>
            <a:chExt cx="7731000" cy="3619080"/>
          </a:xfrm>
        </p:grpSpPr>
        <p:sp>
          <p:nvSpPr>
            <p:cNvPr id="452" name=""/>
            <p:cNvSpPr/>
            <p:nvPr/>
          </p:nvSpPr>
          <p:spPr>
            <a:xfrm>
              <a:off x="1413000" y="1052640"/>
              <a:ext cx="5554440" cy="45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1413000" y="3657960"/>
              <a:ext cx="7731000" cy="101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4" name=""/>
          <p:cNvSpPr/>
          <p:nvPr/>
        </p:nvSpPr>
        <p:spPr>
          <a:xfrm>
            <a:off x="0" y="907920"/>
            <a:ext cx="9144000" cy="33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98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年的一天，张瑞敏的一位朋友在厂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买一台冰箱，结果挑了很多台都有毛病，最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勉强拉走一台。朋友走后，张瑞敏派人把库房里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台冰箱全部检查了一遍，发现共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台存在各种各样的缺陷。张瑞敏把职工们叫到车间，问大家怎么办，大多数人提出有缺陷但不影响使用，便宜点处理给职工算了。当时一台冰箱的价格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元，相当于一名职工两年的收入。张瑞敏说：“我要是允许把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台冰箱卖了，就等于允许你们明天再生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6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台这样的冰箱。”他宣布，这些冰箱要全部砸掉，谁干的谁来砸，并亲自抡起大锤子砸下了第一锤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!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很多职工流着眼泪砸了冰箱。然后，张瑞敏告诉大家——有缺陷的产品就是废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7277040" y="0"/>
            <a:ext cx="1866960" cy="227664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380880" y="5445000"/>
            <a:ext cx="87631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680" rIns="94680" tIns="47520" bIns="47520" anchor="t">
            <a:spAutoFit/>
          </a:bodyPr>
          <a:p>
            <a:pPr>
              <a:lnSpc>
                <a:spcPct val="100000"/>
              </a:lnSpc>
              <a:spcBef>
                <a:spcPts val="1562"/>
              </a:spcBef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44680" y="5430960"/>
            <a:ext cx="190440" cy="59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2" presetSubtype="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1500"/>
                            </p:stCondLst>
                            <p:childTnLst>
                              <p:par>
                                <p:cTn id="244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3000"/>
                            </p:stCondLst>
                            <p:childTnLst>
                              <p:par>
                                <p:cTn id="249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lick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250920" y="-27000"/>
            <a:ext cx="8066160" cy="270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5000" bIns="45000" anchor="t">
            <a:spAutoFit/>
          </a:bodyPr>
          <a:p>
            <a:pPr>
              <a:spcBef>
                <a:spcPts val="4249"/>
              </a:spcBef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r>
              <a:rPr b="0" lang="zh-CN" sz="6800" spc="-1" strike="noStrike">
                <a:solidFill>
                  <a:srgbClr val="ff0066"/>
                </a:solidFill>
                <a:latin typeface="Times New Roman"/>
                <a:ea typeface="隶书"/>
              </a:rPr>
              <a:t>“</a:t>
            </a:r>
            <a:r>
              <a:rPr b="0" lang="zh-CN" sz="6800" spc="-1" strike="noStrike">
                <a:solidFill>
                  <a:srgbClr val="ff3300"/>
                </a:solidFill>
                <a:latin typeface="Times New Roman"/>
                <a:ea typeface="隶书"/>
              </a:rPr>
              <a:t>冰箱</a:t>
            </a:r>
            <a:r>
              <a:rPr b="0" lang="zh-CN" sz="6800" spc="-1" strike="noStrike">
                <a:solidFill>
                  <a:srgbClr val="ff0066"/>
                </a:solidFill>
                <a:latin typeface="Times New Roman"/>
                <a:ea typeface="隶书"/>
              </a:rPr>
              <a:t>”砸</a:t>
            </a:r>
            <a:r>
              <a:rPr b="0" lang="zh-CN" sz="6800" spc="-1" strike="noStrike">
                <a:solidFill>
                  <a:srgbClr val="f71732"/>
                </a:solidFill>
                <a:latin typeface="Times New Roman"/>
                <a:ea typeface="隶书"/>
              </a:rPr>
              <a:t>出</a:t>
            </a:r>
            <a:r>
              <a:rPr b="0" lang="zh-CN" sz="6800" spc="-1" strike="noStrike">
                <a:solidFill>
                  <a:srgbClr val="ff0066"/>
                </a:solidFill>
                <a:latin typeface="Times New Roman"/>
                <a:ea typeface="隶书"/>
              </a:rPr>
              <a:t>了什么？</a:t>
            </a: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249"/>
              </a:spcBef>
              <a:tabLst>
                <a:tab algn="l" pos="0"/>
                <a:tab algn="l" pos="903240"/>
                <a:tab algn="l" pos="1806480"/>
                <a:tab algn="l" pos="2709720"/>
                <a:tab algn="l" pos="3613320"/>
                <a:tab algn="l" pos="4516560"/>
                <a:tab algn="l" pos="5419800"/>
                <a:tab algn="l" pos="6323040"/>
                <a:tab algn="l" pos="7226280"/>
                <a:tab algn="l" pos="8129520"/>
                <a:tab algn="l" pos="9032760"/>
                <a:tab algn="l" pos="9936000"/>
                <a:tab algn="l" pos="1083960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1"/>
          <a:stretch/>
        </p:blipFill>
        <p:spPr>
          <a:xfrm>
            <a:off x="5894280" y="912960"/>
            <a:ext cx="2781360" cy="3146400"/>
          </a:xfrm>
          <a:prstGeom prst="rect">
            <a:avLst/>
          </a:prstGeom>
          <a:ln w="0">
            <a:noFill/>
          </a:ln>
        </p:spPr>
      </p:pic>
      <p:grpSp>
        <p:nvGrpSpPr>
          <p:cNvPr id="460" name=""/>
          <p:cNvGrpSpPr/>
          <p:nvPr/>
        </p:nvGrpSpPr>
        <p:grpSpPr>
          <a:xfrm>
            <a:off x="380880" y="836640"/>
            <a:ext cx="7543800" cy="3926160"/>
            <a:chOff x="380880" y="836640"/>
            <a:chExt cx="7543800" cy="3926160"/>
          </a:xfrm>
        </p:grpSpPr>
        <p:sp>
          <p:nvSpPr>
            <p:cNvPr id="461" name=""/>
            <p:cNvSpPr/>
            <p:nvPr/>
          </p:nvSpPr>
          <p:spPr>
            <a:xfrm>
              <a:off x="380880" y="836640"/>
              <a:ext cx="5257800" cy="185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42840" bIns="42840" anchor="t">
              <a:spAutoFit/>
            </a:bodyPr>
            <a:p>
              <a:pPr>
                <a:lnSpc>
                  <a:spcPct val="100000"/>
                </a:lnSpc>
                <a:spcBef>
                  <a:spcPts val="1811"/>
                </a:spcBef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      </a:t>
              </a:r>
              <a:r>
                <a:rPr b="1" lang="zh-CN" sz="2900" spc="-1" strike="noStrike">
                  <a:solidFill>
                    <a:srgbClr val="000000"/>
                  </a:solidFill>
                  <a:latin typeface="Times New Roman"/>
                </a:rPr>
                <a:t>如今海尔已建立起一个具有国际竞争力的全球设计网络、制造网络、营销与服务网络。拥有设计中心</a:t>
              </a:r>
              <a:r>
                <a:rPr b="1" lang="zh-CN" sz="2900" spc="-1" strike="noStrike">
                  <a:solidFill>
                    <a:srgbClr val="fc1f44"/>
                  </a:solidFill>
                  <a:latin typeface="Times New Roman"/>
                </a:rPr>
                <a:t>18</a:t>
              </a:r>
              <a:r>
                <a:rPr b="1" lang="zh-CN" sz="2900" spc="-1" strike="noStrike">
                  <a:solidFill>
                    <a:srgbClr val="000000"/>
                  </a:solidFill>
                  <a:latin typeface="Times New Roman"/>
                </a:rPr>
                <a:t>个，工业园区</a:t>
              </a:r>
              <a:r>
                <a:rPr b="1" lang="zh-CN" sz="2900" spc="-1" strike="noStrike">
                  <a:solidFill>
                    <a:srgbClr val="fc1f44"/>
                  </a:solidFill>
                  <a:latin typeface="Times New Roman"/>
                </a:rPr>
                <a:t>10</a:t>
              </a:r>
              <a:r>
                <a:rPr b="1" lang="zh-CN" sz="2900" spc="-1" strike="noStrike">
                  <a:solidFill>
                    <a:srgbClr val="000000"/>
                  </a:solidFill>
                  <a:latin typeface="Times New Roman"/>
                </a:rPr>
                <a:t>个，海外工厂及制造基地</a:t>
              </a:r>
              <a:r>
                <a:rPr b="1" lang="zh-CN" sz="2900" spc="-1" strike="noStrike">
                  <a:solidFill>
                    <a:srgbClr val="fc1f44"/>
                  </a:solidFill>
                  <a:latin typeface="Times New Roman"/>
                </a:rPr>
                <a:t>22</a:t>
              </a:r>
              <a:r>
                <a:rPr b="1" lang="zh-CN" sz="2900" spc="-1" strike="noStrike">
                  <a:solidFill>
                    <a:srgbClr val="000000"/>
                  </a:solidFill>
                  <a:latin typeface="Times New Roman"/>
                </a:rPr>
                <a:t>个，产品远销</a:t>
              </a:r>
              <a:r>
                <a:rPr b="1" lang="zh-CN" sz="2900" spc="-1" strike="noStrike">
                  <a:solidFill>
                    <a:srgbClr val="fc1239"/>
                  </a:solidFill>
                  <a:latin typeface="Times New Roman"/>
                </a:rPr>
                <a:t>160</a:t>
              </a:r>
              <a:r>
                <a:rPr b="1" lang="zh-CN" sz="2900" spc="-1" strike="noStrike">
                  <a:solidFill>
                    <a:srgbClr val="000000"/>
                  </a:solidFill>
                  <a:latin typeface="Times New Roman"/>
                </a:rPr>
                <a:t>多个国家和地区，甚至把工厂办到了美国；</a:t>
              </a:r>
              <a:endParaRPr b="0" lang="en-US" sz="2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80880" y="3732120"/>
              <a:ext cx="7543800" cy="103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040" rIns="86040" tIns="42840" bIns="42840" anchor="t">
              <a:spAutoFit/>
            </a:bodyPr>
            <a:p>
              <a:pPr>
                <a:spcBef>
                  <a:spcPts val="1939"/>
                </a:spcBef>
                <a:tabLst>
                  <a:tab algn="l" pos="0"/>
                  <a:tab algn="l" pos="903240"/>
                  <a:tab algn="l" pos="1806480"/>
                  <a:tab algn="l" pos="2709720"/>
                  <a:tab algn="l" pos="3613320"/>
                  <a:tab algn="l" pos="4516560"/>
                  <a:tab algn="l" pos="5419800"/>
                  <a:tab algn="l" pos="6323040"/>
                  <a:tab algn="l" pos="7226280"/>
                  <a:tab algn="l" pos="8129520"/>
                  <a:tab algn="l" pos="9032760"/>
                  <a:tab algn="l" pos="9936000"/>
                  <a:tab algn="l" pos="10839600"/>
                </a:tabLst>
              </a:pPr>
              <a:r>
                <a:rPr b="1" lang="zh-CN" sz="3100" spc="-1" strike="noStrike">
                  <a:solidFill>
                    <a:srgbClr val="000000"/>
                  </a:solidFill>
                  <a:latin typeface="Times New Roman"/>
                </a:rPr>
                <a:t>                                                                                   </a:t>
              </a:r>
              <a:endParaRPr b="0" lang="en-US" sz="3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3" name=""/>
          <p:cNvSpPr/>
          <p:nvPr/>
        </p:nvSpPr>
        <p:spPr>
          <a:xfrm>
            <a:off x="1580760" y="4114800"/>
            <a:ext cx="5416920" cy="29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4680" rIns="94680" tIns="47520" bIns="47520" anchor="t">
            <a:spAutoFit/>
          </a:bodyPr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营销网点达</a:t>
            </a:r>
            <a:r>
              <a:rPr b="1" lang="zh-CN" sz="3100" spc="-1" strike="noStrike">
                <a:solidFill>
                  <a:srgbClr val="fc1f44"/>
                </a:solidFill>
                <a:latin typeface="Times New Roman"/>
              </a:rPr>
              <a:t>58800</a:t>
            </a: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个，海尔集团从一个亏空</a:t>
            </a: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147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万元的集体小厂，发展成为</a:t>
            </a: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2003</a:t>
            </a: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年全球营业额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100" spc="-1" strike="noStrike">
                <a:solidFill>
                  <a:srgbClr val="fc1f44"/>
                </a:solidFill>
                <a:latin typeface="Times New Roman"/>
              </a:rPr>
              <a:t>806</a:t>
            </a: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亿元的中国第一品牌，海尔品牌两字价值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达</a:t>
            </a:r>
            <a:r>
              <a:rPr b="1" lang="zh-CN" sz="3100" spc="-1" strike="noStrike">
                <a:solidFill>
                  <a:srgbClr val="f71732"/>
                </a:solidFill>
                <a:latin typeface="Times New Roman"/>
              </a:rPr>
              <a:t>530</a:t>
            </a: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亿元，成为中国最值钱的品牌，并入选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世界</a:t>
            </a: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1" lang="zh-CN" sz="3100" spc="-1" strike="noStrike">
                <a:solidFill>
                  <a:srgbClr val="000000"/>
                </a:solidFill>
                <a:latin typeface="Times New Roman"/>
              </a:rPr>
              <a:t>个知名品牌，获得越来越高的美誉。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17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1500"/>
                            </p:stCondLst>
                            <p:childTnLst>
                              <p:par>
                                <p:cTn id="277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3000"/>
                            </p:stCondLst>
                            <p:childTnLst>
                              <p:par>
                                <p:cTn id="282" nodeType="afterEffect" fill="hold" presetClass="entr" presetID="2" presetSubtype="1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4500"/>
                            </p:stCondLst>
                            <p:childTnLst>
                              <p:par>
                                <p:cTn id="287" nodeType="afterEffect" fill="hold" presetClass="entr" presetID="2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-46836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250920" y="296640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四川阿坝羌族自治州一个偏僻的小县城，有一座法国某公司建筑的小教堂，至今已有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年历史。前不久，那家法国公司发来一纸通知：“该教堂已经到了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80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年设计使用年限，请进行安全检查，我公司不再对教堂承担责任。”接到对方的函告，当地人对教堂进行彻底检查。结果主体结构仍然牢固，仅需要稍作修缮即可继续使用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1835280" y="0"/>
            <a:ext cx="5832360" cy="685800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472320" y="836640"/>
            <a:ext cx="789840" cy="34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ahoma"/>
              </a:rPr>
              <a:t>哈佛大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863640" y="1125360"/>
            <a:ext cx="838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楷体"/>
                <a:ea typeface="楷体"/>
              </a:rPr>
              <a:t>不同的企业</a:t>
            </a:r>
            <a:r>
              <a:rPr b="1" lang="zh-CN" sz="4800" spc="-1" strike="noStrike">
                <a:solidFill>
                  <a:srgbClr val="3333cc"/>
                </a:solidFill>
                <a:latin typeface="楷体"/>
                <a:ea typeface="楷体"/>
              </a:rPr>
              <a:t>,</a:t>
            </a:r>
            <a:r>
              <a:rPr b="1" lang="zh-CN" sz="4800" spc="-1" strike="noStrike">
                <a:solidFill>
                  <a:srgbClr val="3333cc"/>
                </a:solidFill>
                <a:latin typeface="楷体"/>
                <a:ea typeface="楷体"/>
              </a:rPr>
              <a:t>不同的结局</a:t>
            </a:r>
            <a:r>
              <a:rPr b="1" lang="zh-CN" sz="4800" spc="-1" strike="noStrike">
                <a:solidFill>
                  <a:srgbClr val="3333cc"/>
                </a:solidFill>
                <a:latin typeface="楷体"/>
                <a:ea typeface="楷体"/>
              </a:rPr>
              <a:t>,</a:t>
            </a:r>
            <a:r>
              <a:rPr b="1" lang="zh-CN" sz="4800" spc="-1" strike="noStrike">
                <a:solidFill>
                  <a:srgbClr val="3333cc"/>
                </a:solidFill>
                <a:latin typeface="楷体"/>
                <a:ea typeface="楷体"/>
              </a:rPr>
              <a:t>揪其根本原因何在呢</a:t>
            </a:r>
            <a:r>
              <a:rPr b="1" lang="zh-CN" sz="4800" spc="-1" strike="noStrike">
                <a:solidFill>
                  <a:srgbClr val="3333cc"/>
                </a:solidFill>
                <a:latin typeface="楷体"/>
                <a:ea typeface="楷体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-252360" y="0"/>
            <a:ext cx="1676520" cy="198108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 txBox="1"/>
          <p:nvPr/>
        </p:nvSpPr>
        <p:spPr>
          <a:xfrm>
            <a:off x="1332000" y="0"/>
            <a:ext cx="1971720" cy="134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 </a:t>
            </a:r>
            <a:r>
              <a:rPr b="0" lang="zh-CN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议一议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70" name=""/>
          <p:cNvSpPr/>
          <p:nvPr/>
        </p:nvSpPr>
        <p:spPr>
          <a:xfrm>
            <a:off x="108000" y="2492280"/>
            <a:ext cx="8928000" cy="19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这些事件的发生，给人们以警示：一些人唯利是图、不讲诚信是祸根。明知道“三聚氰胺”是工业原料，人是不能食用的，为了获取利润，偏要昧着良心将它加到牛奶中；明知道牛奶贩子购买“三聚氰胺”是害人的，“三聚氰胺”的经销商还要几次找上门去推销；明知道牛奶中加进了“三聚氰胺”，奶粉厂还要制成奶产品销售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一事件的发生，给人们以教育：欲建立企业，先建立信誉；欲做大企业，先做好信誉；欲做强企业，必牢守信誉。做大做强、久盛不衰的企业，有哪个不是恪守信誉的企业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我们感叹我们没有世界一流的大公司，数来数去，少的不是钱，而是诚信的缺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3708360" y="-27000"/>
            <a:ext cx="3888000" cy="144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458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诚信是立业之本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p:transition>
    <p:strips dir="rd"/>
  </p:transition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4" dur="5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4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4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539640" y="1628640"/>
            <a:ext cx="831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江苏沙钢集团总裁沈文荣的一个签名价值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亿元！固定资产超过百亿元的沙钢没有拖欠过银行一笔贷款，去年沙钢上马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万吨热卷板项目时，由于投资巨大，急需银行大笔贷款。良好的信誉度让沙钢尝到了甜头，一笔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亿元的巨额授信贷款很快就打到了沙钢的账户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133360" y="4365720"/>
            <a:ext cx="35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这就是诚信的效益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984320" y="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诚信事例一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1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6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1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0" y="907920"/>
            <a:ext cx="885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一个士兵，非常不善于长跑，所以在一次部队的越野赛中很快就远落人后，一个人孤零零地跑着。转过了几道弯，遇到了一个岔路口，一条路，标明是军官跑的；另一条路，标明是士兵跑的小径。他停顿了一下，虽然对做军官连越野赛都有便宜可沾感到不满，但是仍然朝着士兵的小径跑去。没想到过了半个小时后到达终点，却是名列第一。他感到不可恩议，自己从来没有取得过名次不说，连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名也没有跑过。但是，主持赛跑的军官笑着恭喜他取得了比赛的胜利。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过了几个钟头后，大批人马到了，他们跑得筋疲力尽，看见他赢得了胜利，也觉得奇怪。但是突然大家醒悟过来了…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455840" y="692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108000" y="44280"/>
            <a:ext cx="3247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诚信事例二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258920" y="580536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为什么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48920" cy="7086600"/>
          </a:xfrm>
          <a:prstGeom prst="rect">
            <a:avLst/>
          </a:prstGeom>
          <a:ln w="0">
            <a:noFill/>
          </a:ln>
        </p:spPr>
      </p:pic>
      <p:sp>
        <p:nvSpPr>
          <p:cNvPr id="482" name=""/>
          <p:cNvSpPr/>
          <p:nvPr/>
        </p:nvSpPr>
        <p:spPr>
          <a:xfrm>
            <a:off x="0" y="6858000"/>
            <a:ext cx="2209680" cy="114480"/>
          </a:xfrm>
          <a:prstGeom prst="rect">
            <a:avLst/>
          </a:prstGeom>
          <a:solidFill>
            <a:srgbClr val="7f0200"/>
          </a:solidFill>
          <a:ln w="9360">
            <a:solidFill>
              <a:srgbClr val="7f0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68360" y="235584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有一个年轻人跋涉在漫长的人生道路上，到了一个渡口的时候，他已经拥有了“健康”、“美貌”、“诚信”、“机敏”、“才学”、“金钱”、“荣誉”七个背囊。渡船开出时风平浪静，说不清过了多久，风起浪涌，小船上下颠簸，险象环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800600" y="998640"/>
            <a:ext cx="3657600" cy="1191240"/>
          </a:xfrm>
          <a:prstGeom prst="rect">
            <a:avLst/>
          </a:pr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艄公说：“船小负载重，客官需丢弃一个背囊方可安度难关。”看年轻人哪个都舍不得丢，艄公又说：“有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弃有取，有失有得。”年轻人思索了一会儿，把“诚信”抛进了水里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592200" y="76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539640" y="1165320"/>
            <a:ext cx="381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660066"/>
                </a:solidFill>
                <a:latin typeface="Times New Roman"/>
              </a:rPr>
              <a:t>诚信事例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0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8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 txBox="1"/>
          <p:nvPr/>
        </p:nvSpPr>
        <p:spPr>
          <a:xfrm>
            <a:off x="684360" y="476280"/>
            <a:ext cx="213336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33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prstDash val="lgDash"/>
                  <a:miter/>
                </a:ln>
                <a:solidFill>
                  <a:srgbClr val="ff9900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问题探究</a:t>
            </a:r>
            <a:endParaRPr b="1" lang="en-US" sz="2400" spc="1" strike="noStrike">
              <a:ln w="9360">
                <a:solidFill>
                  <a:srgbClr val="cc99ff"/>
                </a:solidFill>
                <a:prstDash val="lgDash"/>
                <a:miter/>
              </a:ln>
              <a:solidFill>
                <a:srgbClr val="ff9900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9" name=""/>
          <p:cNvSpPr/>
          <p:nvPr/>
        </p:nvSpPr>
        <p:spPr>
          <a:xfrm>
            <a:off x="611280" y="1413000"/>
            <a:ext cx="815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250920" y="3357720"/>
            <a:ext cx="8018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人而无信，不知其可也”，失去诚信，必定失去发展的空间，失去坚强有力的支持，失去人格和尊严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"/>
              </a:rPr>
              <a:t>诚信，公司才能聘用你；诚信，银行才能借钱给你；诚信，才能得到别人的信任；诚信，才能融入社会，求得生存和发展。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1557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楷体"/>
              </a:rPr>
              <a:t>诚信对于一个人的生存、发展有影响吗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 txBox="1"/>
          <p:nvPr/>
        </p:nvSpPr>
        <p:spPr>
          <a:xfrm>
            <a:off x="3132000" y="549360"/>
            <a:ext cx="5486400" cy="107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426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诚信是立身处世之本</a:t>
            </a:r>
            <a:endParaRPr b="0" lang="en-US" sz="4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8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3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3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7413480" y="4952880"/>
            <a:ext cx="1730520" cy="190512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519840" y="228600"/>
            <a:ext cx="1278000" cy="825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9900"/>
                </a:solidFill>
                <a:latin typeface="Times New Roman"/>
                <a:ea typeface="隶书"/>
              </a:rPr>
              <a:t>总结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380880" y="30481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诚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116000" y="1197000"/>
            <a:ext cx="152280" cy="3048120"/>
          </a:xfrm>
          <a:custGeom>
            <a:avLst/>
            <a:gdLst>
              <a:gd name="textAreaLeft" fmla="*/ 97200 w 152280"/>
              <a:gd name="textAreaRight" fmla="*/ 152640 w 152280"/>
              <a:gd name="textAreaTop" fmla="*/ 79200 h 3048120"/>
              <a:gd name="textAreaBottom" fmla="*/ 2968920 h 304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3699000" y="263520"/>
            <a:ext cx="5410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1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、赢得信任，赢得友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、创造财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1600200" y="549360"/>
            <a:ext cx="7543800" cy="1221480"/>
            <a:chOff x="1600200" y="549360"/>
            <a:chExt cx="7543800" cy="1221480"/>
          </a:xfrm>
        </p:grpSpPr>
        <p:sp>
          <p:nvSpPr>
            <p:cNvPr id="499" name=""/>
            <p:cNvSpPr/>
            <p:nvPr/>
          </p:nvSpPr>
          <p:spPr>
            <a:xfrm>
              <a:off x="1600200" y="777600"/>
              <a:ext cx="2057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对个人的价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581280" y="549360"/>
              <a:ext cx="76320" cy="99036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25560 h 990360"/>
                <a:gd name="textAreaBottom" fmla="*/ 964800 h 99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581280" y="1311120"/>
              <a:ext cx="5562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、是个人融入社会，走向未来的通行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1403280" y="2060640"/>
            <a:ext cx="7391520" cy="1526400"/>
            <a:chOff x="1403280" y="2060640"/>
            <a:chExt cx="7391520" cy="1526400"/>
          </a:xfrm>
        </p:grpSpPr>
        <p:sp>
          <p:nvSpPr>
            <p:cNvPr id="503" name=""/>
            <p:cNvSpPr/>
            <p:nvPr/>
          </p:nvSpPr>
          <p:spPr>
            <a:xfrm>
              <a:off x="1403280" y="259380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对企业的价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384720" y="2365200"/>
              <a:ext cx="75960" cy="99072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384720" y="2060640"/>
              <a:ext cx="541008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、赢得信誉，树立品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、是企业生存的根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384720" y="3127320"/>
              <a:ext cx="40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、是企业发展壮大的的根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2392200" y="3716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8" name=""/>
          <p:cNvGrpSpPr/>
          <p:nvPr/>
        </p:nvGrpSpPr>
        <p:grpSpPr>
          <a:xfrm>
            <a:off x="1403280" y="3645000"/>
            <a:ext cx="7391520" cy="1526400"/>
            <a:chOff x="1403280" y="3645000"/>
            <a:chExt cx="7391520" cy="1526400"/>
          </a:xfrm>
        </p:grpSpPr>
        <p:sp>
          <p:nvSpPr>
            <p:cNvPr id="509" name=""/>
            <p:cNvSpPr/>
            <p:nvPr/>
          </p:nvSpPr>
          <p:spPr>
            <a:xfrm>
              <a:off x="1403280" y="4178160"/>
              <a:ext cx="2133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对国家的价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384720" y="3949560"/>
              <a:ext cx="75960" cy="990720"/>
            </a:xfrm>
            <a:custGeom>
              <a:avLst/>
              <a:gdLst>
                <a:gd name="textAreaLeft" fmla="*/ 48600 w 75960"/>
                <a:gd name="textAreaRight" fmla="*/ 76320 w 7596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384720" y="3645000"/>
              <a:ext cx="5410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、赢得尊严，树立礼仪之邦风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3384720" y="4711680"/>
              <a:ext cx="4038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ff0066"/>
                  </a:solidFill>
                  <a:latin typeface="Times New Roman"/>
                </a:rPr>
                <a:t>、是立国、强国的根本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0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3419640" y="2349360"/>
            <a:ext cx="572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如果世界失去诚信</a:t>
            </a: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" descr=""/>
          <p:cNvPicPr/>
          <p:nvPr/>
        </p:nvPicPr>
        <p:blipFill>
          <a:blip r:embed="rId2"/>
          <a:stretch/>
        </p:blipFill>
        <p:spPr>
          <a:xfrm>
            <a:off x="1447920" y="6130800"/>
            <a:ext cx="6019560" cy="72072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/>
          <p:nvPr/>
        </p:nvSpPr>
        <p:spPr>
          <a:xfrm>
            <a:off x="1480680" y="-392040"/>
            <a:ext cx="1643400" cy="72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第 三 篇 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391" dur="indefinite" restart="never" nodeType="tmRoot">
          <p:childTnLst>
            <p:seq>
              <p:cTn id="392" dur="indefinite" nodeType="mainSeq">
                <p:childTnLst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 txBox="1"/>
          <p:nvPr/>
        </p:nvSpPr>
        <p:spPr>
          <a:xfrm>
            <a:off x="762120" y="2666880"/>
            <a:ext cx="739116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073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假如你的同学、老师、医生、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警察、司机、父母、邻居</a:t>
            </a: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...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都不正直、诚实</a:t>
            </a: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,</a:t>
            </a: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后果会</a:t>
            </a:r>
            <a:r>
              <a:rPr b="0" lang="en-US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?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519" name=""/>
          <p:cNvSpPr/>
          <p:nvPr/>
        </p:nvSpPr>
        <p:spPr>
          <a:xfrm>
            <a:off x="4331160" y="304920"/>
            <a:ext cx="80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ffcc00"/>
                </a:solidFill>
                <a:latin typeface="Times New Roman"/>
              </a:rPr>
              <a:t>世界将充满虚伪和欺骗、不公和悲惨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2270160" y="14684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533520" y="1066680"/>
            <a:ext cx="5562360" cy="12956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不信请看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..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8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23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34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6451560" y="1146240"/>
            <a:ext cx="2374920" cy="57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80e08"/>
                </a:solidFill>
                <a:latin typeface="Times New Roman"/>
              </a:rPr>
              <a:t>如果遇到不信守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交通</a:t>
            </a:r>
            <a:r>
              <a:rPr b="1" lang="zh-CN" sz="3600" spc="-1" strike="noStrike">
                <a:solidFill>
                  <a:srgbClr val="f80e08"/>
                </a:solidFill>
                <a:latin typeface="Times New Roman"/>
              </a:rPr>
              <a:t>规则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80e08"/>
                </a:solidFill>
                <a:latin typeface="Times New Roman"/>
              </a:rPr>
              <a:t>司机，很容易发生这种事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7238880" cy="533412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1219320" y="228600"/>
            <a:ext cx="678168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c0a04"/>
                </a:solidFill>
                <a:latin typeface="Times New Roman"/>
              </a:rPr>
              <a:t>又或者是行人不信守</a:t>
            </a:r>
            <a:r>
              <a:rPr b="1" lang="zh-CN" sz="3600" spc="-1" strike="noStrike">
                <a:solidFill>
                  <a:srgbClr val="660066"/>
                </a:solidFill>
                <a:latin typeface="Times New Roman"/>
              </a:rPr>
              <a:t>交通</a:t>
            </a:r>
            <a:r>
              <a:rPr b="1" lang="zh-CN" sz="3200" spc="-1" strike="noStrike">
                <a:solidFill>
                  <a:srgbClr val="fc0a04"/>
                </a:solidFill>
                <a:latin typeface="Times New Roman"/>
              </a:rPr>
              <a:t>规则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c0a04"/>
                </a:solidFill>
                <a:latin typeface="Times New Roman"/>
              </a:rPr>
              <a:t>也会发生这种事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838080" y="2590920"/>
            <a:ext cx="6553440" cy="2490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平安离不开诚信！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1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5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6" name=""/>
          <p:cNvGrpSpPr/>
          <p:nvPr/>
        </p:nvGrpSpPr>
        <p:grpSpPr>
          <a:xfrm>
            <a:off x="1219320" y="2819520"/>
            <a:ext cx="6651360" cy="1276200"/>
            <a:chOff x="1219320" y="2819520"/>
            <a:chExt cx="6651360" cy="1276200"/>
          </a:xfrm>
        </p:grpSpPr>
        <p:sp>
          <p:nvSpPr>
            <p:cNvPr id="527" name=""/>
            <p:cNvSpPr/>
            <p:nvPr/>
          </p:nvSpPr>
          <p:spPr>
            <a:xfrm>
              <a:off x="1219320" y="2819520"/>
              <a:ext cx="6651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1219320" y="2819520"/>
              <a:ext cx="6651360" cy="12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529" name="" descr=""/>
          <p:cNvPicPr/>
          <p:nvPr/>
        </p:nvPicPr>
        <p:blipFill>
          <a:blip r:embed="rId2"/>
          <a:stretch/>
        </p:blipFill>
        <p:spPr>
          <a:xfrm>
            <a:off x="1371600" y="457200"/>
            <a:ext cx="6705720" cy="243828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609480" y="2819520"/>
            <a:ext cx="8001000" cy="137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ahoma"/>
              </a:rPr>
              <a:t>术后化疗竟要人命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　　１９９９年９月，李珍（化名）在广州市十二人民</a:t>
            </a:r>
            <a:r>
              <a:rPr b="1" lang="zh-CN" sz="2800" spc="-1" strike="noStrike">
                <a:solidFill>
                  <a:srgbClr val="660066"/>
                </a:solidFill>
                <a:latin typeface="Tahoma"/>
              </a:rPr>
              <a:t>医院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做甲状腺癌根治术，术后因院方在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无消毒隔离或进入洁净病房、无进行必要的各项检查、无强有力的预防感染措施、无干细胞支持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等情况下，对李珍施予</a:t>
            </a:r>
            <a:r>
              <a:rPr b="1" lang="zh-CN" sz="2800" spc="-1" strike="noStrike">
                <a:solidFill>
                  <a:srgbClr val="3333cc"/>
                </a:solidFill>
                <a:latin typeface="Tahoma"/>
              </a:rPr>
              <a:t>超常规剂量数倍的化疗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，致李珍出现严重的感染性休克、内出血、全身衰竭，于１９９９年１０月１４日在医院</a:t>
            </a:r>
            <a:r>
              <a:rPr b="1" lang="zh-CN" sz="2800" spc="-1" strike="noStrike">
                <a:solidFill>
                  <a:srgbClr val="fc0a04"/>
                </a:solidFill>
                <a:latin typeface="Tahoma"/>
              </a:rPr>
              <a:t>死亡</a:t>
            </a:r>
            <a:r>
              <a:rPr b="1" lang="zh-CN" sz="2800" spc="-1" strike="noStrike">
                <a:solidFill>
                  <a:srgbClr val="000000"/>
                </a:solidFill>
                <a:latin typeface="Tahoma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457200" y="1828800"/>
            <a:ext cx="8229600" cy="1028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医生医德若有问题，你敢进医院治病吗？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72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7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457200" y="762120"/>
            <a:ext cx="7315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哈佛大学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是世界上最著名的大学之一，这所学校把“真理”作为校训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在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哈佛大学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的校门和建筑物上都刻了一个拉丁文单词“真理”，这个词代表了“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真相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、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诚实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和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正直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正门上还刻了一句话：“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真理之门只会向那些正直的民族开放</a:t>
            </a:r>
            <a:r>
              <a:rPr b="1" lang="zh-CN" sz="2800" spc="-1" strike="noStrike">
                <a:solidFill>
                  <a:srgbClr val="3333cc"/>
                </a:solidFill>
                <a:latin typeface="宋体"/>
              </a:rPr>
              <a:t>。”意思是说，在这个世界上那些不诚实的人是没有出路的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228600" y="4495680"/>
            <a:ext cx="838188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0099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为什么人们把诚实、守信</a:t>
            </a:r>
            <a:endParaRPr b="0" lang="en-US" sz="2400" spc="1" strike="noStrike">
              <a:ln w="9360">
                <a:solidFill>
                  <a:srgbClr val="cc0099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0099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（守社会公德）看得那么重要呢？</a:t>
            </a:r>
            <a:endParaRPr b="0" lang="en-US" sz="2400" spc="1" strike="noStrike">
              <a:ln w="9360">
                <a:solidFill>
                  <a:srgbClr val="cc0099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9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"/>
          <p:cNvSpPr/>
          <p:nvPr/>
        </p:nvSpPr>
        <p:spPr>
          <a:xfrm>
            <a:off x="1981080" y="762120"/>
            <a:ext cx="66294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一中国留学生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在德国某出名大学毕业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想留在德国就业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按他的成绩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应该不难在大公司找到高薪水的职位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不过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他去了几家公司面试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人家都很客气地据绝了他…后来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一间小公司也是如此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他忍不住问为什么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后来才知道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招聘单位按他的名字在网上查找他的资料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3333cc"/>
                </a:solidFill>
                <a:latin typeface="Times New Roman"/>
              </a:rPr>
              <a:t>发现他在德国读书期间有三次乘电车</a:t>
            </a:r>
            <a:r>
              <a:rPr b="1" lang="zh-CN" sz="2700" spc="-1" strike="noStrike">
                <a:solidFill>
                  <a:srgbClr val="660066"/>
                </a:solidFill>
                <a:latin typeface="Times New Roman"/>
              </a:rPr>
              <a:t>逃票</a:t>
            </a:r>
            <a:r>
              <a:rPr b="1" lang="zh-CN" sz="2700" spc="-1" strike="noStrike">
                <a:solidFill>
                  <a:srgbClr val="3333cc"/>
                </a:solidFill>
                <a:latin typeface="Times New Roman"/>
              </a:rPr>
              <a:t>的记录</a:t>
            </a:r>
            <a:r>
              <a:rPr b="1" lang="zh-CN" sz="2700" spc="-1" strike="noStrike">
                <a:solidFill>
                  <a:srgbClr val="3333cc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认为他人品有问题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不诚实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而一个公司的员工如果不具备诚信的话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700" spc="-1" strike="noStrike">
                <a:solidFill>
                  <a:srgbClr val="000000"/>
                </a:solidFill>
                <a:latin typeface="Times New Roman"/>
              </a:rPr>
              <a:t>这间公司是无法经营下去的…所以…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1143000" y="5181480"/>
            <a:ext cx="6248520" cy="14558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做人不诚信</a:t>
            </a:r>
            <a:r>
              <a:rPr b="0" lang="en-US" sz="32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,</a:t>
            </a:r>
            <a:r>
              <a:rPr b="0" lang="zh-CN" sz="32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往往会因</a:t>
            </a:r>
            <a:r>
              <a:rPr b="0" lang="en-US" sz="32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"</a:t>
            </a:r>
            <a:r>
              <a:rPr b="0" lang="zh-CN" sz="32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小</a:t>
            </a:r>
            <a:r>
              <a:rPr b="0" lang="en-US" sz="32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"</a:t>
            </a:r>
            <a:r>
              <a:rPr b="0" lang="zh-CN" sz="32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失大</a:t>
            </a:r>
            <a:r>
              <a:rPr b="0" lang="en-US" sz="3200" spc="1" strike="noStrike">
                <a:ln w="9360">
                  <a:solidFill>
                    <a:srgbClr val="ff3300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!</a:t>
            </a:r>
            <a:endParaRPr b="0" lang="en-US" sz="3200" spc="1" strike="noStrike">
              <a:ln w="9360">
                <a:solidFill>
                  <a:srgbClr val="ff3300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1752480"/>
            <a:ext cx="190512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cc0099"/>
                </a:solidFill>
                <a:latin typeface="Times New Roman"/>
              </a:rPr>
              <a:t>小事”不诚信</a:t>
            </a:r>
            <a:r>
              <a:rPr b="1" lang="zh-CN" sz="3200" spc="-1" strike="noStrike">
                <a:solidFill>
                  <a:srgbClr val="cc0099"/>
                </a:solidFill>
                <a:latin typeface="Times New Roman"/>
              </a:rPr>
              <a:t>: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留学生的求职遭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4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6" name=""/>
          <p:cNvSpPr txBox="1"/>
          <p:nvPr/>
        </p:nvSpPr>
        <p:spPr>
          <a:xfrm>
            <a:off x="1066680" y="1219320"/>
            <a:ext cx="7543800" cy="3124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原来，生活的平安、顺利</a:t>
            </a:r>
            <a:endParaRPr b="0" lang="en-US" sz="2400" spc="1" strike="noStrike">
              <a:ln w="936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和美好</a:t>
            </a:r>
            <a:r>
              <a:rPr b="0" lang="en-US" sz="2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,</a:t>
            </a:r>
            <a:r>
              <a:rPr b="0" lang="zh-CN" sz="2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离不开人们的诚信</a:t>
            </a:r>
            <a:r>
              <a:rPr b="0" lang="en-US" sz="2400" spc="1" strike="noStrike">
                <a:ln w="9360">
                  <a:solidFill>
                    <a:srgbClr val="ff9900"/>
                  </a:solidFill>
                  <a:miter/>
                </a:ln>
                <a:solidFill>
                  <a:srgbClr val="ff66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!</a:t>
            </a:r>
            <a:endParaRPr b="0" lang="en-US" sz="2400" spc="1" strike="noStrike">
              <a:ln w="9360">
                <a:solidFill>
                  <a:srgbClr val="ff9900"/>
                </a:solidFill>
                <a:miter/>
              </a:ln>
              <a:solidFill>
                <a:srgbClr val="ff66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37" name=""/>
          <p:cNvSpPr/>
          <p:nvPr/>
        </p:nvSpPr>
        <p:spPr>
          <a:xfrm>
            <a:off x="2077920" y="4314960"/>
            <a:ext cx="505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值得庆幸的是，这个世上绝大多数人都是相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诚信的，如果我们这一代能更诚信，那生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会更美好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05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3419640" y="2060640"/>
            <a:ext cx="482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唇枪舌战，总结做法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2"/>
          <a:stretch/>
        </p:blipFill>
        <p:spPr>
          <a:xfrm>
            <a:off x="1447920" y="6130800"/>
            <a:ext cx="6019560" cy="72072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1480680" y="243000"/>
            <a:ext cx="1643400" cy="65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第 四 篇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1"/>
          <a:stretch/>
        </p:blipFill>
        <p:spPr>
          <a:xfrm>
            <a:off x="685800" y="3733920"/>
            <a:ext cx="7823160" cy="241272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762120" y="1143000"/>
            <a:ext cx="80769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不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吃偷来的石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彭湃是中国共产党早期农民运动的成功的领导人。他六岁上学，是个品学兼优的好学生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一天中午放学，同学们路过一个围墙时，发现墙内有石榴！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1143000" y="0"/>
            <a:ext cx="6095880" cy="10699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诚信，你也可以做到：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solidFill>
                <a:srgbClr val="ff00ff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2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"/>
          <p:cNvSpPr/>
          <p:nvPr/>
        </p:nvSpPr>
        <p:spPr>
          <a:xfrm>
            <a:off x="1730520" y="762120"/>
            <a:ext cx="43459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大家很想吃。 这时候，一个大同学从旁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走过，就怂恿他们动手摘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摘下之后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大家站在围墙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边吃石榴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这时，彭湃从后面赶了上来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彭湃学习在班上总是第一名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又常帮助同学，所以孩子们都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喜欢他。看到他来了，同学们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很慷慨地掰了一半石榴递给他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说：“彭湃，石榴可甜了，你也吃一半吧！”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638680" y="1447920"/>
            <a:ext cx="3200400" cy="281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44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9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441360" y="63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8" name="" descr=""/>
          <p:cNvPicPr/>
          <p:nvPr/>
        </p:nvPicPr>
        <p:blipFill>
          <a:blip r:embed="rId1"/>
          <a:stretch/>
        </p:blipFill>
        <p:spPr>
          <a:xfrm>
            <a:off x="5486400" y="304920"/>
            <a:ext cx="3429000" cy="295092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304920" y="380880"/>
            <a:ext cx="5238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彭湃奇怪石榴是哪儿来的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小同学说：“自己上去搞的！” 彭湃连忙把石榴退还，说：“你们偷人家的石榴，就不怕妈妈骂你吗？”</a:t>
            </a:r>
            <a:br>
              <a:rPr sz="2800"/>
            </a:b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大一点儿的同学说：“不告诉妈妈，不就行了吗？”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136440" y="3754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2204640" y="3809880"/>
            <a:ext cx="5033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彭湃的妈妈是一个很正直的农村妇女，她常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彭湃最近做了些什么事？哪些好，哪些坏？” 彭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总是如实回答。 他以为，别人的妈妈也会这样问孩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就很生气地说：“你们不但偷东西，而且还不诚实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我再也不和你们玩了。”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6400800" y="2666880"/>
            <a:ext cx="2514600" cy="381024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/>
          <p:nvPr/>
        </p:nvSpPr>
        <p:spPr>
          <a:xfrm>
            <a:off x="609480" y="304920"/>
            <a:ext cx="838224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回家后，彭湃把此事告诉妈妈。妈妈很高兴，但还试探着问：“你不想吃石榴吗？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彭湃答：“我很想吃呀！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妈妈问：“那同学分给你，你怎么不要呢？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彭湃说：“那是偷来的，我不能要。要是让您知道我      吃了偷来的石榴，您会生气的。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93640" y="3525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28600" y="3124080"/>
            <a:ext cx="64008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妈妈问：“你不告诉我，我怎知道呢？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彭湃说：“可我不能撒谎啊！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妈妈很高兴地说：“你真是个诚实的好孩子，妈妈给你钱，你自己去买石榴吧！”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彭湃接过钱，说：“谢谢妈妈！”就高兴地去买石榴了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5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86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912960" y="284040"/>
            <a:ext cx="7316640" cy="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57" name=""/>
          <p:cNvGrpSpPr/>
          <p:nvPr/>
        </p:nvGrpSpPr>
        <p:grpSpPr>
          <a:xfrm>
            <a:off x="-4680" y="290520"/>
            <a:ext cx="9153360" cy="6284880"/>
            <a:chOff x="-4680" y="290520"/>
            <a:chExt cx="9153360" cy="6284880"/>
          </a:xfrm>
        </p:grpSpPr>
        <p:grpSp>
          <p:nvGrpSpPr>
            <p:cNvPr id="558" name=""/>
            <p:cNvGrpSpPr/>
            <p:nvPr/>
          </p:nvGrpSpPr>
          <p:grpSpPr>
            <a:xfrm>
              <a:off x="0" y="295200"/>
              <a:ext cx="9144000" cy="6275520"/>
              <a:chOff x="0" y="295200"/>
              <a:chExt cx="9144000" cy="6275520"/>
            </a:xfrm>
          </p:grpSpPr>
          <p:grpSp>
            <p:nvGrpSpPr>
              <p:cNvPr id="559" name=""/>
              <p:cNvGrpSpPr/>
              <p:nvPr/>
            </p:nvGrpSpPr>
            <p:grpSpPr>
              <a:xfrm>
                <a:off x="0" y="295200"/>
                <a:ext cx="9144000" cy="6275160"/>
                <a:chOff x="0" y="295200"/>
                <a:chExt cx="9144000" cy="627516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0" y="295200"/>
                  <a:ext cx="9144000" cy="62751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0" y="295200"/>
                  <a:ext cx="8229600" cy="1187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62" name=""/>
              <p:cNvSpPr/>
              <p:nvPr/>
            </p:nvSpPr>
            <p:spPr>
              <a:xfrm>
                <a:off x="0" y="295200"/>
                <a:ext cx="9144000" cy="627552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63" name=""/>
            <p:cNvSpPr/>
            <p:nvPr/>
          </p:nvSpPr>
          <p:spPr>
            <a:xfrm>
              <a:off x="-4680" y="290520"/>
              <a:ext cx="9153360" cy="6284880"/>
            </a:xfrm>
            <a:prstGeom prst="rect">
              <a:avLst/>
            </a:prstGeom>
            <a:noFill/>
            <a:ln w="11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4" name=""/>
          <p:cNvSpPr txBox="1"/>
          <p:nvPr/>
        </p:nvSpPr>
        <p:spPr>
          <a:xfrm>
            <a:off x="3851280" y="3716280"/>
            <a:ext cx="5057640" cy="561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400" spc="1" strike="noStrike">
                <a:ln w="9360">
                  <a:solidFill>
                    <a:srgbClr val="ff99cc"/>
                  </a:solidFill>
                  <a:miter/>
                </a:ln>
                <a:solidFill>
                  <a:srgbClr val="ff99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华文新魏"/>
              </a:rPr>
              <a:t>诚信，从小事做起！</a:t>
            </a:r>
            <a:endParaRPr b="0" i="1" lang="en-US" sz="4400" spc="1" strike="noStrike">
              <a:ln w="9360">
                <a:solidFill>
                  <a:srgbClr val="ff99cc"/>
                </a:solidFill>
                <a:miter/>
              </a:ln>
              <a:solidFill>
                <a:srgbClr val="ff99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华文新魏"/>
              <a:ea typeface="华文新魏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2666880" y="1371600"/>
            <a:ext cx="22860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思考后回答</a:t>
            </a:r>
            <a:r>
              <a: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effectLst>
                  <a:outerShdw dist="153753" dir="2700000" blurRad="0" rotWithShape="0">
                    <a:srgbClr val="c7dfd3"/>
                  </a:outerShdw>
                </a:effectLst>
                <a:latin typeface="宋体"/>
              </a:rPr>
              <a:t>: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9900"/>
              </a:solidFill>
              <a:effectLst>
                <a:outerShdw dist="153753" dir="2700000" blurRad="0" rotWithShape="0">
                  <a:srgbClr val="c7dfd3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66" name=""/>
          <p:cNvSpPr txBox="1"/>
          <p:nvPr/>
        </p:nvSpPr>
        <p:spPr>
          <a:xfrm>
            <a:off x="2484360" y="3284640"/>
            <a:ext cx="6324840" cy="19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说说看，你对待别人（老师、同学、家人</a:t>
            </a:r>
            <a:r>
              <a:rPr b="0" lang="en-US" sz="2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......</a:t>
            </a:r>
            <a:r>
              <a:rPr b="0" lang="zh-CN" sz="2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）</a:t>
            </a:r>
            <a:endParaRPr b="0" lang="en-US" sz="28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在哪些方面做到了诚信？</a:t>
            </a:r>
            <a:endParaRPr b="0" lang="en-US" sz="28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这有好处吗</a:t>
            </a:r>
            <a:r>
              <a:rPr b="0" lang="en-US" sz="2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?</a:t>
            </a:r>
            <a:r>
              <a:rPr b="0" lang="zh-CN" sz="2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哪些方面没做到？会有什么后果吗</a:t>
            </a:r>
            <a:r>
              <a:rPr b="0" lang="en-US" sz="2800" spc="1" strike="noStrike">
                <a:ln w="12600">
                  <a:solidFill>
                    <a:srgbClr val="0000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?</a:t>
            </a:r>
            <a:endParaRPr b="0" lang="en-US" sz="2800" spc="1" strike="noStrike">
              <a:ln w="12600">
                <a:solidFill>
                  <a:srgbClr val="0000ff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1" dur="indefinite" restart="never" nodeType="tmRoot">
          <p:childTnLst>
            <p:seq>
              <p:cTn id="602" dur="indefinite" nodeType="mainSeq">
                <p:childTnLst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1143000" y="205740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Times New Roman"/>
                <a:ea typeface="华文行楷"/>
              </a:rPr>
              <a:t>对照《中学生守则》《中学生日常行为规范》，当发现自己有缺点、错误的时候，你该怎样做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76520" cy="1981080"/>
          </a:xfrm>
          <a:prstGeom prst="rect">
            <a:avLst/>
          </a:prstGeom>
          <a:ln w="0">
            <a:noFill/>
          </a:ln>
        </p:spPr>
      </p:pic>
      <p:sp>
        <p:nvSpPr>
          <p:cNvPr id="570" name=""/>
          <p:cNvSpPr txBox="1"/>
          <p:nvPr/>
        </p:nvSpPr>
        <p:spPr>
          <a:xfrm>
            <a:off x="1447920" y="380880"/>
            <a:ext cx="1971720" cy="1341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 </a:t>
            </a:r>
            <a:r>
              <a:rPr b="0" lang="zh-CN" sz="4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议一议</a:t>
            </a:r>
            <a:endParaRPr b="0" lang="en-US" sz="4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p:transition>
    <p:strips dir="rd"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0" name=""/>
          <p:cNvSpPr/>
          <p:nvPr/>
        </p:nvSpPr>
        <p:spPr>
          <a:xfrm flipH="1">
            <a:off x="900000" y="2590920"/>
            <a:ext cx="9072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-324000" y="-5032440"/>
            <a:ext cx="7308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zh-CN" sz="4400" spc="-1" strike="noStrike">
              <a:solidFill>
                <a:srgbClr val="000000"/>
              </a:solidFill>
              <a:latin typeface="Times New Roman"/>
              <a:ea typeface="隶书"/>
            </a:endParaRPr>
          </a:p>
        </p:txBody>
      </p:sp>
      <p:sp>
        <p:nvSpPr>
          <p:cNvPr id="392" name=""/>
          <p:cNvSpPr/>
          <p:nvPr/>
        </p:nvSpPr>
        <p:spPr>
          <a:xfrm>
            <a:off x="2473200" y="404640"/>
            <a:ext cx="164808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1476360" y="907920"/>
            <a:ext cx="5327640" cy="468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让诚信回归</a:t>
            </a:r>
            <a:endParaRPr b="0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708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>
            <a:off x="304920" y="3124080"/>
            <a:ext cx="833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 txBox="1"/>
          <p:nvPr/>
        </p:nvSpPr>
        <p:spPr>
          <a:xfrm>
            <a:off x="609480" y="0"/>
            <a:ext cx="7772400" cy="24382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788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现在就定计划培养自己</a:t>
            </a:r>
            <a:endParaRPr b="0" lang="en-US" sz="2400" spc="1" strike="noStrike">
              <a:ln w="936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成为一个诚信的人吧</a:t>
            </a:r>
            <a:r>
              <a:rPr b="0" lang="en-US" sz="2400" spc="1" strike="noStrike">
                <a:ln w="9360">
                  <a:solidFill>
                    <a:srgbClr val="ff00ff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!</a:t>
            </a:r>
            <a:endParaRPr b="0" lang="en-US" sz="2400" spc="1" strike="noStrike">
              <a:ln w="9360">
                <a:solidFill>
                  <a:srgbClr val="ff00ff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574" name=""/>
          <p:cNvSpPr/>
          <p:nvPr/>
        </p:nvSpPr>
        <p:spPr>
          <a:xfrm>
            <a:off x="2703960" y="653040"/>
            <a:ext cx="1642680" cy="728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你的诚信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造就你的成功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你的成功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是你家庭的荣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你家庭的荣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是祖国的荣耀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3111480" y="32846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184560" y="350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2" dur="indefinite" restart="never" nodeType="tmRoot">
          <p:childTnLst>
            <p:seq>
              <p:cTn id="633" dur="indefinite" nodeType="mainSeq">
                <p:childTnLst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3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8" name=""/>
          <p:cNvSpPr/>
          <p:nvPr/>
        </p:nvSpPr>
        <p:spPr>
          <a:xfrm>
            <a:off x="3419640" y="2060640"/>
            <a:ext cx="4824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诚信格言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摘录共勉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9" name="" descr=""/>
          <p:cNvPicPr/>
          <p:nvPr/>
        </p:nvPicPr>
        <p:blipFill>
          <a:blip r:embed="rId2"/>
          <a:stretch/>
        </p:blipFill>
        <p:spPr>
          <a:xfrm>
            <a:off x="1447920" y="6130800"/>
            <a:ext cx="6019560" cy="72072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1480680" y="243000"/>
            <a:ext cx="1643400" cy="65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第 五 篇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2" name=""/>
          <p:cNvSpPr/>
          <p:nvPr/>
        </p:nvSpPr>
        <p:spPr>
          <a:xfrm>
            <a:off x="539640" y="549360"/>
            <a:ext cx="81010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人而无信，不知其可也。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孔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言既出，驷马难追。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《论语 颜渊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一两重的真诚，其值等于一吨重的聪明。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德国谚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要正直地生活，别想入非非！要诚实地工作，才能前程远大。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陀思妥耶夫斯基 </a:t>
            </a:r>
            <a:br>
              <a:rPr sz="2800"/>
            </a:b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蚜虫吃青草，锈吃铁，虚伪吃灵魂。 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--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契诃夫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我们应该老老实实地办事。 ———毛泽东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不讲诚信的人，是可悲的、可怜的、可恨的，也是可怕的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生命不可能从谎言中开出灿烂的鲜花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创起诚信校园，树起诚信学风，成为诚信学子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fill="hold">
                      <p:stCondLst>
                        <p:cond delay="indefinite"/>
                      </p:stCondLst>
                      <p:childTnLst>
                        <p:par>
                          <p:cTn id="663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6" dur="5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1" dur="500"/>
                                        <p:tgtEl>
                                          <p:spTgt spid="5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6" dur="500"/>
                                        <p:tgtEl>
                                          <p:spTgt spid="5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1" dur="500"/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5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5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6" dur="500"/>
                                        <p:tgtEl>
                                          <p:spTgt spid="5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fill="hold">
                      <p:stCondLst>
                        <p:cond delay="indefinite"/>
                      </p:stCondLst>
                      <p:childTnLst>
                        <p:par>
                          <p:cTn id="698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1" dur="500"/>
                                        <p:tgtEl>
                                          <p:spTgt spid="5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6" dur="500"/>
                                        <p:tgtEl>
                                          <p:spTgt spid="5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4" name=""/>
          <p:cNvSpPr/>
          <p:nvPr/>
        </p:nvSpPr>
        <p:spPr>
          <a:xfrm>
            <a:off x="3419640" y="2060640"/>
            <a:ext cx="4824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诚信宣誓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立志诚信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2"/>
          <a:stretch/>
        </p:blipFill>
        <p:spPr>
          <a:xfrm>
            <a:off x="1447920" y="6130800"/>
            <a:ext cx="6019560" cy="72072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1480680" y="243000"/>
            <a:ext cx="1643400" cy="65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第 六 篇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707" dur="indefinite" restart="never" nodeType="tmRoot">
          <p:childTnLst>
            <p:seq>
              <p:cTn id="708" dur="indefinite" nodeType="mainSeq">
                <p:childTnLst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4842000" y="198900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3203640" y="855720"/>
            <a:ext cx="47052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我宣誓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言必行，行必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知之为知之，不知为不知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以诚信换取诚信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以诚信收获成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用诚信开启知识之窗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用诚信鼓起上进之帆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我诚信，我光荣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我诚信，我自尊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</a:rPr>
              <a:t>我诚信，我成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828720" y="3238560"/>
            <a:ext cx="54936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 txBox="1"/>
          <p:nvPr/>
        </p:nvSpPr>
        <p:spPr>
          <a:xfrm rot="5272800">
            <a:off x="-1466640" y="2698560"/>
            <a:ext cx="6172200" cy="12952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latin typeface="宋体"/>
              </a:rPr>
              <a:t>诚信宣誓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latin typeface="宋体"/>
              <a:ea typeface="宋体"/>
            </a:endParaRPr>
          </a:p>
        </p:txBody>
      </p:sp>
      <p:sp>
        <p:nvSpPr>
          <p:cNvPr id="591" name=""/>
          <p:cNvSpPr/>
          <p:nvPr/>
        </p:nvSpPr>
        <p:spPr>
          <a:xfrm>
            <a:off x="2484360" y="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1258920" y="189000"/>
            <a:ext cx="5522760" cy="28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10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宋体"/>
              </a:rPr>
              <a:t>弘扬民族精神 做诚实守信学生</a:t>
            </a:r>
            <a:endParaRPr b="0" i="1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"/>
          <p:cNvSpPr txBox="1"/>
          <p:nvPr/>
        </p:nvSpPr>
        <p:spPr>
          <a:xfrm>
            <a:off x="1403280" y="538200"/>
            <a:ext cx="6324840" cy="281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华文彩云"/>
              </a:rPr>
              <a:t>记住：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华文彩云"/>
              </a:rPr>
              <a:t>诚信由你我做起，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/>
                  </a:outerShdw>
                </a:effectLst>
                <a:latin typeface="华文彩云"/>
              </a:rPr>
              <a:t>诚信就在你我身边！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/>
                </a:outerShdw>
              </a:effectLst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活动的目的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、知道诚实守信的基本含义，懂得诚实守信是中华民族的传统美德，现代社会更需要诚实守信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、反对虚假和不守信用的行为，反省自己不诚实不守信的行为。希望通过此次班会，能引起部分同学们对不诚信行为的重视，做一个诚信的小公民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、增强学生自信，使学生努力做到说话做事实实在在，表里如一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3419640" y="2349360"/>
            <a:ext cx="5724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什么是诚信？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1447920" y="6130800"/>
            <a:ext cx="6019560" cy="72072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1480680" y="1052640"/>
            <a:ext cx="1643400" cy="58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第 一 篇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" descr=""/>
          <p:cNvPicPr/>
          <p:nvPr/>
        </p:nvPicPr>
        <p:blipFill>
          <a:blip r:embed="rId1"/>
          <a:stretch/>
        </p:blipFill>
        <p:spPr>
          <a:xfrm>
            <a:off x="0" y="-39600"/>
            <a:ext cx="9144000" cy="689760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/>
          <p:nvPr/>
        </p:nvSpPr>
        <p:spPr>
          <a:xfrm>
            <a:off x="5748120" y="-210960"/>
            <a:ext cx="911520" cy="426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汉仪小隶书简"/>
              </a:rPr>
              <a:t>诚信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4472640" y="1143000"/>
            <a:ext cx="7898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汉仪小隶书简"/>
              </a:rPr>
              <a:t>诚实，守信用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52080" y="476280"/>
            <a:ext cx="60696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———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《现代汉语词典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028640" y="1603440"/>
            <a:ext cx="13993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汉仪行楷简"/>
                <a:ea typeface="汉仪行楷简"/>
              </a:rPr>
              <a:t>何  为  诚  信 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2"/>
          <a:stretch/>
        </p:blipFill>
        <p:spPr>
          <a:xfrm>
            <a:off x="2946240" y="5154480"/>
            <a:ext cx="762120" cy="72252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1749960" y="836640"/>
            <a:ext cx="667800" cy="51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通俗表述，就是说老实话、办老实事、做老实人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horz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75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225"/>
                            </p:stCondLst>
                            <p:childTnLst>
                              <p:par>
                                <p:cTn id="6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4" dur="75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50"/>
                            </p:stCondLst>
                            <p:childTnLst>
                              <p:par>
                                <p:cTn id="6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75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75"/>
                            </p:stCondLst>
                            <p:childTnLst>
                              <p:par>
                                <p:cTn id="70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3780000" y="1700280"/>
            <a:ext cx="4392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阅读故事，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"/>
                <a:ea typeface="楷体"/>
              </a:rPr>
              <a:t>感悟诚信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1447920" y="6130800"/>
            <a:ext cx="6019560" cy="72072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17640" y="907920"/>
            <a:ext cx="3106440" cy="54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"/>
                <a:ea typeface="楷体"/>
              </a:rPr>
              <a:t>第 二 篇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sh dir="r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1295280" y="1828800"/>
            <a:ext cx="6400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</a:rPr>
              <a:t>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3191040" y="5164200"/>
            <a:ext cx="1676160" cy="12747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 txBox="1"/>
          <p:nvPr/>
        </p:nvSpPr>
        <p:spPr>
          <a:xfrm>
            <a:off x="2209680" y="1447920"/>
            <a:ext cx="4668840" cy="725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cap="sq" w="12600">
                  <a:solidFill>
                    <a:srgbClr val="ffff00"/>
                  </a:solidFill>
                  <a:miter/>
                </a:ln>
                <a:solidFill>
                  <a:srgbClr val="00ffff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言而有信　一诺千金</a:t>
            </a:r>
            <a:endParaRPr b="1" lang="en-US" sz="2400" spc="1" strike="noStrike">
              <a:ln cap="sq" w="12600">
                <a:solidFill>
                  <a:srgbClr val="ffff00"/>
                </a:solidFill>
                <a:miter/>
              </a:ln>
              <a:solidFill>
                <a:srgbClr val="00ffff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322280" y="3227400"/>
            <a:ext cx="6683400" cy="64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cap="sq"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能说出“一诺千金”的由来吗？</a:t>
            </a:r>
            <a:endParaRPr b="1" lang="en-US" sz="2400" spc="1" strike="noStrike">
              <a:ln cap="sq"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6T17:10:25Z</dcterms:created>
  <dc:creator>teacher</dc:creator>
  <dc:description/>
  <dc:language>en-US</dc:language>
  <cp:lastModifiedBy>微软用户</cp:lastModifiedBy>
  <dcterms:modified xsi:type="dcterms:W3CDTF">2012-12-22T12:45:54Z</dcterms:modified>
  <cp:revision>89</cp:revision>
  <dc:subject/>
  <dc:title>PowerPoint 演示文稿</dc:title>
</cp:coreProperties>
</file>