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810-7DEA-45C7-AD28-C6FBBBC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12E-66CB-4EF8-B91E-FFCD385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57D92-9DA1-4681-9B7D-E112ABB8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CF486-ED32-4A31-887C-F51DDD1F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808CC-32CB-48B2-8801-D85F286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C0D44-B489-462C-8AC0-114BB31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B6DFB-1367-45FB-BD3E-452BCB54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83D03-B52E-4FD3-9997-A7C264CF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3E031-10F8-4A87-B7FE-D4FBA43C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1F42C-2EC6-46C3-968B-3C6C771C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A8B04-EB7E-4CBB-9393-3EFA9A08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88D2F-DA97-4692-B89E-5E83810D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651-3F1C-41A1-A40D-4CEA0FE7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8EEB5-FA18-43EE-8BD6-9D0D80C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31496-B12D-42A8-93FB-ADF7B5D5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7105A-0FD9-44E5-9A34-AA30D3F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18AF2-56ED-4316-8602-708EFCD4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3E7FC-D932-4D52-A0A8-A77AD9F3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7BECE-BFD7-4EB0-8C43-4807889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1709E-C3A2-4700-885B-3D4B9C6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A8517-E16F-48A1-9841-5E855406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000AA-FD42-40DE-B706-B7BAEAC4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02E7E-2359-4778-AB8D-A6A05CA0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52E-9452-4824-958C-E5B08644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96760-BD09-4D53-9C20-62F97247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61406-C0B2-400C-B413-DD1C4704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7C4F8-EF8C-474E-BACA-6C53E956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5C791-7376-4D8C-B34D-3850556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DD433-E6F5-4B68-B175-E60F7FEB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64016-C558-42F4-BA39-D2F87B51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BAFF1-537F-4C4E-B161-8B86E50B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3E551-A7F6-423C-8FBF-B910BCB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3C051-2276-4707-8CB1-86C0810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4348-9436-487B-A243-6FD52636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5B81-95CD-459A-A1F7-38FECCF6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B8BCC-B86E-4E2C-8B96-9CEB8A9B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5305E-6D24-446E-8165-27903516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ED254-19FE-43F0-B223-3CF6106F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8F32E-6F56-4DF1-922C-3F28F596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124D1-1435-4E6E-81C7-5A871807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F0C45-3CB6-4FC7-9F38-13DE48BF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3DC61-B153-48C4-BCAD-C3DF5A74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803A9-2147-4C41-88AD-5507AAE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D3F68-6F08-4FA2-B4A2-8650ABF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9D2B1-B7E0-4070-9269-54294BEE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5724-34B7-4D41-9771-408AEE4B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35B41-045A-42A2-A0D2-647455A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EE2C0-97B3-4868-93AD-E17B0E1E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3D345-A437-433B-A5AD-7C17DE95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AB286-4E1F-4F94-AB81-150500C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B25B7-9409-404A-B740-85C521A1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929C7-413A-4F12-92B7-FAB063A0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26339-D8E4-40EE-9509-1EA72230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DC035-D3BA-4168-ACE8-6A1E4CB2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61381-6C41-4686-A3DF-0F7304AD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515F9-510C-4C75-A82A-D186B246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8D76-EBEF-453F-96DF-79F1624F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F955A-459E-43A8-B573-CB446772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0A1EA-E496-4C97-A851-6A4029D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EA723-EDD0-4506-8270-35B87E6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91A82-1191-4444-95CD-25F118E4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D01F6-86F5-495B-8891-280C6C0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0384F-FD42-414B-99A7-5D93CEA1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4BEEB-CEC3-408A-B306-256242E2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34AA4-8DEC-48F2-884D-07598B67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102E15-A71D-4D55-ADB2-3A4A29CD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2025D-711E-4E2D-9F6C-D8A13205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A624-4C10-46A1-A53E-BC6D5AD9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21379-F94C-4323-BE04-C90CB6BD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3C8CA-C975-45C3-BAF1-3645478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93ECE-B655-4246-A386-DCFD35C8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06B50-A84A-4AE7-8B12-85864E0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DD836-0E78-49D8-8522-2441D3D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BBC55-4702-4DF3-A112-95C4FC5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FC979-5D5D-4E49-829B-95D9138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7422F-3BD4-4A3E-B635-4391233D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6D762-C56F-4B14-A1DF-1679B8DF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BA8F1-75EF-46AB-B9AB-83F455F3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8ED8-7179-4F74-A5C4-0B48DED5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E4FC9-62E4-41BA-9E3A-A5440A93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AE6C9-8438-4289-8545-590AB5D0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41121-270A-44AC-A432-1F9731F9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17044-404E-42F4-964B-E9D5F9B4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81AFC-1D95-43A6-B996-AAAAFD2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C10B9-6F56-410C-AD9E-90373A9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C7EC3-BBBF-430A-A0B3-9B8FFDEF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CFFBA-4603-4B9C-9C5A-194672D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8C475-EA0C-49DE-BE01-7947D5E4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E87F1-F655-4B13-A020-AD73D0B9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B973-FA08-466A-91D7-559D8ABE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C3DA6-A19F-43C5-A74C-D8F897AE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0CC5D-7560-4EE7-8692-B4422173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9CE93-B25B-4BDD-9945-DC8D7DBC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9889B-8E8A-47FD-BD43-DA2649EA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2FEBA-6386-4F23-8972-C00A341B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E2566-8425-41FE-8410-19DD2263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7FDC3-AF56-417D-9AA4-39B5FEA9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FD9FE-449B-4B91-9A7A-1BE6A16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9EE05-892C-4C00-A8BE-10C0965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CCF47-0FAA-4DC0-B9CE-E7E4FFE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F9B2-146E-4DB7-80ED-A919CCC3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3F553-3D8B-4264-855E-DCBD07C2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A5013-F723-4E94-A855-385026CF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B9D299-D6B5-4A28-8F31-FE5815E4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36F41-A1C7-4514-9BDE-AE7C7E84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99E9D-1A12-4C26-AFA6-4CC31FC1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36247-F576-45D8-B0B9-CB20AC25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63644-75F0-4181-AB11-E57281CC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9B9C8-617B-4593-AD1F-B0EBCCA5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35EE7-EC54-406F-8969-7F9D3D25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0079E-AACC-4323-87D0-E0709116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394-2F04-4E9D-A6ED-CC8A9DFA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804-1452-4BFB-ADA6-BB9F373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F7ADF9-FE6E-46D4-B6EF-EFA10A4E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CCBAA-1B4A-42C8-A8B2-5AC00131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8FFF5-5F5D-40AC-A5D3-3931E459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21D19-131B-46EB-A7A5-F27C1D11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C5F99-7EB8-4B73-AD86-1C7C6ACE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E8B4A-8332-4269-AA36-DB64CD69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2890C-FF5D-449C-A4A4-B0072145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2D3B7-0CF1-48FC-89D9-4A929D1C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17C24-AFF9-4CC2-93DE-70870A50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796D7-44A6-42D9-84E9-7A761FE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1048-B6CF-4FD2-BB95-FB4BC2B2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715BE-B200-4E64-B8DF-8523F10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E06A3-C2EF-40C1-A9FC-E20807A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0806F-FBC4-4DFC-9190-88F3C32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7E4FC9-D824-4DF2-9E21-DCAD694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76451E-17ED-4A2C-BB6F-CAB08BD9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31B5D-3DF6-478C-B299-0337458E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0EFD2-E842-4CDC-933C-36E23225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5D60A-E1E7-4EB5-878D-2584D05F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7C2822-539C-440D-A03E-FF912E6D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419A3-B402-47F9-8938-6B1DC64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2ECE-BAF7-4BEC-9815-2DDF7FFC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082515-6F5B-4559-9CCE-2B760D62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AAE8F-E08D-497C-A27A-CBD52464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B1A6CF-887E-4C82-94ED-554FE92A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C1DF4-A837-4F1B-B32F-5A38B88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562A6E-F98F-460D-8A3E-F25F7EFF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B8FAE-4ACD-463C-9C9C-A27ECB8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01C04-75C5-4666-BCA6-ED1FF66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C058C-E12C-42C5-ACC2-9117597E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262D26-36A8-49C9-AFA0-7539506C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5EEE7B-A625-4C77-8D3C-10493F27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D5D5-EC3F-44AC-BFFA-326F1B8C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26613-BC4E-4B64-8984-B80A8F2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FCF0E-B075-489B-91AE-C2FBAB8B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337956-6CB3-4C23-A066-8B949C22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BD24C-C869-4BDE-93F2-09751B4F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03FDA-049F-4EA7-916F-D0CF1DAB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44E15-7FCE-436E-93D5-7127C77B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9ACEEB-862B-43F9-BA13-581297F6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5E6EA8-D85E-4890-8207-1DD8B282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48F84-6656-4777-BCE0-78E75266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F25DFD-7BF1-4054-B3C5-B5699053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4BA2-4FD2-4A83-A9D6-C21FD6C2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3A4DC-21EF-4D95-8A5E-708C4AFC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C3B4E-4C9F-4617-8004-D2FF03A7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7B2BD-CC3B-4A29-B131-F0DD4661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31EA86-6600-40E9-8D97-CA1BE71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CEA918-52C9-4576-8ECD-44EF11CD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577DD2-EB18-4626-B0F8-E45FD937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D8BF34-3806-4677-92B7-F73A465E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F3E05-3B6D-4504-99CC-EC9E2D84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0AC66-2545-4AAE-B7B3-05B0960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E8521-8757-4C99-8685-06D9B6F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853E-6597-4993-A62C-54C154C1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798C1F-E607-485E-BB89-48A25B08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97F7E-7FE8-4B46-A604-2F9179B1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45D06-D8C6-48B8-B70D-96697880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8479F-E9A2-4E35-97D4-2B523E55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FCE599-612F-4DE9-9950-0C058A91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FE373D-C200-45CF-B3DB-B41E7A22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B82AF2-68F5-4645-81EF-E4F804EC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1A7FDA-3E23-4A8B-A42E-17CE9BB1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D7982-8375-4FFA-B364-193CB2F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4B5AF2-4305-4011-B40C-1241A256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9383-9CE9-4429-B30D-BEB537A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65971A-36AA-4E16-AA8C-0497D8B7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1D49C-7120-47A2-BB10-C8D0802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5CF925-8B66-40D3-933C-D82534AD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228360-82D8-4EE9-BBEE-22C01C09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8A4E3D-10F2-4188-802A-93928B95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DEDD-7374-4FA9-A62E-064B7F01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EE4A-141D-43D0-98E5-CEBB7978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E724-5ABA-40F3-9FB7-560F983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15F-54FA-4021-9040-C70029C2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CE5B-0D69-4BE6-AAB2-7A1FDB01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B43D2-426D-4E1E-9555-1B7F04B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7DA1-D875-460E-A2DB-C62A347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5CC0-3535-4F04-BBD1-F7FB6F9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2201-8534-4381-9927-1D068C4C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FC67-714A-464E-BB9C-03C438A1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457F-BC83-41DA-9E4C-2B8D5A6B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2AB0-60DA-42FA-BD32-63814E88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0E15-DF32-459E-BF24-ACD9F9B3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FE5E-F114-4094-A315-7746AFF8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3A3-9756-4A86-B3C2-2677560E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BA8B-E1F2-4106-9F44-C5F1AB93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C0284-2192-49A1-893F-011EC6C2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9279-537E-408B-A3D2-B27EE961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0010-3341-49A1-AE25-3EF1737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30DD-37A6-4D56-9844-FC3C8C2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0E540-F4A4-43B7-9860-2D1D02D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C6BE-2C8D-4556-B140-74C30EB6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8669-698E-4D72-BCF1-9B9C57A5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BCC1-954F-429F-BF6E-CCE85C91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FDD8-5023-4AC8-9B4F-134B54C6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B8A-A9B6-4C01-BFEA-4E931D8A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E0EA8-D2C4-48F2-BD9C-9833CE8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D25C-2727-4BC7-87BA-A794CDE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442B-5E3A-4212-AAD3-3764A691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4EB0-4C87-4B98-808C-6C2A198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DCBD0-C7B1-4F97-AE48-8191ECD6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FADC-7B58-4401-BFE3-0069DA89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187DA-F5F8-4941-BF0D-305ECFBE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FBFA-F484-4176-B5BB-070E4115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5F3F-3ABE-4C55-843E-24BFE628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B93D-6292-4697-B33F-09306067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71B-BCC5-4578-9B51-CF4D96CD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8FAB0-FDD3-494A-A3D9-89372C40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91D5-00A2-4EBC-AC20-D13AA7E2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21BF-D77B-4298-9A91-BCE73DC8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70FC1-E104-4150-90D1-2B71EA7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87BE-4332-496B-B798-A1583C17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78A0-85FE-44D5-B87E-4EC4C7D5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E28D3-9CBC-46FF-BF47-AD91E48C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B9B32-D18A-4ECB-B44C-8B9DC8DA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3BA4E-809F-474E-858C-7EBFEBE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736D7-33EF-4E85-9066-35D3011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1CA-0A73-418B-A604-0C663FB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F57E2-F07C-469E-B2E9-0D5FA79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62A8-90C1-4AF2-A57C-214495B4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B0EED-86C3-43A6-BE0D-771B5D55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8D9D8-5D96-4BDB-AF5D-07AD2A41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78F8-B532-4250-91ED-7FEB184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C610-87E5-422C-B011-E34AE617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D9126-41E7-4C9B-B8F1-74EB8C6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42490-DA9E-49D9-90D3-F302A99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8E7B9-0F32-45DD-80C6-4E9367B5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7C80F-4294-4C5A-9142-9821D56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73D-B772-4642-80AD-6FE80FB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44FE6-AD83-4C30-AE0A-D85F7E6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AAF8E-4354-47B5-A823-65CD5DB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7486-D071-4453-BEDF-A7B1952F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66475-19CF-4DDD-A0B1-BF88D864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E7190-D551-4EE9-9AF1-FCFAC23C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FE18A-8B02-46A6-A1F9-551E02DB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27FC7-58A5-47B1-8A48-3E12B8C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F79BF-4762-4B8C-9373-CE2B8DC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C6561-ED14-4D29-A651-996FCDFF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A884-B464-4548-AEAF-15E8C480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E2D-3340-4F38-8A64-52BC408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E0C8B-1CEE-4862-AA5C-7E23371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DA388-F45C-4253-9A6A-052BC0E7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8878C-2626-4DB9-9263-D1F7D466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87FF0-E70A-4CDC-AD2B-717AEFA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19A6-F3F9-4D70-A97B-549730A0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1D39B-9EB3-4A22-B2BA-C1F21F28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383F9-BE88-4057-95D7-E277FDD7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4E397-2C59-4138-B3D3-60CCA714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02B75-DD8A-46BF-B978-E624DA79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4597C-4793-4F57-B925-6F5B1D6D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4860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CB1B-B26E-4B38-BEFB-F9569463E0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7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8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9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30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76E1-1C2D-4DF6-8E1D-7AB7332F7F6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EFC-D846-4365-842C-5633397B29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26560" y="4799160"/>
            <a:ext cx="7921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95B0-7BC4-4360-8A2D-510E699D70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721-930D-44A3-8732-7D6201C4BFC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52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7E93-B6A0-4C09-A302-7FA98B5067C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1128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E117-2903-46A9-8E88-FEFF25A51B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360" y="37587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963-B4FC-427B-8CBB-9EC549393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715A-458F-47A5-822F-9C5AF4127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B44C-8BB1-434F-8253-7B8A0D69DF6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478B-06E0-4A81-A601-C9B027BB1A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C8A3-B77E-40AA-83AF-3984309932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A618-5AB6-4F8F-9C5C-F4A36C93F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799E-4760-4B43-949F-A4FBC2CB98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18920" y="1958760"/>
            <a:ext cx="5761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8BDE-49BF-4F0A-82E1-D2F93AF29B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C10-7601-44C4-A3BD-D67EA90A46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8A3D-A981-4815-BC45-48C4389DC3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58CF-C941-4DCC-9C3D-24E0C7433B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247F-403B-4B37-B6A4-6DA9A30DD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A5C-A6F5-4A4F-B83A-30DA2B40CE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BCE0-6726-4A8A-ABD0-8A593FBE40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2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dt" idx="25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6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7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F084-AADE-473B-B609-CA378D81DA7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7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042560" y="1341360"/>
            <a:ext cx="71247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企业员工爱岗敬业教育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1" name=""/>
          <p:cNvSpPr/>
          <p:nvPr/>
        </p:nvSpPr>
        <p:spPr>
          <a:xfrm>
            <a:off x="4211640" y="5805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东坡下载站编辑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每一件事情都值得我们去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每一件事情对人生都具有十分深刻的意义，每一件事情都值得去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要用欣赏的眼光看自己的工作：工作是人生的权利和荣耀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通过工作才能获得真正的力量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6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将工作当成人生的乐趣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人生最有意义的就是工作，与领导的相处是缘分，与同事的相见是乐趣。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人可以通过工作来学习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有乐趣就有激情，有激情就有效率，有效率就有收获，有收获就更快乐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7" name=""/>
          <p:cNvSpPr/>
          <p:nvPr/>
        </p:nvSpPr>
        <p:spPr>
          <a:xfrm>
            <a:off x="5148360" y="558972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2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 Rounded MT Bold"/>
              </a:rPr>
              <a:t>让我们勤奋工作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勤奋是美德，是通往荣誉圣殿的必经之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只有勤奋才能给人带来真正的幸福和乐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只有勤奋工作才能改变现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148360" y="558972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机会来自苦干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隶书"/>
                <a:ea typeface="隶书"/>
              </a:rPr>
              <a:t>机会不会光顾懒惰的可怜虫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隶书"/>
                <a:ea typeface="隶书"/>
              </a:rPr>
              <a:t>机会总是存在于那些认清机会的人心中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隶书"/>
                <a:ea typeface="隶书"/>
              </a:rPr>
              <a:t>机会总是光顾有准备的人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隶书"/>
                <a:ea typeface="隶书"/>
              </a:rPr>
              <a:t>机会是自己创造出来的，唯有自己才能拯救自己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隶书"/>
                <a:ea typeface="隶书"/>
              </a:rPr>
              <a:t>“</a:t>
            </a:r>
            <a:r>
              <a:rPr b="0" lang="zh-CN" sz="3600" spc="-1" strike="noStrike">
                <a:solidFill>
                  <a:srgbClr val="99cc00"/>
                </a:solidFill>
                <a:latin typeface="隶书"/>
                <a:ea typeface="隶书"/>
              </a:rPr>
              <a:t>没有机会”，只是失败者的推诿之词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2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8" dur="5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1" dur="5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Rounded MT Bold"/>
                <a:ea typeface="隶书"/>
              </a:rPr>
              <a:t>对待事业：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Arial Rounded MT Bold"/>
                <a:ea typeface="隶书"/>
              </a:rPr>
              <a:t>            敬   业</a:t>
            </a: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title"/>
          </p:nvPr>
        </p:nvSpPr>
        <p:spPr>
          <a:xfrm>
            <a:off x="396360" y="188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 Black"/>
                <a:ea typeface="隶书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5" name=""/>
          <p:cNvSpPr/>
          <p:nvPr/>
        </p:nvSpPr>
        <p:spPr>
          <a:xfrm>
            <a:off x="5292720" y="558972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0890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</a:rPr>
              <a:t>敬业是人的使命所在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128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  <a:ea typeface="楷体_GB2312"/>
              </a:rPr>
              <a:t>敬业是基本的做人之道，是成就事业的重要条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  <a:ea typeface="楷体_GB2312"/>
              </a:rPr>
              <a:t>有敬业的员工，才能有高质量的产品；只有敬业的人民，才能有敬业的社会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  <a:ea typeface="楷体_GB2312"/>
              </a:rPr>
              <a:t>敬业的最终受益者是自己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  <a:ea typeface="楷体_GB2312"/>
              </a:rPr>
              <a:t>诚实和敬业的名声是人生最大的财富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Rounded MT Bold"/>
                <a:ea typeface="楷体_GB2312"/>
              </a:rPr>
              <a:t>敬业会受人尊重，受人尊重会获得更多的自尊和自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9" name=""/>
          <p:cNvSpPr/>
          <p:nvPr/>
        </p:nvSpPr>
        <p:spPr>
          <a:xfrm>
            <a:off x="5148360" y="5950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0" dur="500"/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 Rounded MT Bold"/>
                <a:ea typeface="华文行楷"/>
              </a:rPr>
              <a:t>尽职尽责是敬业精神的基础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尽职尽责是工作的原则，也是人生的原则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所有成功的人都是在某一特定领域进行过不懈努力的人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能力是成功的条件，而敬业是成功的必备条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如果你能真正做好一枚别针，应该比你制造出粗陋的蒸汽机赚到的钱更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2" name=""/>
          <p:cNvSpPr/>
          <p:nvPr/>
        </p:nvSpPr>
        <p:spPr>
          <a:xfrm>
            <a:off x="5148360" y="5950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 Black"/>
              </a:rPr>
              <a:t>超越平庸，选择完美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  <a:ea typeface="隶书"/>
              </a:rPr>
              <a:t>要做就做最好，使自己变得不可替代，不要顺其自然，而要追求完美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  <a:ea typeface="隶书"/>
              </a:rPr>
              <a:t>超越平庸，选择完美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  <a:ea typeface="隶书"/>
              </a:rPr>
              <a:t>平凡不等于平庸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  <a:ea typeface="隶书"/>
              </a:rPr>
              <a:t>成功者无论做什么工作都力求达到最佳境界，丝毫不会放松；成功者无论做什么职业都不会轻率疏忽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 Rounded MT Bold"/>
                <a:ea typeface="隶书"/>
              </a:rPr>
              <a:t>你的工作质量往往决定你的生活质量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5" name=""/>
          <p:cNvSpPr/>
          <p:nvPr/>
        </p:nvSpPr>
        <p:spPr>
          <a:xfrm>
            <a:off x="5219640" y="602136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/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 Rounded MT Bold"/>
              </a:rPr>
              <a:t>对待企业：忠诚</a:t>
            </a:r>
            <a:endParaRPr b="0" lang="en-US" sz="8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457200" y="-505800"/>
            <a:ext cx="8229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"/>
          <p:cNvSpPr/>
          <p:nvPr/>
        </p:nvSpPr>
        <p:spPr>
          <a:xfrm>
            <a:off x="5364000" y="5373720"/>
            <a:ext cx="34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5239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员工必须忠诚于企业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对企业要有责任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要维护企业的自身形象和利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要确保企业健康生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隶书"/>
              </a:rPr>
              <a:t>忠诚度高的员工创造的价值肯定更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148360" y="5950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对待工作：勤奋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对待事业：敬业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          </a:t>
            </a:r>
            <a:r>
              <a:rPr b="1" lang="zh-CN" sz="48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对待企业：忠诚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              </a:t>
            </a:r>
            <a:r>
              <a:rPr b="1" lang="zh-CN" sz="4800" spc="-1" strike="noStrike">
                <a:solidFill>
                  <a:srgbClr val="006600"/>
                </a:solidFill>
                <a:latin typeface="Arial Rounded MT Bold"/>
                <a:ea typeface="华文行楷"/>
              </a:rPr>
              <a:t>对待自己：自信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 Rounded MT Bold"/>
                <a:ea typeface="楷体_GB2312"/>
              </a:rPr>
              <a:t>企业和员工并不是对立的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个性解放、自我实现与忠诚和敬业并不是对立的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企业的生存和发展需要员工的敬业和服从；员工的才能发挥和发展需要企业的平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员工的利益和企业的利益是一致的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企业给员工公平的待遇，员工给企业满腔的真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5" name=""/>
          <p:cNvSpPr/>
          <p:nvPr/>
        </p:nvSpPr>
        <p:spPr>
          <a:xfrm>
            <a:off x="5148360" y="5950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企业及其管理者以同情和理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Rounded MT Bold"/>
                <a:ea typeface="隶书"/>
              </a:rPr>
              <a:t>待人如己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Rounded MT Bold"/>
                <a:ea typeface="隶书"/>
              </a:rPr>
              <a:t>换位思考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 Rounded MT Bold"/>
                <a:ea typeface="隶书"/>
              </a:rPr>
              <a:t>企业要关怀员工，员工要体谅企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8" name=""/>
          <p:cNvSpPr/>
          <p:nvPr/>
        </p:nvSpPr>
        <p:spPr>
          <a:xfrm>
            <a:off x="5364000" y="5734080"/>
            <a:ext cx="34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华文行楷"/>
              </a:rPr>
              <a:t>感恩企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感恩是美德，是人之为人的基本条件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感恩是一种普遍的社会公德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永远都需要感谢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感恩是发自内心的感激之情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感恩是个人魅力的体现，是受人欢迎的特质，是人生的习惯和态度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人的成功离不开企业的关爱和栽培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个体发展离不开企业提供的机会和平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1" name=""/>
          <p:cNvSpPr/>
          <p:nvPr/>
        </p:nvSpPr>
        <p:spPr>
          <a:xfrm>
            <a:off x="5364000" y="5805360"/>
            <a:ext cx="34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77" dur="20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0" dur="20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3" dur="2000"/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6" dur="2000"/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89" dur="2000"/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92" dur="2000"/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95" dur="2000"/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牢骚和抱怨无济于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喜欢抱怨的人在世界上无立足之地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没有人会因为脾气坏和发牢骚而得到奖励和提升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喜欢抱怨的人往往和机会失之交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停止你的抱怨吧，让烦躁的心情平静下来！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Rounded MT Bold"/>
              </a:rPr>
              <a:t>如果你是忠诚的，你就会成功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忠诚是一种美德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忠诚是一种特质，是一种精神力量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忠诚和努力是连在一起的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责任心、上进心、事业心都体现员工的忠诚度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执行与服从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忠诚是一种职业责任感，是一种敬业精神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方正姚体"/>
              </a:rPr>
              <a:t>忠诚给企业带来效益和凝聚力；忠诚给员工带来安全感和自信心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6" name=""/>
          <p:cNvSpPr/>
          <p:nvPr/>
        </p:nvSpPr>
        <p:spPr>
          <a:xfrm>
            <a:off x="5148360" y="5950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62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65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68" dur="50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74" dur="50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77" dur="500"/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80" dur="500"/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方正姚体"/>
              </a:rPr>
              <a:t>对待自己：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r>
              <a:rPr b="0" lang="zh-CN" sz="15600" spc="-1" strike="noStrike">
                <a:solidFill>
                  <a:srgbClr val="ffffff"/>
                </a:solidFill>
                <a:latin typeface="Arial Rounded MT Bold"/>
                <a:ea typeface="隶书"/>
              </a:rPr>
              <a:t>自信</a:t>
            </a:r>
            <a:endParaRPr b="0" lang="en-US" sz="15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9" name=""/>
          <p:cNvSpPr/>
          <p:nvPr/>
        </p:nvSpPr>
        <p:spPr>
          <a:xfrm>
            <a:off x="4788000" y="5589720"/>
            <a:ext cx="38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20890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是自己最大的敌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除了自己，没有任何人可以使你消沉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思想决定行为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品格是思想的自然结果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自身是造成所处环境的原因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Rounded MT Bold"/>
                <a:ea typeface="华文行楷"/>
              </a:rPr>
              <a:t>态度决定一切；对工作的态度改变，工作的处境也会改变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1" dur="20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1" dur="20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20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6" dur="20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200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做自己思想的主宰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 Black"/>
                <a:ea typeface="仿宋_GB2312"/>
              </a:rPr>
              <a:t>检讨自己，发现不足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 Black"/>
                <a:ea typeface="仿宋_GB2312"/>
              </a:rPr>
              <a:t>选择正确的思想并坚持不懈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 Black"/>
                <a:ea typeface="仿宋_GB2312"/>
              </a:rPr>
              <a:t>只要思想不滑坡，办法总比困难多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 Black"/>
                <a:ea typeface="仿宋_GB2312"/>
              </a:rPr>
              <a:t>做思想的主人，才能拥有力量、才智，才能应对任何处境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 Black"/>
                <a:ea typeface="仿宋_GB2312"/>
              </a:rPr>
              <a:t>思想可以摧毁自己，也可以开辟未来的新天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5" name=""/>
          <p:cNvSpPr/>
          <p:nvPr/>
        </p:nvSpPr>
        <p:spPr>
          <a:xfrm>
            <a:off x="5148360" y="5589720"/>
            <a:ext cx="38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8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4" dur="500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0" dur="500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4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00"/>
                </a:solidFill>
                <a:latin typeface="Arial"/>
                <a:ea typeface="华文行楷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6600"/>
                </a:solidFill>
                <a:latin typeface="Arial"/>
                <a:ea typeface="华文行楷"/>
              </a:rPr>
              <a:t>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方正姚体"/>
              </a:rPr>
              <a:t>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547640" y="1628640"/>
            <a:ext cx="40640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</a:t>
            </a:r>
            <a:endParaRPr b="0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211640" y="3284640"/>
            <a:ext cx="15238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再见</a:t>
            </a:r>
            <a:endParaRPr b="0" lang="en-US" sz="60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9" name=""/>
          <p:cNvSpPr/>
          <p:nvPr/>
        </p:nvSpPr>
        <p:spPr>
          <a:xfrm>
            <a:off x="5076720" y="5661000"/>
            <a:ext cx="355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3059280" y="5229360"/>
            <a:ext cx="208908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zh-CN" sz="8000" spc="-1" strike="noStrike">
                <a:solidFill>
                  <a:srgbClr val="ffffff"/>
                </a:solidFill>
                <a:latin typeface="Arial Rounded MT Bold"/>
              </a:rPr>
              <a:t>对待工作：勤奋</a:t>
            </a:r>
            <a:endParaRPr b="0" lang="en-US" sz="8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"/>
          <p:cNvSpPr/>
          <p:nvPr/>
        </p:nvSpPr>
        <p:spPr>
          <a:xfrm>
            <a:off x="5148360" y="5950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684216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Rounded MT Bold"/>
                <a:ea typeface="方正姚体"/>
              </a:rPr>
              <a:t>薪水不是唯一的追求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薪水只是工作的一种报尝方式之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不要为薪水而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工作的质量决定生活的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92720" y="5734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Times New Roman"/>
              </a:rPr>
              <a:t>工作给我们每个人成长的机会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78644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工作给你的比你给它付出的更多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能力比金钱更重要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成长的机会比薪水更重要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4000" y="5805360"/>
            <a:ext cx="34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09" dur="2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12" dur="2000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15" dur="2000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有所施定有所获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 Black"/>
              </a:rPr>
              <a:t>工作态度是一个人品行的体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 Black"/>
              </a:rPr>
              <a:t>你的任何努力管理者都会注意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 Black"/>
              </a:rPr>
              <a:t>尽善尽美的工作态度是一个人晋升的真正原因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 Black"/>
              </a:rPr>
              <a:t>抱怨不如努力工作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5" name=""/>
          <p:cNvSpPr/>
          <p:nvPr/>
        </p:nvSpPr>
        <p:spPr>
          <a:xfrm>
            <a:off x="4943520" y="5589720"/>
            <a:ext cx="42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现在的努力是为了将来的回报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不要为一时的失意而懊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眼光只盯着温饱，得到的永远只是温饱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暂时的付出是为了更好的获得：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、管理者交付的任务能锻炼我的意志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、分配给我的任务能发展我的才能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、与同事的合作能培养我的人格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、服从与忍耐能训练我的品性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6656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企业是我们的另一所学校，工作能够丰富我们的思想，增进我们的智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我要为自己的现在和将来而努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接受知识、培养能力、展示才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工作中学到的才干是无形的资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不要因为管理者的无能而放弃自己的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48360" y="5950080"/>
            <a:ext cx="34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鑫安儆卫人事培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5" dur="20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8" dur="20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1" dur="20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4" dur="20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  <a:ea typeface="华文行楷"/>
              </a:rPr>
              <a:t>不要看不起自己的工作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方正姚体"/>
                <a:ea typeface="方正姚体"/>
              </a:rPr>
              <a:t>许多人认为自己的工作低人一等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方正姚体"/>
                <a:ea typeface="方正姚体"/>
              </a:rPr>
              <a:t>所有正当合法的工作都是值得尊敬的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方正姚体"/>
                <a:ea typeface="方正姚体"/>
              </a:rPr>
              <a:t>有用才是伟大的真正尺度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方正姚体"/>
                <a:ea typeface="方正姚体"/>
              </a:rPr>
              <a:t>工作本身没有贵贱之分，对于工作的态度却有高低之别，工作态度是人生态度的表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方正姚体"/>
                <a:ea typeface="方正姚体"/>
              </a:rPr>
              <a:t>天生我才必有用。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7:18:39Z</dcterms:created>
  <dc:creator>pppp</dc:creator>
  <dc:description/>
  <cp:keywords/>
  <dc:language>en-US</dc:language>
  <cp:lastModifiedBy>Sky123.Org</cp:lastModifiedBy>
  <cp:lastPrinted>1899-12-30T00:00:00Z</cp:lastPrinted>
  <dcterms:modified xsi:type="dcterms:W3CDTF">2015-11-02T01:50:58Z</dcterms:modified>
  <cp:revision>34</cp:revision>
  <dc:subject/>
  <dc:title>企业员工的基本素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