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44013-0793-410F-AAF4-0D3FB2D26B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3685C-49BD-4352-842C-3C2E49D7A17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93D823E-41B1-404E-BECA-757698E85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0D67F14-A072-4D1C-93BD-214E59B4F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428760" y="5786280"/>
            <a:ext cx="8286480" cy="29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BB3CC7E-75A6-4A3D-9058-727B354E2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09ADECD-BE2B-4365-ACBF-543105D1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D9D7021-AB84-410C-AC23-6F12C321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0404FE3-FC6B-44C1-8604-8ECCD916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C0986DE-0B55-47CE-8BE4-DA8475FCD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717688B-3B36-4283-942D-0C7D93AC5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11616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94720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28548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11616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594720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CD1B3F3-3864-46DC-A10B-775B913AE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D2489C-C919-4DB2-B69C-6F5752984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8D549-6A74-4438-957D-9041EC4F3FE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4C6E66-939F-4C8E-B1B4-D4CF9F161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CE4C83-7383-41CD-B512-2D70D0800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63111B-E60C-4328-BB13-E4BD3CE93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7D5120-DB9A-4BEB-B527-AB69FB459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28760" y="5786280"/>
            <a:ext cx="8286480" cy="29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87FAB8-E835-40E9-838A-8CAC48566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39A689-75BD-41D4-AE11-9E712F3C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5A5BD4-AE15-4354-A8D2-F845AF30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A05B16-2ACA-4F4C-A936-169A6D2A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7C86F8-841D-49BA-A7FE-B2554EEF8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DE11E9-230D-4114-B0E2-EAE6298F4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1616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720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8548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1616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720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201E4-134C-4518-BBA8-2C3B5059B655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11616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594720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28548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11616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594720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E58970-C14E-4E5C-B946-237C6724A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A1E7AC-09D5-44FA-A30D-6B344BE15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79396B-8500-404F-A227-BBEB3AD6D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78232A-F12F-48A1-8A1F-D7CA35A1B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755BDE-499D-418F-886B-E37CFC13A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0B8BED-EE3C-4251-ADEB-8F98C2D20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28760" y="5786280"/>
            <a:ext cx="8286480" cy="29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EE6658-CB08-4B66-B6FC-B65DB230F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FAE375-A100-4A45-B520-011FD8B7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C195A8-177B-4811-8AE1-2593F7C0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12737F-8690-46BE-B60B-EE4CE5E7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A89494-5BAE-4DA3-8255-70AF88059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16EDE5-0449-4719-B8B7-28765414C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11616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94720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28548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11616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594720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A36249-21E1-40A7-9D0E-87DD5206C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75ED2A1-0372-441E-858E-9FBAAF395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C355A07-44B0-4342-A7E1-D7EEC8D31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26EC3ED-DD18-49DD-A86C-E4EDCEBFD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104134A-0C8D-475C-A0F4-9341AEAC0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DD4EBBA-E066-4DAC-B4F9-71969553F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28760" y="5786280"/>
            <a:ext cx="8286480" cy="29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E018135-D0CC-4E7D-80A3-C32DC2E8D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0118F9D-245E-43C0-AE19-1CF34EF5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6243630-B617-473D-9FE0-8BC01601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34AD474-D3B6-415B-893F-ADFB732F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9C70A1C-D498-4A0F-8843-8E5E29F2E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D2AF09C-B59A-4265-B41E-F9FF092A5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11616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94720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28548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11616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594720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68E2634-05DD-4AD5-9E78-9723A4A34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5307F2-BB5F-4D01-BD6F-4AECF6246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F14D61-F102-4E3F-9AA0-0A2889594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79CD9E-C3D5-4B01-9589-BC671ABAB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761FE1-20A5-427A-B69B-3555C5DC2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D4BDD2-EE8E-450D-ADB3-297BC0769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428760" y="5786280"/>
            <a:ext cx="8286480" cy="29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E468DD-E93B-41CE-B845-0BB8D14D7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C61038-9DF5-44B8-BE6E-C2EAA389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6306FB-D9CA-4732-B1C0-E101D895F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3AF173-511E-432F-A793-07E94BF1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A0BA4E-AE0D-4A3F-A25F-E7BB6D259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37FAC3-38C6-4636-A9E9-D3DE392AC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11616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594720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28548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11616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594720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51D1F7-F5B4-434F-B51A-96071A69B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428760" y="5786280"/>
            <a:ext cx="8286480" cy="29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11616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594720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28548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11616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594720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28760" y="5786280"/>
            <a:ext cx="8286480" cy="29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E92F5-B73D-4C3E-B848-6E7C8E664F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1616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720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28548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1616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720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CC623B-97CC-427C-8357-D9D5F995F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3A4AC0-F3D4-48E3-89ED-C32192F2C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97678E-EDCF-4278-874B-17CB640CD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F83BE6-09F9-4656-80FF-A275BEC44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F39F36-DDDD-4B4D-81C7-40AC2D148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791FA-B682-45D8-B138-E74A46EC8B1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28760" y="5786280"/>
            <a:ext cx="8286480" cy="29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AFA92D-7494-420D-8F75-B94BC9D15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DD0287-589D-4E72-B0B5-07C85BF4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FE674F-BFEE-4C1F-AFF9-19C7410A6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D0ABE2-9FE9-4AA0-BA56-036321AB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FBB3F9-0E1F-48E8-AC20-83AA7CE77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72D032-9E53-48B7-851D-05B733851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11616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4720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28548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11616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4720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3C0639-B336-4CAB-B38C-B8F0033A6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9DF3B6-B2D0-4DFC-A717-F3DE02138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CBE106-8F59-4F08-AEC9-8CB1615C5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8CCA78-CD11-4024-8CD3-F76A18C72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30261-50FD-493F-8D9D-44F5F24E6EB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3903A1-7005-4E52-99AC-7CC655E50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1B2F1F-99E9-4626-BD2A-411BD9185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28760" y="5786280"/>
            <a:ext cx="8286480" cy="29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C44733-F717-43AA-8F15-3B47AEE4F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276642-5A42-4215-BA27-E13B80CB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6E3647-2F89-4E60-AE9C-03076F51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4D0808-C94A-4000-A153-AFD0C300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F444D7-36EA-4032-9CA3-1827F9BC0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6D5031-7E80-4A7C-81D4-2AB0D75AD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11616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94720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28548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11616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94720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546B41-58BE-4728-8251-E7BC6E522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9A7B57-96F6-408E-A378-4BC9C6C92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46530-CBCC-44AE-A84F-7B4EFFA05BB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AAC2A1-ED02-4AD1-927E-3728B13BA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D2C5BD-A701-42A3-8232-83405B7EB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07DB9E-06DB-4CB1-8AA8-C3CE67D95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5A4F5E-8AE5-45DA-8B62-1DA37B15C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28760" y="5786280"/>
            <a:ext cx="8286480" cy="29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27172E-7445-489F-BFD3-C472F892D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03F321-1AD7-4875-A336-4AF215BF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10DC50-6F99-4ED8-A978-546F3B86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A7316A-86CF-48E9-8FA5-544E1651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ACAB78-7BE0-4FEB-A0A8-4EF5C053F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AB58EA-6A33-432A-9709-8FB2EE8E2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28760" y="5786280"/>
            <a:ext cx="8286480" cy="29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CA1C5-ED2C-4A66-986C-E97E2A1487A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11616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94720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28548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11616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594720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55FE16-8CFC-434E-9BA5-307D146D7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A6977A-AAC2-470C-AAA6-3FA85444C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6992BBA-001F-4DA6-A482-8D75614C3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FC553C-F8F7-49FA-ADF1-0EEC48D7E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4BAF28-AF04-4732-8C02-531E3CB0E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3FF4C4-D976-4744-B468-8221FC950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28760" y="5786280"/>
            <a:ext cx="8286480" cy="29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B06FE3-D907-4C27-B8AD-1DFD8CC95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6FDE777-38A8-475C-A0D0-B351961A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80AFBB-B670-404A-AC7F-C426C451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DD05A4-42AC-4E8A-BB76-4774BA4B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61137-4146-4AF8-B50E-E86F8EEECD3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B2237D8-57E5-427E-8BF5-06E0AA3B7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2D7820-1D7F-4E9D-9A93-590F6A34D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11616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94720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28548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11616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594720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DCF090-CB64-4061-826C-7FE8A7C31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BA0391-23FA-4270-9979-03DA22109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B11FD6-6FDD-4F06-86AE-A7AC65D26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A91E7A3-FB86-4B8A-B05B-40D0FFB65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66B2DE-51F4-41FB-BFC7-E219062C6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DBA18E5-01FA-427D-BA93-006E9DDFA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28760" y="5786280"/>
            <a:ext cx="8286480" cy="29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5C8E3B0-4597-4F14-81E3-5935F50F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58A9F4-B33E-48AC-9ADD-40684F66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DC893-C888-4557-8281-B18960F46AD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C247B0B-F3E5-4317-9B3F-A5B3F6E9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B78E97-8A1F-4A23-8979-895C5938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7608C2D-D91B-491E-8A27-6C474E36E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292C1A-2B46-4F42-8C29-195910B46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11616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4720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28548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11616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4720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23E146-3906-4420-BC60-7CF89A412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421CD08-A84B-4C34-9569-DB9F971A3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800BB94-7D76-4FF9-8A30-250B766B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E3DAEFC-4B13-4744-89A5-E45CB5C4B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E859561-7BE6-427D-85AF-AB36B8D02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1AA4C3C-DAE6-4040-B05C-68EA86EF0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E38FB-F769-4414-90C3-777A8D38620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28760" y="5786280"/>
            <a:ext cx="8286480" cy="29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24BD015-3AAE-4C97-B423-47FFB5E51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5022A66-97D9-43E5-AD76-B1EC37DF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EFE693C-0B11-4945-A805-4BDF40F2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05F7F1D-D6A5-49B1-BDC7-06BE527A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285480" y="2670480"/>
            <a:ext cx="8372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C004F4D-87D7-42D2-B19C-E888C5BC3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5960" y="35676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28548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5960" y="2670480"/>
            <a:ext cx="40856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FA207B6-E9F5-486C-9D96-E3D4A8C69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11616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5947200" y="35676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28548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11616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5947200" y="2670480"/>
            <a:ext cx="26956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D8A0C1B-B391-46FC-9635-579430F6E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E155382-273F-4336-A54F-ACFB9098F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3BE74B3-EEA1-481C-9F96-043FC7494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3F932AE-26ED-4F96-98FE-E6334C906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857640" y="6286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A52F2-27A6-46E4-AA9F-D1C98B7904CA}" type="slidenum">
              <a:rPr b="0" lang="zh-CN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0550B-D42F-4910-9855-4DAEA5B904B6}" type="slidenum">
              <a:rPr b="0" lang="zh-CN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F858D-BAD0-4742-9A40-D9243B3AFD61}" type="slidenum">
              <a:rPr b="0" lang="zh-CN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FAF09-B825-42F8-AC8A-25BA736703B5}" type="slidenum">
              <a:rPr b="0" lang="zh-CN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sldNum" idx="3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A3C64-0B76-4365-B939-D8CF8CFE1DC7}" type="slidenum">
              <a:rPr b="0" lang="zh-CN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DAD14-826E-4AD0-9F7E-3F901FB3BB94}" type="slidenum">
              <a:rPr b="0" lang="zh-CN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7"/>
          </p:nvPr>
        </p:nvSpPr>
        <p:spPr>
          <a:xfrm>
            <a:off x="6428880" y="6350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BE247-B9BB-429A-92CD-9AAE900FE792}" type="slidenum">
              <a:rPr b="0" i="1" lang="zh-CN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3AA40-6A37-4230-BF5D-B95AF0BE5925}" type="slidenum">
              <a:rPr b="0" lang="zh-CN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432E3-CE1B-4990-924F-6178406E4809}" type="slidenum">
              <a:rPr b="0" lang="zh-CN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320F1-FB68-4C0F-B711-8A99A463A180}" type="slidenum">
              <a:rPr b="0" lang="zh-CN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E0323-1A17-4565-BD7A-CFBA45C1D94E}" type="slidenum">
              <a:rPr b="0" lang="zh-CN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A71B4-262A-4A23-9519-5D30EC769D35}" type="slidenum">
              <a:rPr b="0" lang="zh-CN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Box 3"/>
          <p:cNvSpPr/>
          <p:nvPr/>
        </p:nvSpPr>
        <p:spPr>
          <a:xfrm>
            <a:off x="285840" y="642960"/>
            <a:ext cx="16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S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9"/>
          <p:cNvSpPr/>
          <p:nvPr/>
        </p:nvSpPr>
        <p:spPr>
          <a:xfrm>
            <a:off x="3714840" y="4929120"/>
            <a:ext cx="450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www.pptok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10"/>
          <p:cNvSpPr/>
          <p:nvPr/>
        </p:nvSpPr>
        <p:spPr>
          <a:xfrm>
            <a:off x="5286240" y="5715000"/>
            <a:ext cx="27687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单击添加署名或公司信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灯片编号占位符 3"/>
          <p:cNvSpPr/>
          <p:nvPr/>
        </p:nvSpPr>
        <p:spPr>
          <a:xfrm>
            <a:off x="6429240" y="6350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AF0AC-5416-4083-A038-2557EE27F431}" type="slidenum">
              <a:rPr b="0" i="1" lang="zh-CN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57120" y="5857920"/>
            <a:ext cx="647064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细黑"/>
              </a:rPr>
              <a:t>模板的使用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72" name="Rectangle 3"/>
          <p:cNvSpPr/>
          <p:nvPr/>
        </p:nvSpPr>
        <p:spPr>
          <a:xfrm>
            <a:off x="357120" y="714240"/>
            <a:ext cx="8207280" cy="40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配色方案修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的添加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下调整。直接选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字体格式的设置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TextBox 3"/>
          <p:cNvSpPr/>
          <p:nvPr/>
        </p:nvSpPr>
        <p:spPr>
          <a:xfrm>
            <a:off x="285840" y="642960"/>
            <a:ext cx="16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S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9"/>
          <p:cNvSpPr/>
          <p:nvPr/>
        </p:nvSpPr>
        <p:spPr>
          <a:xfrm>
            <a:off x="3714840" y="5286240"/>
            <a:ext cx="450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感谢您的关注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8T16:53:06Z</dcterms:created>
  <dc:creator>lxym148</dc:creator>
  <dc:description/>
  <cp:keywords>lxym148</cp:keywords>
  <dc:language>en-US</dc:language>
  <cp:lastModifiedBy>yang</cp:lastModifiedBy>
  <cp:lastPrinted>1899-12-30T00:00:00Z</cp:lastPrinted>
  <dcterms:modified xsi:type="dcterms:W3CDTF">2011-10-12T12:07:06Z</dcterms:modified>
  <cp:revision>11</cp:revision>
  <dc:subject>lxym148</dc:subject>
  <dc:title>RESU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25</vt:lpwstr>
  </property>
</Properties>
</file>