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7.wmf" ContentType="image/x-wmf"/>
  <Override PartName="/ppt/media/image55.jpeg" ContentType="image/jpeg"/>
  <Override PartName="/ppt/media/image54.png" ContentType="image/png"/>
  <Override PartName="/ppt/media/image50.jpeg" ContentType="image/jpeg"/>
  <Override PartName="/ppt/media/image17.gif" ContentType="image/gif"/>
  <Override PartName="/ppt/media/image5.gif" ContentType="image/gif"/>
  <Override PartName="/ppt/media/image59.jpeg" ContentType="image/jpeg"/>
  <Override PartName="/ppt/media/image28.gif" ContentType="image/gif"/>
  <Override PartName="/ppt/media/image53.wmf" ContentType="image/x-wmf"/>
  <Override PartName="/ppt/media/image20.gif" ContentType="image/gif"/>
  <Override PartName="/ppt/media/image1.jpeg" ContentType="image/jpeg"/>
  <Override PartName="/ppt/media/image21.png" ContentType="image/png"/>
  <Override PartName="/ppt/media/image58.png" ContentType="image/png"/>
  <Override PartName="/ppt/media/chimes.wav" ContentType="audio/x-wav"/>
  <Override PartName="/ppt/media/image13.gif" ContentType="image/gif"/>
  <Override PartName="/ppt/media/image16.png" ContentType="image/png"/>
  <Override PartName="/ppt/media/image15.png" ContentType="image/png"/>
  <Override PartName="/ppt/media/image3.png" ContentType="image/png"/>
  <Override PartName="/ppt/media/image23.gif" ContentType="image/gif"/>
  <Override PartName="/ppt/media/image26.png" ContentType="image/png"/>
  <Override PartName="/ppt/media/image2.jpeg" ContentType="image/jpeg"/>
  <Override PartName="/ppt/media/explode.wav" ContentType="audio/x-wav"/>
  <Override PartName="/ppt/media/image31.gif" ContentType="image/gif"/>
  <Override PartName="/ppt/media/image24.png" ContentType="image/png"/>
  <Override PartName="/ppt/media/image10.gif" ContentType="image/gif"/>
  <Override PartName="/ppt/media/image47.gif" ContentType="image/gif"/>
  <Override PartName="/ppt/media/image27.png" ContentType="image/png"/>
  <Override PartName="/ppt/media/image33.jpeg" ContentType="image/jpeg"/>
  <Override PartName="/ppt/media/image22.gif" ContentType="image/gif"/>
  <Override PartName="/ppt/media/image25.png" ContentType="image/png"/>
  <Override PartName="/ppt/media/image6.gif" ContentType="image/gif"/>
  <Override PartName="/ppt/media/image43.wmf" ContentType="image/x-wmf"/>
  <Override PartName="/ppt/media/image18.gif" ContentType="image/gif"/>
  <Override PartName="/ppt/media/image60.png" ContentType="image/png"/>
  <Override PartName="/ppt/media/image14.gif" ContentType="image/gif"/>
  <Override PartName="/ppt/media/image7.gif" ContentType="image/gif"/>
  <Override PartName="/ppt/media/image37.gif" ContentType="image/gif"/>
  <Override PartName="/ppt/media/image38.gif" ContentType="image/gif"/>
  <Override PartName="/ppt/media/image46.wmf" ContentType="image/x-wmf"/>
  <Override PartName="/ppt/media/image9.gif" ContentType="image/gif"/>
  <Override PartName="/ppt/media/image11.png" ContentType="image/png"/>
  <Override PartName="/ppt/media/image29.png" ContentType="image/png"/>
  <Override PartName="/ppt/media/image51.wmf" ContentType="image/x-wmf"/>
  <Override PartName="/ppt/media/image12.png" ContentType="image/png"/>
  <Override PartName="/ppt/media/image52.wmf" ContentType="image/x-wmf"/>
  <Override PartName="/ppt/media/image56.gif" ContentType="image/gif"/>
  <Override PartName="/ppt/media/image30.png" ContentType="image/png"/>
  <Override PartName="/ppt/media/image32.png" ContentType="image/png"/>
  <Override PartName="/ppt/media/image34.jpeg" ContentType="image/jpeg"/>
  <Override PartName="/ppt/media/image36.wmf" ContentType="image/x-wmf"/>
  <Override PartName="/ppt/media/image39.png" ContentType="image/png"/>
  <Override PartName="/ppt/media/image40.jpeg" ContentType="image/jpeg"/>
  <Override PartName="/ppt/media/image4.gif" ContentType="image/gif"/>
  <Override PartName="/ppt/media/image19.png" ContentType="image/png"/>
  <Override PartName="/ppt/media/image41.wmf" ContentType="image/x-wmf"/>
  <Override PartName="/ppt/media/image42.png" ContentType="image/png"/>
  <Override PartName="/ppt/media/image35.gif" ContentType="image/gif"/>
  <Override PartName="/ppt/media/image44.jpeg" ContentType="image/jpeg"/>
  <Override PartName="/ppt/media/image49.jpeg" ContentType="image/jpeg"/>
  <Override PartName="/ppt/media/image8.gif" ContentType="image/gif"/>
  <Override PartName="/ppt/media/image45.wmf" ContentType="image/x-wmf"/>
  <Override PartName="/ppt/media/image4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1BCA-0CE0-489F-9356-85672A4E0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6EFE-FB75-4D3A-8618-F9330DA7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2202-55CE-43D9-A60E-7A811E036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0EF1-77E8-494F-9B62-AA4534603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8478-1132-4CF5-87AF-994BCDB5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E71D-C516-4341-B33D-0A9B827A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B15D-13CE-47B3-8656-03FF9E50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E063-C224-46D3-8772-919D7A3D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BD81-14D6-4ADB-820D-B16DE76A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3014-5E4D-4D84-815D-570591E3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6CE7-4312-4EAD-98E4-CA92A3DD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E567-4EB8-4999-9462-C6122CD5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DA38-AED0-4B08-81D0-6267657A04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24.png"/><Relationship Id="rId5" Type="http://schemas.openxmlformats.org/officeDocument/2006/relationships/image" Target="../media/image3.png"/><Relationship Id="rId6" Type="http://schemas.openxmlformats.org/officeDocument/2006/relationships/image" Target="../media/image25.png"/><Relationship Id="rId7" Type="http://schemas.openxmlformats.org/officeDocument/2006/relationships/image" Target="../media/image4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image" Target="../media/image28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image" Target="../media/image31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33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35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36.wmf"/><Relationship Id="rId4" Type="http://schemas.openxmlformats.org/officeDocument/2006/relationships/slide" Target="slide5.xml"/><Relationship Id="rId5" Type="http://schemas.openxmlformats.org/officeDocument/2006/relationships/image" Target="../media/image37.gif"/><Relationship Id="rId6" Type="http://schemas.openxmlformats.org/officeDocument/2006/relationships/image" Target="../media/image38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0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" Target="slide5.xml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2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3.wmf"/><Relationship Id="rId5" Type="http://schemas.openxmlformats.org/officeDocument/2006/relationships/image" Target="../media/image44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5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46.wmf"/><Relationship Id="rId7" Type="http://schemas.openxmlformats.org/officeDocument/2006/relationships/image" Target="../media/image47.gif"/><Relationship Id="rId8" Type="http://schemas.openxmlformats.org/officeDocument/2006/relationships/slide" Target="slide5.xml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28.gif"/><Relationship Id="rId5" Type="http://schemas.openxmlformats.org/officeDocument/2006/relationships/image" Target="../media/image48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0.jpeg"/><Relationship Id="rId6" Type="http://schemas.openxmlformats.org/officeDocument/2006/relationships/slide" Target="slide5.xml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wmf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2.wmf"/><Relationship Id="rId6" Type="http://schemas.openxmlformats.org/officeDocument/2006/relationships/image" Target="../media/image53.wmf"/><Relationship Id="rId7" Type="http://schemas.openxmlformats.org/officeDocument/2006/relationships/image" Target="../media/image54.png"/><Relationship Id="rId8" Type="http://schemas.openxmlformats.org/officeDocument/2006/relationships/image" Target="../media/image54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6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31.gif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image" Target="../media/image58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audio" Target="../media/chimes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image" Target="../media/image60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" Target="slide6.xml"/><Relationship Id="rId5" Type="http://schemas.openxmlformats.org/officeDocument/2006/relationships/slide" Target="slide16.xml"/><Relationship Id="rId6" Type="http://schemas.openxmlformats.org/officeDocument/2006/relationships/slide" Target="slide20.xml"/><Relationship Id="rId7" Type="http://schemas.openxmlformats.org/officeDocument/2006/relationships/slide" Target="slide23.xml"/><Relationship Id="rId8" Type="http://schemas.openxmlformats.org/officeDocument/2006/relationships/slide" Target="slide25.xml"/><Relationship Id="rId9" Type="http://schemas.openxmlformats.org/officeDocument/2006/relationships/image" Target="../media/image10.gif"/><Relationship Id="rId10" Type="http://schemas.openxmlformats.org/officeDocument/2006/relationships/image" Target="../media/image11.png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3.png"/><Relationship Id="rId10" Type="http://schemas.openxmlformats.org/officeDocument/2006/relationships/image" Target="../media/image4.gif"/><Relationship Id="rId11" Type="http://schemas.openxmlformats.org/officeDocument/2006/relationships/image" Target="../media/image13.gif"/><Relationship Id="rId12" Type="http://schemas.openxmlformats.org/officeDocument/2006/relationships/image" Target="../media/image17.gif"/><Relationship Id="rId13" Type="http://schemas.openxmlformats.org/officeDocument/2006/relationships/image" Target="../media/image18.gif"/><Relationship Id="rId14" Type="http://schemas.openxmlformats.org/officeDocument/2006/relationships/image" Target="../media/image13.gif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3.png"/><Relationship Id="rId12" Type="http://schemas.openxmlformats.org/officeDocument/2006/relationships/image" Target="../media/image4.gif"/><Relationship Id="rId13" Type="http://schemas.openxmlformats.org/officeDocument/2006/relationships/image" Target="../media/image20.gif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22.gif"/><Relationship Id="rId6" Type="http://schemas.openxmlformats.org/officeDocument/2006/relationships/image" Target="../media/image23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2997360"/>
            <a:ext cx="5051520" cy="703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习惯是一个深刻的课题，他将伴随每一个人的一生。你准备如何对待它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4000" y="836640"/>
            <a:ext cx="8305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ebfa"/>
                    </a:gs>
                    <a:gs pos="100000">
                      <a:srgbClr val="5e9eff"/>
                    </a:gs>
                  </a:gsLst>
                  <a:lin ang="10800000"/>
                </a:gradFill>
                <a:latin typeface="宋体"/>
              </a:rPr>
              <a:t>习惯不是造就你就是毁掉你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ebfa"/>
                  </a:gs>
                  <a:gs pos="100000">
                    <a:srgbClr val="5e9eff"/>
                  </a:gs>
                </a:gsLst>
                <a:lin ang="10800000"/>
              </a:gradFill>
              <a:latin typeface="宋体"/>
              <a:ea typeface="宋体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867280" y="2421000"/>
            <a:ext cx="2808360" cy="3819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822240"/>
            <a:ext cx="914400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越来越多的青蛙累坏了，退出了比赛。但，有一只却还在越爬越高，一点没有放弃的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华文行楷"/>
                <a:ea typeface="华文行楷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9900"/>
                </a:solidFill>
                <a:latin typeface="华文行楷"/>
                <a:ea typeface="华文行楷"/>
              </a:rPr>
              <a:t>最后，其他所有的青蛙都退出了比赛，除了一只，它费了很大的劲，终于成为唯一一只到达塔顶的胜利者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很自然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  </a:t>
            </a:r>
            <a:r>
              <a:rPr b="0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其他所有的青蛙都想知道它是怎么成功的 </a:t>
            </a:r>
            <a:br>
              <a:rPr sz="3200"/>
            </a:br>
            <a:br>
              <a:rPr sz="1800"/>
            </a:br>
            <a:r>
              <a:rPr b="0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有一只青蛙跑上前去问那只胜利者它哪来那么大的力气跑完全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581280" y="1676520"/>
            <a:ext cx="2233440" cy="898560"/>
            <a:chOff x="3581280" y="1676520"/>
            <a:chExt cx="2233440" cy="898560"/>
          </a:xfrm>
        </p:grpSpPr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3581280" y="1676520"/>
              <a:ext cx="108108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3"/>
            <a:stretch/>
          </p:blipFill>
          <p:spPr>
            <a:xfrm>
              <a:off x="4733640" y="1676520"/>
              <a:ext cx="1081080" cy="898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3581280" y="3809880"/>
            <a:ext cx="1152720" cy="1201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114800" cy="765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7162920" y="3886200"/>
            <a:ext cx="1625400" cy="1300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781680" y="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与成功有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7"/>
          <a:stretch/>
        </p:blipFill>
        <p:spPr>
          <a:xfrm flipH="1" rot="10800000">
            <a:off x="4876920" y="532800"/>
            <a:ext cx="3978000" cy="75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8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28600" y="954000"/>
            <a:ext cx="86104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它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3300"/>
                </a:solidFill>
                <a:uFillTx/>
                <a:latin typeface="华文行楷"/>
                <a:ea typeface="华文行楷"/>
              </a:rPr>
              <a:t>这只青蛙是个</a:t>
            </a:r>
            <a:r>
              <a:rPr b="0" lang="zh-CN" sz="4100" spc="-1" strike="noStrike" u="sng">
                <a:solidFill>
                  <a:srgbClr val="ff3300"/>
                </a:solidFill>
                <a:uFillTx/>
                <a:latin typeface="华文行楷"/>
                <a:ea typeface="华文行楷"/>
              </a:rPr>
              <a:t>聋子</a:t>
            </a:r>
            <a:r>
              <a:rPr b="0" lang="zh-CN" sz="2800" spc="-1" strike="noStrike" u="sng">
                <a:solidFill>
                  <a:srgbClr val="ff3300"/>
                </a:solidFill>
                <a:uFillTx/>
                <a:latin typeface="华文行楷"/>
                <a:ea typeface="华文行楷"/>
              </a:rPr>
              <a:t>！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这个故事的寓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永远不要听信那些习惯消极悲观看问题的人</a:t>
            </a:r>
            <a:br>
              <a:rPr sz="2800"/>
            </a:br>
            <a:br>
              <a:rPr sz="2800"/>
            </a:br>
            <a:r>
              <a:rPr b="0" lang="zh-CN" sz="3600" spc="-1" strike="noStrike">
                <a:solidFill>
                  <a:srgbClr val="ff3300"/>
                </a:solidFill>
                <a:latin typeface="华文行楷"/>
                <a:ea typeface="华文行楷"/>
              </a:rPr>
              <a:t>因为他们只会粉碎你内心最美好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3300"/>
                </a:solidFill>
                <a:uFillTx/>
                <a:latin typeface="华文行楷"/>
                <a:ea typeface="华文行楷"/>
              </a:rPr>
              <a:t>梦想与希望</a:t>
            </a:r>
            <a:r>
              <a:rPr b="0" lang="zh-CN" sz="3600" spc="-1" strike="noStrike">
                <a:solidFill>
                  <a:srgbClr val="ff3300"/>
                </a:solidFill>
                <a:latin typeface="华文行楷"/>
                <a:ea typeface="华文行楷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743200" y="2133720"/>
            <a:ext cx="1228680" cy="10857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438280" y="3962520"/>
            <a:ext cx="865440" cy="865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114800" cy="765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781680" y="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与成功有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 flipH="1" rot="10800000">
            <a:off x="4876920" y="532800"/>
            <a:ext cx="3978000" cy="759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5715000" y="2209680"/>
            <a:ext cx="2530440" cy="2210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7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56944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总是记住你听到的充满力量的话语，因为所有你听到的或读到的话语都会影响你的行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所以，总是要保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 u="sng">
                <a:solidFill>
                  <a:srgbClr val="ff3300"/>
                </a:solidFill>
                <a:uFillTx/>
                <a:latin typeface="华文行楷"/>
                <a:ea typeface="华文行楷"/>
              </a:rPr>
              <a:t>积极、乐观！</a:t>
            </a:r>
            <a:r>
              <a:rPr b="0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114800" y="274320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3886200" y="5029200"/>
            <a:ext cx="1400040" cy="1440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114800" cy="765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781680" y="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与成功有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 flipH="1" rot="10800000">
            <a:off x="4876920" y="532800"/>
            <a:ext cx="3978000" cy="759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762120" y="3581280"/>
            <a:ext cx="1463400" cy="1463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7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28600" y="80928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华文行楷"/>
                <a:ea typeface="华文行楷"/>
              </a:rPr>
              <a:t>而且，最重要的是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行楷"/>
                <a:ea typeface="华文行楷"/>
              </a:rPr>
              <a:t>   </a:t>
            </a:r>
            <a:r>
              <a:rPr b="0" lang="zh-CN" sz="3600" spc="-1" strike="noStrike">
                <a:solidFill>
                  <a:srgbClr val="3333cc"/>
                </a:solidFill>
                <a:latin typeface="华文行楷"/>
                <a:ea typeface="华文行楷"/>
              </a:rPr>
              <a:t>当有人告诉你你的梦想不可能成真时，你要变成</a:t>
            </a:r>
            <a:r>
              <a:rPr b="0" lang="zh-CN" sz="4400" spc="-1" strike="noStrike">
                <a:solidFill>
                  <a:srgbClr val="ff3300"/>
                </a:solidFill>
                <a:latin typeface="华文行楷"/>
                <a:ea typeface="华文行楷"/>
              </a:rPr>
              <a:t>“聋子”</a:t>
            </a:r>
            <a:r>
              <a:rPr b="0" lang="zh-CN" sz="3600" spc="-1" strike="noStrike">
                <a:solidFill>
                  <a:srgbClr val="3333cc"/>
                </a:solidFill>
                <a:latin typeface="华文行楷"/>
                <a:ea typeface="华文行楷"/>
              </a:rPr>
              <a:t>，对此充耳不闻！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行楷"/>
                <a:ea typeface="华文行楷"/>
              </a:rPr>
              <a:t>要总是想着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900" spc="-1" strike="noStrike" u="sng">
                <a:solidFill>
                  <a:srgbClr val="ff3300"/>
                </a:solidFill>
                <a:uFillTx/>
                <a:latin typeface="华文行楷"/>
                <a:ea typeface="华文行楷"/>
              </a:rPr>
              <a:t>我一定能做到！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581280" y="1371600"/>
            <a:ext cx="1729080" cy="9842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14800" cy="765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781680" y="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与成功有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 flipH="1" rot="10800000">
            <a:off x="4876920" y="532800"/>
            <a:ext cx="3978000" cy="759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1523880" y="5638680"/>
            <a:ext cx="5791320" cy="1067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6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733920" y="838080"/>
            <a:ext cx="5410080" cy="51055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14800" cy="765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781680" y="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与成功有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 flipH="1" rot="10800000">
            <a:off x="4876920" y="532800"/>
            <a:ext cx="3978000" cy="759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28600" y="1676520"/>
            <a:ext cx="2971800" cy="3733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什么使生活变得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100%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完美？</a:t>
            </a:r>
            <a:br>
              <a:rPr sz="44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1143000" y="5715000"/>
            <a:ext cx="7086600" cy="952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6" name="chimes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0" y="0"/>
          <a:ext cx="9144000" cy="698508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9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主动积极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我们不能改变生命的长度， 但我们可以选择生命的宽度。</a:t>
            </a: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我们不能左右天气，但我们可以改变心情。</a:t>
            </a: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我们不能改变容貌，但我们可以展现笑容。</a:t>
            </a: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我们不能控制他人，但我们可以掌握自己。</a:t>
            </a: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我们不能预知明天，但我们可以利用今天。</a:t>
            </a: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我们不能样样胜利，但我们可以事事尽力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rId4" action="ppaction://hlinksldjump"/>
          </p:cNvPr>
          <p:cNvSpPr/>
          <p:nvPr/>
        </p:nvSpPr>
        <p:spPr>
          <a:xfrm>
            <a:off x="8610480" y="6400800"/>
            <a:ext cx="304920" cy="228600"/>
          </a:xfrm>
          <a:custGeom>
            <a:avLst/>
            <a:gdLst>
              <a:gd name="textAreaLeft" fmla="*/ 0 w 304920"/>
              <a:gd name="textAreaRight" fmla="*/ 305280 w 3049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8800" y="0"/>
                </a:lnTo>
                <a:lnTo>
                  <a:pt x="0" y="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8800" y="21600"/>
                </a:lnTo>
                <a:lnTo>
                  <a:pt x="28800" y="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8800" y="216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8800" h="21600">
                <a:moveTo>
                  <a:pt x="6350" y="10800"/>
                </a:moveTo>
                <a:lnTo>
                  <a:pt x="22450" y="2750"/>
                </a:lnTo>
                <a:lnTo>
                  <a:pt x="22450" y="1885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609480" y="4114800"/>
            <a:ext cx="571680" cy="221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6172200" y="304920"/>
            <a:ext cx="2514600" cy="1760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7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7162920" cy="40384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57200" y="4387680"/>
            <a:ext cx="807732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7200" spc="-1" strike="noStrike">
                <a:solidFill>
                  <a:srgbClr val="ff0000"/>
                </a:solidFill>
                <a:latin typeface="黑体"/>
                <a:ea typeface="黑体"/>
              </a:rPr>
              <a:t>时间是最贵的</a:t>
            </a:r>
            <a:br>
              <a:rPr sz="7200"/>
            </a:br>
            <a:r>
              <a:rPr b="1" lang="zh-CN" sz="7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7200" spc="-1" strike="noStrike">
                <a:solidFill>
                  <a:srgbClr val="ff0000"/>
                </a:solidFill>
                <a:latin typeface="Monotype Corsiva"/>
                <a:ea typeface="黑体"/>
              </a:rPr>
              <a:t>TIME IS MONE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14800" cy="765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781680" y="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与成功有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 flipH="1" rot="10800000">
            <a:off x="4876920" y="532800"/>
            <a:ext cx="3978000" cy="75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5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1295280"/>
            <a:ext cx="2089080" cy="642600"/>
          </a:xfrm>
          <a:prstGeom prst="rect">
            <a:avLst/>
          </a:prstGeom>
          <a:solidFill>
            <a:srgbClr val="2904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心灵体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00400" y="2133720"/>
            <a:ext cx="4608360" cy="52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我的一天是怎么度过的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057400" y="2819520"/>
            <a:ext cx="6913440" cy="3816360"/>
            <a:chOff x="2057400" y="2819520"/>
            <a:chExt cx="6913440" cy="3816360"/>
          </a:xfrm>
        </p:grpSpPr>
        <p:sp>
          <p:nvSpPr>
            <p:cNvPr id="203" name=""/>
            <p:cNvSpPr/>
            <p:nvPr/>
          </p:nvSpPr>
          <p:spPr>
            <a:xfrm>
              <a:off x="2057400" y="2819520"/>
              <a:ext cx="684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057400" y="2819520"/>
              <a:ext cx="0" cy="381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057400" y="6635880"/>
              <a:ext cx="6913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897760" y="2819520"/>
              <a:ext cx="73080" cy="381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057400" y="3324240"/>
              <a:ext cx="684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57400" y="3755880"/>
              <a:ext cx="684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57400" y="4187880"/>
              <a:ext cx="684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57400" y="4691160"/>
              <a:ext cx="684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057400" y="5195880"/>
              <a:ext cx="684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57400" y="5699160"/>
              <a:ext cx="684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057400" y="6203880"/>
              <a:ext cx="684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10120" y="2819520"/>
              <a:ext cx="0" cy="381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057400" y="2819520"/>
            <a:ext cx="6821640" cy="3844080"/>
            <a:chOff x="2057400" y="2819520"/>
            <a:chExt cx="6821640" cy="3844080"/>
          </a:xfrm>
        </p:grpSpPr>
        <p:sp>
          <p:nvSpPr>
            <p:cNvPr id="216" name=""/>
            <p:cNvSpPr/>
            <p:nvPr/>
          </p:nvSpPr>
          <p:spPr>
            <a:xfrm>
              <a:off x="3622680" y="3272040"/>
              <a:ext cx="14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上课时间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22680" y="3681360"/>
              <a:ext cx="17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自习时间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262320" y="4208400"/>
              <a:ext cx="321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利用了的课余时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057400" y="4719960"/>
              <a:ext cx="495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平均</a:t>
              </a: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每节课多少分钟后才能集中精神听课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07040" y="5222880"/>
              <a:ext cx="240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上课时发呆时间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75040" y="5727600"/>
              <a:ext cx="362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自习课上闲聊、发呆时间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344680" y="6203880"/>
              <a:ext cx="44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自习课上找、借东西所花时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407040" y="2819520"/>
              <a:ext cx="23763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时间类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223400" y="289080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所需时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209680" y="1371600"/>
            <a:ext cx="863640" cy="504720"/>
          </a:xfrm>
          <a:prstGeom prst="rightArrow">
            <a:avLst>
              <a:gd name="adj1" fmla="val 50000"/>
              <a:gd name="adj2" fmla="val 42778"/>
            </a:avLst>
          </a:prstGeom>
          <a:solidFill>
            <a:srgbClr val="e5ee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3095640" y="1295280"/>
            <a:ext cx="6048360" cy="581400"/>
          </a:xfrm>
          <a:prstGeom prst="rect">
            <a:avLst/>
          </a:prstGeom>
          <a:solidFill>
            <a:srgbClr val="2904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华文新魏"/>
              </a:rPr>
              <a:t>看自己一天时间的利用率高不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14800" cy="765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781680" y="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与成功有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 flipH="1" rot="10800000">
            <a:off x="4876920" y="532800"/>
            <a:ext cx="3978000" cy="75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4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28600" y="2895480"/>
            <a:ext cx="8713800" cy="5814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华文新魏"/>
                <a:ea typeface="华文新魏"/>
              </a:rPr>
              <a:t>一天时间的利用率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学习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工作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间／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990720"/>
            <a:ext cx="8136000" cy="1191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学时间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上课时间＋自习时间＋真正利用的课余时间－发呆时间－闲聊时间－借东西时间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91520" y="5486400"/>
            <a:ext cx="37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ahoma"/>
              </a:rPr>
              <a:t>你的时间利用率高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ahoma"/>
              </a:rPr>
              <a:t>主要是什么习惯产生的影响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14800" cy="765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781680" y="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与成功有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 flipH="1" rot="10800000">
            <a:off x="4876920" y="532800"/>
            <a:ext cx="3978000" cy="75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0" y="4495680"/>
            <a:ext cx="2057400" cy="23623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124080" y="3505320"/>
            <a:ext cx="3810240" cy="1600200"/>
          </a:xfrm>
          <a:prstGeom prst="cloudCallout">
            <a:avLst>
              <a:gd name="adj1" fmla="val -68875"/>
              <a:gd name="adj2" fmla="val 62402"/>
            </a:avLst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康体简体"/>
              </a:rPr>
              <a:t>珍惜时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康体简体"/>
              </a:rPr>
              <a:t>拒绝懒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5" name="chimes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5181480"/>
            <a:ext cx="1976400" cy="13716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14800" cy="765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781680" y="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与成功有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 flipH="1" rot="10800000">
            <a:off x="4876920" y="532800"/>
            <a:ext cx="3978000" cy="759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2286000" y="5181480"/>
            <a:ext cx="63244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26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一日之计在于昨夜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8120" y="914400"/>
            <a:ext cx="3200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00ff"/>
                  </a:solidFill>
                  <a:miter/>
                </a:ln>
                <a:noFill/>
                <a:latin typeface="华文行楷"/>
              </a:rPr>
              <a:t>我的“五个一”</a:t>
            </a:r>
            <a:endParaRPr b="0" lang="en-US" sz="2400" spc="1" strike="noStrike">
              <a:ln w="19080">
                <a:solidFill>
                  <a:srgbClr val="ff00ff"/>
                </a:solidFill>
                <a:miter/>
              </a:ln>
              <a:noFill/>
              <a:latin typeface="华文行楷"/>
              <a:ea typeface="华文行楷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2057400"/>
            <a:ext cx="6858000" cy="2628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语文   数学   英语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物理   化学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rId5" action="ppaction://hlinksldjump"/>
          </p:cNvPr>
          <p:cNvSpPr/>
          <p:nvPr/>
        </p:nvSpPr>
        <p:spPr>
          <a:xfrm>
            <a:off x="8534520" y="65530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6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14800" cy="76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762120" y="2057400"/>
            <a:ext cx="7619760" cy="1609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0562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latin typeface="方正魏碑简体"/>
              </a:rPr>
              <a:t>与成功有约</a:t>
            </a:r>
            <a:endParaRPr b="0" lang="en-US" sz="4400" spc="1" strike="noStrike">
              <a:ln w="9360">
                <a:solidFill>
                  <a:srgbClr val="ffff00"/>
                </a:solidFill>
                <a:miter/>
              </a:ln>
              <a:solidFill>
                <a:srgbClr val="ff00ff"/>
              </a:solidFill>
              <a:latin typeface="方正魏碑简体"/>
              <a:ea typeface="方正魏碑简体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373392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——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培养良好的学习习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791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457200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（主题班会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3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14800" cy="7650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6781680" y="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与成功有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 flipH="1" rot="10800000">
            <a:off x="4876920" y="532800"/>
            <a:ext cx="3978000" cy="759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 rot="5400000">
            <a:off x="-2133720" y="3504960"/>
            <a:ext cx="533376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华文行楷"/>
              </a:rPr>
              <a:t>只为成功找方法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50" name=""/>
          <p:cNvSpPr txBox="1"/>
          <p:nvPr/>
        </p:nvSpPr>
        <p:spPr>
          <a:xfrm rot="5400000">
            <a:off x="5828760" y="3466800"/>
            <a:ext cx="54100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华文行楷"/>
              </a:rPr>
              <a:t>不为失败找借口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51" name=""/>
          <p:cNvSpPr/>
          <p:nvPr/>
        </p:nvSpPr>
        <p:spPr>
          <a:xfrm>
            <a:off x="990720" y="8380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62320" y="838080"/>
            <a:ext cx="3809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培养自己自主学习的意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880" y="1676520"/>
            <a:ext cx="911880" cy="1600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个含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52480" y="1752480"/>
            <a:ext cx="2748240" cy="157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觉性（我要学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独立性（我能学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控性（我须学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11680" y="1523880"/>
            <a:ext cx="546120" cy="19814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四个自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562720" y="1447920"/>
            <a:ext cx="2209680" cy="21283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觉听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觉配合教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觉质疑问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觉查漏补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069920" y="4343400"/>
            <a:ext cx="546120" cy="2286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四个独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981080" y="4419720"/>
            <a:ext cx="2057400" cy="2128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独立阅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独立完成作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独立思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独立钻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51200" y="4343400"/>
            <a:ext cx="546120" cy="2286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四个自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562720" y="4343400"/>
            <a:ext cx="2133360" cy="2128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控学习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控学习状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控学习过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控学习阶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23880" y="167652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4120" y="1600200"/>
            <a:ext cx="152280" cy="1752480"/>
          </a:xfrm>
          <a:custGeom>
            <a:avLst/>
            <a:gdLst>
              <a:gd name="textAreaLeft" fmla="*/ 97200 w 152280"/>
              <a:gd name="textAreaRight" fmla="*/ 15264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4120" y="4495680"/>
            <a:ext cx="152280" cy="1752840"/>
          </a:xfrm>
          <a:custGeom>
            <a:avLst/>
            <a:gdLst>
              <a:gd name="textAreaLeft" fmla="*/ 97200 w 152280"/>
              <a:gd name="textAreaRight" fmla="*/ 152640 w 15228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76520" y="4648320"/>
            <a:ext cx="152280" cy="1752480"/>
          </a:xfrm>
          <a:custGeom>
            <a:avLst/>
            <a:gdLst>
              <a:gd name="textAreaLeft" fmla="*/ 97200 w 152280"/>
              <a:gd name="textAreaRight" fmla="*/ 15264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1066680" y="3581280"/>
            <a:ext cx="7010640" cy="525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5" name="chimes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533520" y="1905120"/>
            <a:ext cx="8135640" cy="40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  <a:ea typeface="幼圆"/>
              </a:rPr>
              <a:t>不良学习习惯纠正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omic Sans MS"/>
                <a:ea typeface="幼圆"/>
              </a:rPr>
              <a:t>我要改掉的不良习惯有：————————————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omic Sans MS"/>
                <a:ea typeface="幼圆"/>
              </a:rPr>
              <a:t>我打算这样改：————————————————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omic Sans MS"/>
                <a:ea typeface="幼圆"/>
              </a:rPr>
              <a:t>在改掉不良习惯的过程中，我可能遇到的困难有：————————————————————————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omic Sans MS"/>
                <a:ea typeface="幼圆"/>
              </a:rPr>
              <a:t>我将这样克服困难：———————————————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omic Sans MS"/>
                <a:ea typeface="幼圆"/>
              </a:rPr>
              <a:t>我邀请——————做我的监督人，提醒我和不良习惯绝交。一个星期后，我的表现是：——————————————————————————————————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1752480"/>
            <a:ext cx="7993080" cy="46087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14800" cy="765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781680" y="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与成功有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 flipH="1" rot="10800000">
            <a:off x="4876920" y="532800"/>
            <a:ext cx="3978000" cy="759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557880" y="9907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2b2b2"/>
                </a:solidFill>
                <a:latin typeface="Comic Sans MS"/>
                <a:ea typeface="华文彩云"/>
              </a:rPr>
              <a:t>实践与评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152280" y="762120"/>
            <a:ext cx="1024200" cy="20858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5"/>
          <a:stretch/>
        </p:blipFill>
        <p:spPr>
          <a:xfrm>
            <a:off x="7010280" y="609480"/>
            <a:ext cx="1828800" cy="1981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6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514600" y="2133360"/>
            <a:ext cx="3581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监督人评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能如实剖析自己，能根据自己的实际情况选定需要改掉的不良习惯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措施切实可行，不良习惯有明显改善。（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能根据自己的实际情况选定需要改掉的不良习惯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措施有一定可行性，不良习惯有一定改善。（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能确定自己要改掉的不良习惯，提出改正措施，但措施执行情况一般，不良习惯基本没有改善。（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表扬或建议：———————————————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监督人签名：——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年  月   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1981080"/>
            <a:ext cx="7993080" cy="4608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57880" y="9907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2b2b2"/>
                </a:solidFill>
                <a:latin typeface="Comic Sans MS"/>
                <a:ea typeface="华文彩云"/>
              </a:rPr>
              <a:t>实践与评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14800" cy="765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6781680" y="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与成功有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 flipH="1" rot="10800000">
            <a:off x="4876920" y="532800"/>
            <a:ext cx="3978000" cy="759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2700360" y="5437080"/>
            <a:ext cx="2394000" cy="142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2" name=""/>
          <p:cNvGraphicFramePr/>
          <p:nvPr/>
        </p:nvGraphicFramePr>
        <p:xfrm>
          <a:off x="5592600" y="685800"/>
          <a:ext cx="3551400" cy="2171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92600" y="685800"/>
                    <a:ext cx="355140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4" name="" descr=""/>
          <p:cNvPicPr/>
          <p:nvPr/>
        </p:nvPicPr>
        <p:blipFill>
          <a:blip r:embed="rId7"/>
          <a:stretch/>
        </p:blipFill>
        <p:spPr>
          <a:xfrm>
            <a:off x="380880" y="990720"/>
            <a:ext cx="1981440" cy="1523880"/>
          </a:xfrm>
          <a:prstGeom prst="rect">
            <a:avLst/>
          </a:prstGeom>
          <a:ln w="0">
            <a:noFill/>
          </a:ln>
        </p:spPr>
      </p:pic>
      <p:sp>
        <p:nvSpPr>
          <p:cNvPr id="285" name="">
            <a:hlinkClick r:id="rId8" action="ppaction://hlinksldjump"/>
          </p:cNvPr>
          <p:cNvSpPr/>
          <p:nvPr/>
        </p:nvSpPr>
        <p:spPr>
          <a:xfrm>
            <a:off x="8839080" y="66294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9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7760" y="685440"/>
            <a:ext cx="2819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简单道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2280" y="1447920"/>
            <a:ext cx="7467840" cy="4495680"/>
          </a:xfrm>
          <a:prstGeom prst="rect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从前，有两个饥饿的人得到了一位长者的恩赐：一根鱼杆和一篓鲜活硕大的鱼。经过谈判，其中，一个人得到了一篓鱼，另一个得到了一根鱼杆。得到鱼的人原地就用干柴搭起篝火煮起了鱼，他狼吞虎咽，还没有品出鲜鱼的肉香，转瞬间，连鱼带汤就被他吃了个精光，不久，他便饿死在空空的鱼篓旁。另一个人则提着鱼杆继续忍饥挨饿，一步步艰难地向海边走去，可当他已经看到不远处那片蔚蓝色的海洋时，他浑身的最后一点力气也使完了，他也只能眼巴巴地带着无尽的遗憾撒手人间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又有两个饥饿的人，他们同样得到了长者恩赐的一根鱼杆和一篓鱼。只是经过谈判，他们并没有各奔东西，而是商定共同去找寻大海，他俩每次只煮一条鱼，他们经过遥远的跋涉，来到了海边，从此，两人开始了捕鱼为生的日子，几年后，他们盖起了房子，有了各自的家庭、子女，有了自己建造的渔船，过上了幸福安康的生活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6172200"/>
            <a:ext cx="62485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Think win-w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14800" cy="765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6781680" y="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与成功有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 flipH="1" rot="10800000">
            <a:off x="4876920" y="532800"/>
            <a:ext cx="3978000" cy="759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7680240" y="2514600"/>
            <a:ext cx="1463760" cy="22860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5791320" y="5638680"/>
            <a:ext cx="1279440" cy="1219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6" name="chimes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4707000" cy="59436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14800" cy="765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6781680" y="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与成功有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 flipH="1" rot="10800000">
            <a:off x="4876920" y="532800"/>
            <a:ext cx="3978000" cy="759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 rot="5400000">
            <a:off x="5409720" y="2590560"/>
            <a:ext cx="5029200" cy="1523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608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方正瘦金书繁体"/>
              </a:rPr>
              <a:t>合作增效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方正瘦金书繁体"/>
              <a:ea typeface="方正瘦金书繁体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5"/>
          <a:stretch/>
        </p:blipFill>
        <p:spPr>
          <a:xfrm>
            <a:off x="4876920" y="990720"/>
            <a:ext cx="2090520" cy="5181480"/>
          </a:xfrm>
          <a:prstGeom prst="rect">
            <a:avLst/>
          </a:prstGeom>
          <a:ln w="0">
            <a:noFill/>
          </a:ln>
        </p:spPr>
      </p:pic>
      <p:sp>
        <p:nvSpPr>
          <p:cNvPr id="300" name="">
            <a:hlinkClick r:id="rId6" action="ppaction://hlinksldjump"/>
          </p:cNvPr>
          <p:cNvSpPr/>
          <p:nvPr/>
        </p:nvSpPr>
        <p:spPr>
          <a:xfrm>
            <a:off x="876312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7" name="chimes.wav"/>
      </p:stSnd>
    </p:sndAc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6548400" y="838080"/>
            <a:ext cx="2595600" cy="25304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14800" cy="7650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6781680" y="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与成功有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 flipH="1" rot="10800000">
            <a:off x="4876920" y="532800"/>
            <a:ext cx="3978000" cy="759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5"/>
          <a:stretch/>
        </p:blipFill>
        <p:spPr>
          <a:xfrm>
            <a:off x="6858000" y="3505320"/>
            <a:ext cx="2035080" cy="23619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6"/>
          <a:stretch/>
        </p:blipFill>
        <p:spPr>
          <a:xfrm>
            <a:off x="0" y="1981080"/>
            <a:ext cx="1447920" cy="37562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2133720" y="2743200"/>
            <a:ext cx="3733560" cy="2937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意愿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行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成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0%X100%=10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0%X50%=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0%X100%=5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0%X50%=5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981080" y="1143000"/>
            <a:ext cx="40388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ACTION</a:t>
            </a:r>
            <a:endParaRPr b="0" lang="en-US" sz="5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28600" y="6019920"/>
            <a:ext cx="8534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坚持五个跑   做到五个一</a:t>
            </a:r>
            <a:endParaRPr b="0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>
    <p:split dir="out" orient="vert"/>
    <p:sndAc>
      <p:stSnd>
        <p:snd r:embed="rId9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4191120" cy="59436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14800" cy="7650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781680" y="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与成功有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 flipH="1" rot="10800000">
            <a:off x="4876920" y="532800"/>
            <a:ext cx="3978000" cy="759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 rot="5400000">
            <a:off x="4533120" y="2781000"/>
            <a:ext cx="4876920" cy="2971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华文行楷"/>
              </a:rPr>
              <a:t>立即行动</a:t>
            </a:r>
            <a:endParaRPr b="1" lang="en-US" sz="5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5"/>
          <a:stretch/>
        </p:blipFill>
        <p:spPr>
          <a:xfrm>
            <a:off x="4952880" y="685800"/>
            <a:ext cx="3048120" cy="1143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6" name="chimes.wav"/>
      </p:stSnd>
    </p:sndAc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457200" y="5791320"/>
            <a:ext cx="3657600" cy="685800"/>
          </a:xfrm>
          <a:prstGeom prst="rect">
            <a:avLst/>
          </a:prstGeom>
          <a:solidFill>
            <a:srgbClr val="2a10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5f929"/>
                </a:solidFill>
                <a:latin typeface="Times New Roman"/>
              </a:rPr>
              <a:t>思想</a:t>
            </a:r>
            <a:r>
              <a:rPr b="0" lang="zh-CN" sz="2400" spc="-1" strike="noStrike">
                <a:solidFill>
                  <a:srgbClr val="e5f929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e5f929"/>
                </a:solidFill>
                <a:latin typeface="Times New Roman"/>
              </a:rPr>
              <a:t>目标</a:t>
            </a:r>
            <a:r>
              <a:rPr b="0" lang="zh-CN" sz="2400" spc="-1" strike="noStrike">
                <a:solidFill>
                  <a:srgbClr val="e5f929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e5f929"/>
                </a:solidFill>
                <a:latin typeface="Times New Roman"/>
              </a:rPr>
              <a:t>意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4876920"/>
            <a:ext cx="2971800" cy="685800"/>
          </a:xfrm>
          <a:prstGeom prst="rect">
            <a:avLst/>
          </a:prstGeom>
          <a:solidFill>
            <a:srgbClr val="351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5f929"/>
                </a:solidFill>
                <a:latin typeface="Times New Roman"/>
              </a:rPr>
              <a:t>行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66680" y="3962520"/>
            <a:ext cx="2438640" cy="685800"/>
          </a:xfrm>
          <a:prstGeom prst="rect">
            <a:avLst/>
          </a:prstGeom>
          <a:solidFill>
            <a:srgbClr val="5ca1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5f929"/>
                </a:solidFill>
                <a:latin typeface="Times New Roman"/>
              </a:rPr>
              <a:t>习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3048120"/>
            <a:ext cx="2057400" cy="685800"/>
          </a:xfrm>
          <a:prstGeom prst="rect">
            <a:avLst/>
          </a:prstGeom>
          <a:solidFill>
            <a:srgbClr val="5cc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5f929"/>
                </a:solidFill>
                <a:latin typeface="Times New Roman"/>
              </a:rPr>
              <a:t>性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00200" y="2209680"/>
            <a:ext cx="1447920" cy="609840"/>
          </a:xfrm>
          <a:prstGeom prst="rect">
            <a:avLst/>
          </a:prstGeom>
          <a:solidFill>
            <a:srgbClr val="bffb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c100a"/>
                </a:solidFill>
                <a:latin typeface="Times New Roman"/>
              </a:rPr>
              <a:t>命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057400" y="5486400"/>
            <a:ext cx="45720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c10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057400" y="4495680"/>
            <a:ext cx="457200" cy="381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c10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57400" y="3733920"/>
            <a:ext cx="45720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c10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057400" y="274320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c10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9880" y="2209680"/>
            <a:ext cx="5029200" cy="289584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66ff"/>
                </a:solidFill>
                <a:latin typeface="Times New Roman"/>
                <a:ea typeface="黑体"/>
              </a:rPr>
              <a:t>播种思想，收获行动</a:t>
            </a:r>
            <a:br>
              <a:rPr sz="4000"/>
            </a:br>
            <a:r>
              <a:rPr b="0" lang="zh-CN" sz="4000" spc="-1" strike="noStrike">
                <a:solidFill>
                  <a:srgbClr val="6666ff"/>
                </a:solidFill>
                <a:latin typeface="Times New Roman"/>
                <a:ea typeface="黑体"/>
              </a:rPr>
              <a:t>播种行动，收获习惯</a:t>
            </a:r>
            <a:br>
              <a:rPr sz="4000"/>
            </a:br>
            <a:r>
              <a:rPr b="0" lang="zh-CN" sz="4000" spc="-1" strike="noStrike">
                <a:solidFill>
                  <a:srgbClr val="6666ff"/>
                </a:solidFill>
                <a:latin typeface="Times New Roman"/>
                <a:ea typeface="黑体"/>
              </a:rPr>
              <a:t>播种习惯，收获品格</a:t>
            </a:r>
            <a:br>
              <a:rPr sz="4000"/>
            </a:br>
            <a:r>
              <a:rPr b="0" lang="zh-CN" sz="4000" spc="-1" strike="noStrike">
                <a:solidFill>
                  <a:srgbClr val="6666ff"/>
                </a:solidFill>
                <a:latin typeface="Times New Roman"/>
                <a:ea typeface="黑体"/>
              </a:rPr>
              <a:t>播种品格，收获命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1080" y="762120"/>
            <a:ext cx="4648320" cy="1371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首先我们养成习惯</a:t>
            </a:r>
            <a:br>
              <a:rPr sz="4000"/>
            </a:b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然后习惯成就我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14800" cy="7650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6781680" y="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与成功有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 flipH="1" rot="10800000">
            <a:off x="4876920" y="532800"/>
            <a:ext cx="3978000" cy="759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4"/>
          <a:stretch/>
        </p:blipFill>
        <p:spPr>
          <a:xfrm>
            <a:off x="5562720" y="5181480"/>
            <a:ext cx="1463400" cy="1463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5" name="chimes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106200" y="907920"/>
            <a:ext cx="8929800" cy="5131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3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611280" y="260280"/>
            <a:ext cx="806436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　　那</a:t>
            </a: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3%</a:t>
            </a: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的人，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25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年来几乎都不曾更改过自己的人生目标，他们始终朝着同一个方向不懈地努力。</a:t>
            </a: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25</a:t>
            </a: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年后，他们几乎都成了社会各界顶尖成功人士，他们中不乏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白手创业者、行业领袖、社会精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11280" y="1938240"/>
            <a:ext cx="8064360" cy="8254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　　那</a:t>
            </a: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10%</a:t>
            </a: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的人，大都生活在社会的中上层。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他们的共同特点是，那些短期目标不断地被达到，</a:t>
            </a: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生活质量稳步上升。他们成为各行各业不可缺少的专业人士，如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医生、律师、工程师、高级主管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3809880"/>
            <a:ext cx="8064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　　那</a:t>
            </a: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60%</a:t>
            </a: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的人，几乎都生活在社会的中下层面。他们能安稳地生活与工作，但都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没有什么特别的成绩。</a:t>
            </a: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952880"/>
            <a:ext cx="8064720" cy="825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　　剩下的</a:t>
            </a: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27%</a:t>
            </a: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的人，他们几乎都生活在社会的最底层，他们的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生活都过得很不如意，常常失业，靠社会救济，并且常常在抱怨他人，抱怨社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14800" cy="76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781680" y="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与成功有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flipH="1" rot="10800000">
            <a:off x="4876920" y="532800"/>
            <a:ext cx="3978000" cy="75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5760" y="692280"/>
            <a:ext cx="667800" cy="616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魏碑简体"/>
                <a:ea typeface="方正魏碑简体"/>
              </a:rPr>
              <a:t>必     改     坏    习     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914400"/>
            <a:ext cx="1447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问卷调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1600200"/>
            <a:ext cx="43434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走神、发呆、注意力不集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1600200"/>
            <a:ext cx="23623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间观念不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209680"/>
            <a:ext cx="2666880" cy="4597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懒惰、眼高手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2209680"/>
            <a:ext cx="1752840" cy="4597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马虎粗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2209680"/>
            <a:ext cx="3124440" cy="4597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半途而废、无恒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2819520"/>
            <a:ext cx="17524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闲话闲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2819520"/>
            <a:ext cx="114300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浮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2819520"/>
            <a:ext cx="114300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散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0" y="2819520"/>
            <a:ext cx="17524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制力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3429000"/>
            <a:ext cx="129564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闲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3429000"/>
            <a:ext cx="205740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堂效率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3429000"/>
            <a:ext cx="160020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无计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4038480"/>
            <a:ext cx="190476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课爱瞌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5410080"/>
            <a:ext cx="175248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抱怨别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86200" y="4038480"/>
            <a:ext cx="2514600" cy="4597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悲观消极不自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4724280"/>
            <a:ext cx="3276720" cy="4597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习时下意识的动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6172200"/>
            <a:ext cx="1600200" cy="4597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吃零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4724280"/>
            <a:ext cx="160020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问问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6172200"/>
            <a:ext cx="167652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爱总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5410080"/>
            <a:ext cx="228600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找借口避挫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6781680" y="4876920"/>
            <a:ext cx="1828800" cy="1447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609480" y="609480"/>
            <a:ext cx="1676520" cy="1447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6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2916360" y="1341360"/>
            <a:ext cx="33130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目标明确 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337" name=""/>
          <p:cNvSpPr/>
          <p:nvPr/>
        </p:nvSpPr>
        <p:spPr>
          <a:xfrm>
            <a:off x="611280" y="2924280"/>
            <a:ext cx="7920000" cy="58140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要想获得成功，就必须要确定一个清晰可见的目标，因为目标是人奋勇向前的动力源泉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4" name="chimes.wav"/>
      </p:stSnd>
    </p:sndAc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762120" y="1828800"/>
            <a:ext cx="77724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255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我比我的习惯更强大</a:t>
            </a:r>
            <a:endParaRPr b="1" lang="en-US" sz="3200" spc="1" strike="noStrike">
              <a:ln w="255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255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因此我能改变坏习惯</a:t>
            </a:r>
            <a:endParaRPr b="1" lang="en-US" sz="3200" spc="1" strike="noStrike">
              <a:ln w="255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14800" cy="7650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6781680" y="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与成功有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 flipH="1" rot="10800000">
            <a:off x="4876920" y="532800"/>
            <a:ext cx="3978000" cy="75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4" name="chimes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7139880" y="1052640"/>
            <a:ext cx="1399320" cy="4751280"/>
          </a:xfrm>
          <a:prstGeom prst="rect">
            <a:avLst/>
          </a:prstGeom>
          <a:solidFill>
            <a:srgbClr val="99ccff">
              <a:alpha val="64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文鼎中特广告体"/>
              </a:rPr>
              <a:t>祝同学们在未来的考试中门门“高乐高”，人人“娃哈哈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 rot="5400000">
            <a:off x="-383400" y="4136400"/>
            <a:ext cx="3384720" cy="1249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540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再见</a:t>
            </a:r>
            <a:endParaRPr b="0" lang="en-US" sz="2400" spc="1" strike="noStrike">
              <a:ln w="540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4" name="chimes.wav"/>
      </p:stSnd>
    </p:sndAc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36904" fill="hold"/>
                                        <p:tgtEl>
                                          <p:spTgt spid="3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1752120"/>
            <a:ext cx="7631280" cy="6858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良好的学习习惯有什么表现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2593440"/>
            <a:ext cx="7270920" cy="42642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爱动脑筋，爱观察，爱提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有钻研精神，喜欢独立完成学习任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学习有计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善于集中精神，排除干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有一套适合自己的学习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经常使用工具书，参考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7.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喜欢阅读，有意识拓展知识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8.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经常与同学讨论问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9.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今日事，今日毕。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25280" y="9144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Comic Sans MS"/>
                <a:ea typeface="华文行楷"/>
              </a:rPr>
              <a:t>心灵导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14800" cy="765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781680" y="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与成功有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 flipH="1" rot="10800000">
            <a:off x="4876920" y="532800"/>
            <a:ext cx="3978000" cy="75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858000" y="3962520"/>
            <a:ext cx="2133720" cy="2041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0" y="762120"/>
            <a:ext cx="1676520" cy="1447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6934320" y="685800"/>
            <a:ext cx="1600200" cy="1143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7" name="chimes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14800" cy="765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781680" y="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与成功有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 flipH="1" rot="10800000">
            <a:off x="4876920" y="532800"/>
            <a:ext cx="3978000" cy="759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371600" y="762120"/>
            <a:ext cx="6324480" cy="703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魏碑简体"/>
              </a:rPr>
              <a:t>我能改  我能行  我真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1828800"/>
            <a:ext cx="6553080" cy="4724280"/>
          </a:xfrm>
          <a:prstGeom prst="horizontalScroll">
            <a:avLst>
              <a:gd name="adj" fmla="val 9912"/>
            </a:avLst>
          </a:prstGeom>
          <a:gradFill rotWithShape="0">
            <a:gsLst>
              <a:gs pos="0">
                <a:srgbClr val="b2b2b2"/>
              </a:gs>
              <a:gs pos="50000">
                <a:srgbClr val="fefefe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56440" y="3048120"/>
            <a:ext cx="667800" cy="243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积极心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9440" y="3048120"/>
            <a:ext cx="667800" cy="243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时间管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4400" y="3048120"/>
            <a:ext cx="667800" cy="2438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立即行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6120" y="3048120"/>
            <a:ext cx="667800" cy="23619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落实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85440" y="3048120"/>
            <a:ext cx="667800" cy="23619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学会合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 rot="5400000">
            <a:off x="-2133720" y="3504960"/>
            <a:ext cx="533376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华文行楷"/>
              </a:rPr>
              <a:t>只为成功找方法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7" name=""/>
          <p:cNvSpPr txBox="1"/>
          <p:nvPr/>
        </p:nvSpPr>
        <p:spPr>
          <a:xfrm rot="5400000">
            <a:off x="5828760" y="3466800"/>
            <a:ext cx="54100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华文行楷"/>
              </a:rPr>
              <a:t>不为失败找借口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8" name="">
            <a:hlinkClick r:id="rId4" action="ppaction://hlinksldjump"/>
          </p:cNvPr>
          <p:cNvSpPr/>
          <p:nvPr/>
        </p:nvSpPr>
        <p:spPr>
          <a:xfrm>
            <a:off x="1828800" y="2743200"/>
            <a:ext cx="457200" cy="152280"/>
          </a:xfrm>
          <a:custGeom>
            <a:avLst/>
            <a:gdLst>
              <a:gd name="textAreaLeft" fmla="*/ 9720 w 457200"/>
              <a:gd name="textAreaRight" fmla="*/ 447480 w 4572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64749" h="21600">
                <a:moveTo>
                  <a:pt x="0" y="0"/>
                </a:moveTo>
                <a:lnTo>
                  <a:pt x="64749" y="0"/>
                </a:lnTo>
                <a:lnTo>
                  <a:pt x="64749" y="21600"/>
                </a:lnTo>
                <a:lnTo>
                  <a:pt x="0" y="21600"/>
                </a:lnTo>
                <a:close/>
              </a:path>
              <a:path fill="lightenLess" w="64749" h="21600">
                <a:moveTo>
                  <a:pt x="0" y="0"/>
                </a:moveTo>
                <a:lnTo>
                  <a:pt x="64749" y="0"/>
                </a:lnTo>
                <a:lnTo>
                  <a:pt x="63349" y="1400"/>
                </a:lnTo>
                <a:lnTo>
                  <a:pt x="1400" y="1400"/>
                </a:lnTo>
                <a:close/>
              </a:path>
              <a:path fill="darken" w="64749" h="21600">
                <a:moveTo>
                  <a:pt x="64749" y="0"/>
                </a:moveTo>
                <a:lnTo>
                  <a:pt x="64749" y="21600"/>
                </a:lnTo>
                <a:lnTo>
                  <a:pt x="63349" y="20200"/>
                </a:lnTo>
                <a:lnTo>
                  <a:pt x="63349" y="1400"/>
                </a:lnTo>
                <a:close/>
              </a:path>
              <a:path fill="darkenLess" w="64749" h="21600">
                <a:moveTo>
                  <a:pt x="64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49" y="20200"/>
                </a:lnTo>
                <a:close/>
              </a:path>
              <a:path fill="lighten" w="64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5" action="ppaction://hlinksldjump"/>
          </p:cNvPr>
          <p:cNvSpPr/>
          <p:nvPr/>
        </p:nvSpPr>
        <p:spPr>
          <a:xfrm>
            <a:off x="2971800" y="2743200"/>
            <a:ext cx="533520" cy="152280"/>
          </a:xfrm>
          <a:custGeom>
            <a:avLst/>
            <a:gdLst>
              <a:gd name="textAreaLeft" fmla="*/ 9720 w 533520"/>
              <a:gd name="textAreaRight" fmla="*/ 523800 w 53352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75549" h="21600">
                <a:moveTo>
                  <a:pt x="0" y="0"/>
                </a:moveTo>
                <a:lnTo>
                  <a:pt x="75549" y="0"/>
                </a:lnTo>
                <a:lnTo>
                  <a:pt x="75549" y="21600"/>
                </a:lnTo>
                <a:lnTo>
                  <a:pt x="0" y="21600"/>
                </a:lnTo>
                <a:close/>
              </a:path>
              <a:path fill="lightenLess" w="75549" h="21600">
                <a:moveTo>
                  <a:pt x="0" y="0"/>
                </a:moveTo>
                <a:lnTo>
                  <a:pt x="75549" y="0"/>
                </a:lnTo>
                <a:lnTo>
                  <a:pt x="74149" y="1400"/>
                </a:lnTo>
                <a:lnTo>
                  <a:pt x="1400" y="1400"/>
                </a:lnTo>
                <a:close/>
              </a:path>
              <a:path fill="darken" w="75549" h="21600">
                <a:moveTo>
                  <a:pt x="75549" y="0"/>
                </a:moveTo>
                <a:lnTo>
                  <a:pt x="75549" y="21600"/>
                </a:lnTo>
                <a:lnTo>
                  <a:pt x="74149" y="20200"/>
                </a:lnTo>
                <a:lnTo>
                  <a:pt x="74149" y="1400"/>
                </a:lnTo>
                <a:close/>
              </a:path>
              <a:path fill="darkenLess" w="75549" h="21600">
                <a:moveTo>
                  <a:pt x="75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49" y="20200"/>
                </a:lnTo>
                <a:close/>
              </a:path>
              <a:path fill="lighten" w="75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6" action="ppaction://hlinksldjump"/>
          </p:cNvPr>
          <p:cNvSpPr/>
          <p:nvPr/>
        </p:nvSpPr>
        <p:spPr>
          <a:xfrm>
            <a:off x="4038480" y="2743200"/>
            <a:ext cx="533520" cy="152280"/>
          </a:xfrm>
          <a:custGeom>
            <a:avLst/>
            <a:gdLst>
              <a:gd name="textAreaLeft" fmla="*/ 9720 w 533520"/>
              <a:gd name="textAreaRight" fmla="*/ 523800 w 53352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75549" h="21600">
                <a:moveTo>
                  <a:pt x="0" y="0"/>
                </a:moveTo>
                <a:lnTo>
                  <a:pt x="75549" y="0"/>
                </a:lnTo>
                <a:lnTo>
                  <a:pt x="75549" y="21600"/>
                </a:lnTo>
                <a:lnTo>
                  <a:pt x="0" y="21600"/>
                </a:lnTo>
                <a:close/>
              </a:path>
              <a:path fill="lightenLess" w="75549" h="21600">
                <a:moveTo>
                  <a:pt x="0" y="0"/>
                </a:moveTo>
                <a:lnTo>
                  <a:pt x="75549" y="0"/>
                </a:lnTo>
                <a:lnTo>
                  <a:pt x="74149" y="1400"/>
                </a:lnTo>
                <a:lnTo>
                  <a:pt x="1400" y="1400"/>
                </a:lnTo>
                <a:close/>
              </a:path>
              <a:path fill="darken" w="75549" h="21600">
                <a:moveTo>
                  <a:pt x="75549" y="0"/>
                </a:moveTo>
                <a:lnTo>
                  <a:pt x="75549" y="21600"/>
                </a:lnTo>
                <a:lnTo>
                  <a:pt x="74149" y="20200"/>
                </a:lnTo>
                <a:lnTo>
                  <a:pt x="74149" y="1400"/>
                </a:lnTo>
                <a:close/>
              </a:path>
              <a:path fill="darkenLess" w="75549" h="21600">
                <a:moveTo>
                  <a:pt x="75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49" y="20200"/>
                </a:lnTo>
                <a:close/>
              </a:path>
              <a:path fill="lighten" w="75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7" action="ppaction://hlinksldjump"/>
          </p:cNvPr>
          <p:cNvSpPr/>
          <p:nvPr/>
        </p:nvSpPr>
        <p:spPr>
          <a:xfrm>
            <a:off x="5257800" y="2743200"/>
            <a:ext cx="457200" cy="152280"/>
          </a:xfrm>
          <a:custGeom>
            <a:avLst/>
            <a:gdLst>
              <a:gd name="textAreaLeft" fmla="*/ 9720 w 457200"/>
              <a:gd name="textAreaRight" fmla="*/ 447480 w 4572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64749" h="21600">
                <a:moveTo>
                  <a:pt x="0" y="0"/>
                </a:moveTo>
                <a:lnTo>
                  <a:pt x="64749" y="0"/>
                </a:lnTo>
                <a:lnTo>
                  <a:pt x="64749" y="21600"/>
                </a:lnTo>
                <a:lnTo>
                  <a:pt x="0" y="21600"/>
                </a:lnTo>
                <a:close/>
              </a:path>
              <a:path fill="lightenLess" w="64749" h="21600">
                <a:moveTo>
                  <a:pt x="0" y="0"/>
                </a:moveTo>
                <a:lnTo>
                  <a:pt x="64749" y="0"/>
                </a:lnTo>
                <a:lnTo>
                  <a:pt x="63349" y="1400"/>
                </a:lnTo>
                <a:lnTo>
                  <a:pt x="1400" y="1400"/>
                </a:lnTo>
                <a:close/>
              </a:path>
              <a:path fill="darken" w="64749" h="21600">
                <a:moveTo>
                  <a:pt x="64749" y="0"/>
                </a:moveTo>
                <a:lnTo>
                  <a:pt x="64749" y="21600"/>
                </a:lnTo>
                <a:lnTo>
                  <a:pt x="63349" y="20200"/>
                </a:lnTo>
                <a:lnTo>
                  <a:pt x="63349" y="1400"/>
                </a:lnTo>
                <a:close/>
              </a:path>
              <a:path fill="darkenLess" w="64749" h="21600">
                <a:moveTo>
                  <a:pt x="64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49" y="20200"/>
                </a:lnTo>
                <a:close/>
              </a:path>
              <a:path fill="lighten" w="64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8" action="ppaction://hlinksldjump"/>
          </p:cNvPr>
          <p:cNvSpPr/>
          <p:nvPr/>
        </p:nvSpPr>
        <p:spPr>
          <a:xfrm>
            <a:off x="6553080" y="2743200"/>
            <a:ext cx="381240" cy="152280"/>
          </a:xfrm>
          <a:custGeom>
            <a:avLst/>
            <a:gdLst>
              <a:gd name="textAreaLeft" fmla="*/ 9720 w 381240"/>
              <a:gd name="textAreaRight" fmla="*/ 371520 w 38124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54000" h="21600">
                <a:moveTo>
                  <a:pt x="0" y="0"/>
                </a:moveTo>
                <a:lnTo>
                  <a:pt x="54000" y="0"/>
                </a:lnTo>
                <a:lnTo>
                  <a:pt x="54000" y="21600"/>
                </a:lnTo>
                <a:lnTo>
                  <a:pt x="0" y="21600"/>
                </a:lnTo>
                <a:close/>
              </a:path>
              <a:path fill="lightenLess" w="54000" h="21600">
                <a:moveTo>
                  <a:pt x="0" y="0"/>
                </a:moveTo>
                <a:lnTo>
                  <a:pt x="54000" y="0"/>
                </a:lnTo>
                <a:lnTo>
                  <a:pt x="52600" y="1400"/>
                </a:lnTo>
                <a:lnTo>
                  <a:pt x="1400" y="1400"/>
                </a:lnTo>
                <a:close/>
              </a:path>
              <a:path fill="darken" w="54000" h="21600">
                <a:moveTo>
                  <a:pt x="54000" y="0"/>
                </a:moveTo>
                <a:lnTo>
                  <a:pt x="54000" y="21600"/>
                </a:lnTo>
                <a:lnTo>
                  <a:pt x="52600" y="20200"/>
                </a:lnTo>
                <a:lnTo>
                  <a:pt x="52600" y="1400"/>
                </a:lnTo>
                <a:close/>
              </a:path>
              <a:path fill="darkenLess" w="54000" h="21600">
                <a:moveTo>
                  <a:pt x="54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00" y="20200"/>
                </a:lnTo>
                <a:close/>
              </a:path>
              <a:path fill="lighten" w="54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1523880" y="5159520"/>
            <a:ext cx="6096240" cy="1698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1143000" y="1523880"/>
            <a:ext cx="6835680" cy="3542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895480" y="6400800"/>
            <a:ext cx="304812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Times New Roman"/>
              </a:rPr>
              <a:t>早起的鸟儿有虫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1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809520" y="1828800"/>
            <a:ext cx="50403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9900"/>
                </a:solidFill>
                <a:latin typeface="Times New Roman"/>
                <a:ea typeface="华文行楷"/>
              </a:rPr>
              <a:t>青蛙的故事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——</a:t>
            </a:r>
            <a:r>
              <a:rPr b="0" lang="zh-CN" sz="45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生活启迪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3687840" cy="4724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14800" cy="765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781680" y="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与成功有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 flipH="1" rot="10800000">
            <a:off x="4876920" y="532800"/>
            <a:ext cx="3978000" cy="75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7391520" y="144792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3733920" y="5029200"/>
            <a:ext cx="5410080" cy="800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7"/>
          <a:stretch/>
        </p:blipFill>
        <p:spPr>
          <a:xfrm>
            <a:off x="3886200" y="3809880"/>
            <a:ext cx="5029200" cy="704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8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000" y="980640"/>
            <a:ext cx="80629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从前，有一群青蛙组织了一场攀爬比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比赛的终点是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      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一个非常高的铁塔的塔顶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042920" y="1989000"/>
            <a:ext cx="5832360" cy="898560"/>
            <a:chOff x="1042920" y="1989000"/>
            <a:chExt cx="5832360" cy="898560"/>
          </a:xfrm>
        </p:grpSpPr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1042920" y="1989000"/>
              <a:ext cx="108108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5794200" y="1989000"/>
              <a:ext cx="108108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4"/>
            <a:stretch/>
          </p:blipFill>
          <p:spPr>
            <a:xfrm>
              <a:off x="1906200" y="1989000"/>
              <a:ext cx="108144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5"/>
            <a:stretch/>
          </p:blipFill>
          <p:spPr>
            <a:xfrm>
              <a:off x="2769840" y="1989000"/>
              <a:ext cx="108108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6"/>
            <a:stretch/>
          </p:blipFill>
          <p:spPr>
            <a:xfrm>
              <a:off x="3778200" y="1989000"/>
              <a:ext cx="108108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7"/>
            <a:stretch/>
          </p:blipFill>
          <p:spPr>
            <a:xfrm>
              <a:off x="4786200" y="1989000"/>
              <a:ext cx="1081080" cy="898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7020000" y="2565360"/>
            <a:ext cx="1577880" cy="3960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9"/>
          <a:stretch/>
        </p:blipFill>
        <p:spPr>
          <a:xfrm>
            <a:off x="0" y="0"/>
            <a:ext cx="4114800" cy="765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781680" y="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与成功有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0"/>
          <a:stretch/>
        </p:blipFill>
        <p:spPr>
          <a:xfrm flipH="1" rot="10800000">
            <a:off x="4876920" y="532800"/>
            <a:ext cx="3978000" cy="75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1"/>
          <a:stretch/>
        </p:blipFill>
        <p:spPr>
          <a:xfrm>
            <a:off x="7238880" y="5486400"/>
            <a:ext cx="1524240" cy="990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2"/>
          <a:stretch/>
        </p:blipFill>
        <p:spPr>
          <a:xfrm>
            <a:off x="3581280" y="51055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3"/>
          <a:stretch/>
        </p:blipFill>
        <p:spPr>
          <a:xfrm>
            <a:off x="228600" y="5029200"/>
            <a:ext cx="1679400" cy="1371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4"/>
          <a:stretch/>
        </p:blipFill>
        <p:spPr>
          <a:xfrm>
            <a:off x="7315200" y="4343400"/>
            <a:ext cx="1143000" cy="6858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15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1066320"/>
            <a:ext cx="88200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    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一大群青蛙围着铁塔看比赛，给它们加油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    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比赛开始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429000" y="1828800"/>
            <a:ext cx="4247640" cy="1511280"/>
            <a:chOff x="3429000" y="1828800"/>
            <a:chExt cx="4247640" cy="151128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6165720" y="1828800"/>
              <a:ext cx="1510920" cy="15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3" name=""/>
            <p:cNvGrpSpPr/>
            <p:nvPr/>
          </p:nvGrpSpPr>
          <p:grpSpPr>
            <a:xfrm>
              <a:off x="3429000" y="1828800"/>
              <a:ext cx="2878920" cy="1511280"/>
              <a:chOff x="3429000" y="1828800"/>
              <a:chExt cx="2878920" cy="1511280"/>
            </a:xfrm>
          </p:grpSpPr>
          <p:pic>
            <p:nvPicPr>
              <p:cNvPr id="13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97000" y="1828800"/>
                <a:ext cx="1510920" cy="151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429000" y="1828800"/>
                <a:ext cx="1510920" cy="1511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6" name=""/>
          <p:cNvGrpSpPr/>
          <p:nvPr/>
        </p:nvGrpSpPr>
        <p:grpSpPr>
          <a:xfrm>
            <a:off x="2514600" y="4572000"/>
            <a:ext cx="6048360" cy="898560"/>
            <a:chOff x="2514600" y="4572000"/>
            <a:chExt cx="6048360" cy="898560"/>
          </a:xfrm>
        </p:grpSpPr>
        <p:pic>
          <p:nvPicPr>
            <p:cNvPr id="137" name="" descr=""/>
            <p:cNvPicPr/>
            <p:nvPr/>
          </p:nvPicPr>
          <p:blipFill>
            <a:blip r:embed="rId5"/>
            <a:stretch/>
          </p:blipFill>
          <p:spPr>
            <a:xfrm>
              <a:off x="2514600" y="4572000"/>
              <a:ext cx="108108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6"/>
            <a:stretch/>
          </p:blipFill>
          <p:spPr>
            <a:xfrm>
              <a:off x="7481880" y="4572000"/>
              <a:ext cx="108108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7"/>
            <a:stretch/>
          </p:blipFill>
          <p:spPr>
            <a:xfrm>
              <a:off x="3522600" y="4572000"/>
              <a:ext cx="108108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8"/>
            <a:stretch/>
          </p:blipFill>
          <p:spPr>
            <a:xfrm>
              <a:off x="4457520" y="4572000"/>
              <a:ext cx="108108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9"/>
            <a:stretch/>
          </p:blipFill>
          <p:spPr>
            <a:xfrm>
              <a:off x="5465520" y="4572000"/>
              <a:ext cx="108108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10"/>
            <a:stretch/>
          </p:blipFill>
          <p:spPr>
            <a:xfrm>
              <a:off x="6473880" y="4572000"/>
              <a:ext cx="1081080" cy="898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3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4114800" cy="765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781680" y="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与成功有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2"/>
          <a:stretch/>
        </p:blipFill>
        <p:spPr>
          <a:xfrm flipH="1" rot="10800000">
            <a:off x="4876920" y="532800"/>
            <a:ext cx="3978000" cy="759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3"/>
          <a:stretch/>
        </p:blipFill>
        <p:spPr>
          <a:xfrm>
            <a:off x="1371600" y="5638680"/>
            <a:ext cx="6019920" cy="7621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14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73800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老实说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群蛙中没有谁相信这些小小的青蛙会到达塔顶，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他们都在议论 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      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这太难了！！它们肯定到不了塔顶！”</a:t>
            </a:r>
            <a:br>
              <a:rPr sz="2800"/>
            </a:br>
            <a:r>
              <a:rPr b="0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“他们绝不可能成功的，塔太高了！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听到这些，一只接一只的青蛙开始泄气了</a:t>
            </a:r>
            <a:r>
              <a:rPr b="0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,</a:t>
            </a:r>
            <a:r>
              <a:rPr b="0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除了那些情绪高涨的几只还在往上爬。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群蛙继续喊着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“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这太难了！！没有谁能爬上顶的！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429000" y="3200400"/>
            <a:ext cx="2016000" cy="12351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14800" cy="765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781680" y="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与成功有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 flipH="1" rot="10800000">
            <a:off x="5165640" y="532800"/>
            <a:ext cx="3978360" cy="759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228600" y="2209680"/>
            <a:ext cx="1447920" cy="1600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7010280" y="2895480"/>
            <a:ext cx="1486080" cy="1409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7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2:56:22Z</dcterms:created>
  <dc:creator/>
  <dc:description/>
  <dc:language>en-US</dc:language>
  <cp:lastModifiedBy>xx</cp:lastModifiedBy>
  <dcterms:modified xsi:type="dcterms:W3CDTF">2015-05-16T00:45:22Z</dcterms:modified>
  <cp:revision>130</cp:revision>
  <dc:subject/>
  <dc:title>幻灯片 1</dc:title>
</cp:coreProperties>
</file>