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E2B8-A9CD-4255-BFB7-29F7202789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标准字体 渐变色母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8D2D-8388-4859-A6F4-92F3B08257DF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页面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37B9-FAF9-4765-B163-26CC544838A7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另一组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3E3F-5345-4393-A866-3FD477AD9F7A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C07A-F41D-4B29-8186-7182F6E3D783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6E13-BA44-4CC5-971B-C7D432C29E3F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金属字效果与倒影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454B-E6E4-4A20-99BE-677B7945C5D5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abriola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字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5717-16AA-4288-A2A3-82E5609A8CBD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手写风格的字体 活跃气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06F2-17EB-469E-A09D-7B7005C8C09C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正文与副标题字号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D81C-286E-4E8D-BC42-8CFDEE4E9D83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文字体 微软雅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2003-625F-4D3C-87D9-C494D4BE12BB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几个要点与图形出场的效果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B51E-424D-4CFF-B22A-516E81C1FBEF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形倒影效果的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4A54-75A7-45F0-A509-2ECAD2914A80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e Copies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Color Your Trip Gill Sans M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lor Your Trip Aria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6951600" y="1841400"/>
            <a:ext cx="4592880" cy="63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4187880" y="2206800"/>
            <a:ext cx="4632120" cy="92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The E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 聆 听</a:t>
            </a:r>
            <a:endParaRPr b="0" lang="en-US" sz="8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矩形 4" descr=""/>
          <p:cNvPicPr/>
          <p:nvPr/>
        </p:nvPicPr>
        <p:blipFill>
          <a:blip r:embed="rId1"/>
          <a:stretch/>
        </p:blipFill>
        <p:spPr>
          <a:xfrm>
            <a:off x="3297240" y="3809880"/>
            <a:ext cx="64008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abriola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标题 3" descr=""/>
          <p:cNvPicPr/>
          <p:nvPr/>
        </p:nvPicPr>
        <p:blipFill>
          <a:blip r:embed="rId1"/>
          <a:stretch/>
        </p:blipFill>
        <p:spPr>
          <a:xfrm>
            <a:off x="1262160" y="2968560"/>
            <a:ext cx="10478880" cy="38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 念 设 计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 计 前 期 场 地 与 建 筑 方 案 设 计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6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teve Job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eral Termin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sent to Use of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0" name="图片 5" descr="U2176P2DT20111006080222.jpg"/>
          <p:cNvPicPr/>
          <p:nvPr/>
        </p:nvPicPr>
        <p:blipFill>
          <a:blip r:embed="rId1"/>
          <a:stretch/>
        </p:blipFill>
        <p:spPr>
          <a:xfrm>
            <a:off x="6699240" y="2779560"/>
            <a:ext cx="5065560" cy="714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</dc:creator>
  <dc:description/>
  <dc:language>en-US</dc:language>
  <cp:lastModifiedBy>CARL</cp:lastModifiedBy>
  <dcterms:modified xsi:type="dcterms:W3CDTF">2012-01-05T09:15:02Z</dcterms:modified>
  <cp:revision>28</cp:revision>
  <dc:subject/>
  <dc:title>设计前期</dc:title>
</cp:coreProperties>
</file>