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20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3.png" ContentType="image/png"/>
  <Override PartName="/ppt/media/image41.jpeg" ContentType="image/jpeg"/>
  <Override PartName="/ppt/media/image14.jpeg" ContentType="image/jpeg"/>
  <Override PartName="/ppt/media/image6.wmf" ContentType="image/x-wmf"/>
  <Override PartName="/ppt/media/image42.jpeg" ContentType="image/jpeg"/>
  <Override PartName="/ppt/media/image2.gif" ContentType="image/gif"/>
  <Override PartName="/ppt/media/image19.jpeg" ContentType="image/jpeg"/>
  <Override PartName="/ppt/media/image34.jpeg" ContentType="image/jpeg"/>
  <Override PartName="/ppt/media/image36.png" ContentType="image/png"/>
  <Override PartName="/ppt/media/image7.jpeg" ContentType="image/jpeg"/>
  <Override PartName="/ppt/media/image35.gif" ContentType="image/gif"/>
  <Override PartName="/ppt/media/image5.gif" ContentType="image/gif"/>
  <Override PartName="/ppt/media/image38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1.gif" ContentType="image/gif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C29-B3B9-4B3F-A7EB-BA92162B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F08-1340-40C7-B3AF-B77B4CE1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1F2-A733-4DCE-97AC-E276E2DE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76E-C6A9-4FF4-B711-16897988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DB0A-4F31-4BE1-9E7A-BBB5593B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30D7-2455-42CB-9CA3-08A3E24C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4472-F65E-4B70-9C99-101295F9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BBBA-4555-41F5-BE9B-870AA0C3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E4D0-5237-49AC-BA93-8987DB1D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A7E8-F45E-42F8-9DBC-5F3DFEB3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F016-DDB5-4184-9F1E-D36D78B9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753-930D-44D0-BEF1-CC079C63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52AB-E487-4FA1-8BD6-0407C10D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B695-C036-4BD6-A2D2-6EA70CE9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035E-9811-4F5C-992D-33116B71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0625-8629-4738-88CC-E68AA430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155E-45E0-43DD-AED2-48614879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8E9D1-3E69-4EE3-A5E4-AA3DBAA9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FD8A-823D-4331-9A77-738ADD03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5E83D-4740-46FF-87A3-25B7522D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33E7B-3D8E-4254-8719-65D53FE8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E31A3-DC95-4C81-8559-7BD7464B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246-59A3-413B-9A57-36A3E455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02DB-5A30-492A-9C5C-E6148244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DA4F9-50D7-4740-AA8C-774FA699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B94A4-6584-4EFC-8850-4E98C39A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05741-7117-4940-A6FF-7A9D93B5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25774-4DDD-42C5-98E4-F808C9D2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79F05-59B0-4902-8E2E-E3A982F4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A619B-B9FB-4477-BFF9-B26EDBA7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2C8-AB90-4123-BF7A-625A928D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192-ABE8-4DD9-ACE7-136F7555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393D-17F9-4525-9C60-EAC6DED6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4CD-2084-4886-9F1E-319B45FC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053-01B8-4C70-A6B7-893BC8E8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FC5-003F-4080-B8FB-4C9914FB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C613-2D3E-4386-8405-1A05F4EBA4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A208-726E-4ECB-85AB-DECBFED258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9A1B-6057-413E-9C42-21F39C44E2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image" Target="../media/image35.gif"/><Relationship Id="rId9" Type="http://schemas.openxmlformats.org/officeDocument/2006/relationships/image" Target="../media/image35.gif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6.wmf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图片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5"/>
          <p:cNvSpPr txBox="1"/>
          <p:nvPr/>
        </p:nvSpPr>
        <p:spPr>
          <a:xfrm>
            <a:off x="539640" y="1700280"/>
            <a:ext cx="8136000" cy="23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华文行楷"/>
              </a:rPr>
              <a:t>民族团结教育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华文行楷"/>
              <a:ea typeface="华文行楷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071800" y="3429000"/>
            <a:ext cx="52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华文行楷"/>
              </a:rPr>
              <a:t>主题班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1" descr="xin24"/>
          <p:cNvPicPr/>
          <p:nvPr/>
        </p:nvPicPr>
        <p:blipFill>
          <a:blip r:embed="rId2"/>
          <a:stretch/>
        </p:blipFill>
        <p:spPr>
          <a:xfrm>
            <a:off x="611280" y="0"/>
            <a:ext cx="1439640" cy="2808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xin24"/>
          <p:cNvPicPr/>
          <p:nvPr/>
        </p:nvPicPr>
        <p:blipFill>
          <a:blip r:embed="rId3"/>
          <a:stretch/>
        </p:blipFill>
        <p:spPr>
          <a:xfrm>
            <a:off x="1428840" y="3286080"/>
            <a:ext cx="1439640" cy="280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xin24"/>
          <p:cNvPicPr/>
          <p:nvPr/>
        </p:nvPicPr>
        <p:blipFill>
          <a:blip r:embed="rId4"/>
          <a:stretch/>
        </p:blipFill>
        <p:spPr>
          <a:xfrm>
            <a:off x="6877080" y="3141720"/>
            <a:ext cx="1440000" cy="2808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xin24"/>
          <p:cNvPicPr/>
          <p:nvPr/>
        </p:nvPicPr>
        <p:blipFill>
          <a:blip r:embed="rId5"/>
          <a:stretch/>
        </p:blipFill>
        <p:spPr>
          <a:xfrm>
            <a:off x="7308720" y="0"/>
            <a:ext cx="144000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xin24"/>
          <p:cNvPicPr/>
          <p:nvPr/>
        </p:nvPicPr>
        <p:blipFill>
          <a:blip r:embed="rId6"/>
          <a:stretch/>
        </p:blipFill>
        <p:spPr>
          <a:xfrm>
            <a:off x="5148360" y="0"/>
            <a:ext cx="1439640" cy="2808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xin24"/>
          <p:cNvPicPr/>
          <p:nvPr/>
        </p:nvPicPr>
        <p:blipFill>
          <a:blip r:embed="rId7"/>
          <a:stretch/>
        </p:blipFill>
        <p:spPr>
          <a:xfrm>
            <a:off x="4427640" y="3429000"/>
            <a:ext cx="1439640" cy="280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xin24"/>
          <p:cNvPicPr/>
          <p:nvPr/>
        </p:nvPicPr>
        <p:blipFill>
          <a:blip r:embed="rId8"/>
          <a:stretch/>
        </p:blipFill>
        <p:spPr>
          <a:xfrm>
            <a:off x="2987640" y="0"/>
            <a:ext cx="1440000" cy="2808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6"/>
          <p:cNvSpPr/>
          <p:nvPr/>
        </p:nvSpPr>
        <p:spPr>
          <a:xfrm>
            <a:off x="7039440" y="55720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一年级主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火把节之一"/>
          <p:cNvPicPr/>
          <p:nvPr/>
        </p:nvPicPr>
        <p:blipFill>
          <a:blip r:embed="rId1"/>
          <a:stretch/>
        </p:blipFill>
        <p:spPr>
          <a:xfrm>
            <a:off x="0" y="0"/>
            <a:ext cx="5867280" cy="3886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火把节之二"/>
          <p:cNvPicPr/>
          <p:nvPr/>
        </p:nvPicPr>
        <p:blipFill>
          <a:blip r:embed="rId2"/>
          <a:stretch/>
        </p:blipFill>
        <p:spPr>
          <a:xfrm>
            <a:off x="0" y="4038480"/>
            <a:ext cx="6194520" cy="2819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6148440" y="4572000"/>
            <a:ext cx="3071880" cy="206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哈尼族、拉祜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纳西族、傈僳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族、彝族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4191120" y="1574640"/>
            <a:ext cx="4952880" cy="1495800"/>
          </a:xfrm>
          <a:prstGeom prst="rect">
            <a:avLst/>
          </a:prstGeom>
          <a:noFill/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火把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白天饮酒，并举行摔跤，赛马，斗牛等庆祝活动，入夜点起篙火，燃起火把在田间林边游行，以祈愿除虫害，祝福健康快乐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雪顿节情景之三"/>
          <p:cNvPicPr/>
          <p:nvPr/>
        </p:nvPicPr>
        <p:blipFill>
          <a:blip r:embed="rId1"/>
          <a:stretch/>
        </p:blipFill>
        <p:spPr>
          <a:xfrm>
            <a:off x="0" y="335268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雪顿节情景之一"/>
          <p:cNvPicPr/>
          <p:nvPr/>
        </p:nvPicPr>
        <p:blipFill>
          <a:blip r:embed="rId2"/>
          <a:stretch/>
        </p:blipFill>
        <p:spPr>
          <a:xfrm>
            <a:off x="0" y="0"/>
            <a:ext cx="4648320" cy="3048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雪顿节情景之二"/>
          <p:cNvPicPr/>
          <p:nvPr/>
        </p:nvPicPr>
        <p:blipFill>
          <a:blip r:embed="rId3"/>
          <a:stretch/>
        </p:blipFill>
        <p:spPr>
          <a:xfrm>
            <a:off x="4876920" y="76320"/>
            <a:ext cx="4190760" cy="41209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4419720" y="4343400"/>
            <a:ext cx="4952880" cy="1518840"/>
          </a:xfrm>
          <a:prstGeom prst="rect">
            <a:avLst/>
          </a:prstGeom>
          <a:noFill/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雪顿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意思是吃酸奶子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节日起源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前，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藏历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结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185520" y="6278400"/>
            <a:ext cx="66852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藏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古尔邦节――到清真寺参加会礼"/>
          <p:cNvPicPr/>
          <p:nvPr/>
        </p:nvPicPr>
        <p:blipFill>
          <a:blip r:embed="rId1"/>
          <a:stretch/>
        </p:blipFill>
        <p:spPr>
          <a:xfrm>
            <a:off x="0" y="0"/>
            <a:ext cx="5689440" cy="4356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152280" y="4662360"/>
            <a:ext cx="8839440" cy="477720"/>
          </a:xfrm>
          <a:prstGeom prst="rect">
            <a:avLst/>
          </a:prstGeom>
          <a:noFill/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古尔邦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是伊斯兰教的三大节日之一，在每年回历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节前人们清扫庭院，准备节日的食品，清晨沐浴焚香，到清真寺参加会礼 。图为到清真寺参加会礼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7232040" y="380880"/>
            <a:ext cx="343800" cy="31154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回族、乌孜别克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哈萨克族、保安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塔吉克族、塔塔尔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柯尔克孜族、东乡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撒拉族、维吾尔族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" descr="4f7b0fdec5462f66cdbf1a12.bmp"/>
          <p:cNvPicPr/>
          <p:nvPr/>
        </p:nvPicPr>
        <p:blipFill>
          <a:blip r:embed="rId1"/>
          <a:stretch/>
        </p:blipFill>
        <p:spPr>
          <a:xfrm>
            <a:off x="1285920" y="142920"/>
            <a:ext cx="671508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" descr="193657f8f7775e30d9f9fd8a.bmp"/>
          <p:cNvPicPr/>
          <p:nvPr/>
        </p:nvPicPr>
        <p:blipFill>
          <a:blip r:embed="rId1"/>
          <a:stretch/>
        </p:blipFill>
        <p:spPr>
          <a:xfrm>
            <a:off x="762120" y="1114560"/>
            <a:ext cx="761976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1" descr="200000031512126924914450607_950.jpg"/>
          <p:cNvPicPr/>
          <p:nvPr/>
        </p:nvPicPr>
        <p:blipFill>
          <a:blip r:embed="rId1"/>
          <a:stretch/>
        </p:blipFill>
        <p:spPr>
          <a:xfrm>
            <a:off x="0" y="428760"/>
            <a:ext cx="891684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1" descr="200000031512126924917292738_950.jpg"/>
          <p:cNvPicPr/>
          <p:nvPr/>
        </p:nvPicPr>
        <p:blipFill>
          <a:blip r:embed="rId1"/>
          <a:stretch/>
        </p:blipFill>
        <p:spPr>
          <a:xfrm>
            <a:off x="142920" y="195120"/>
            <a:ext cx="885816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200000031512126924917427653_950.jpg"/>
          <p:cNvPicPr/>
          <p:nvPr/>
        </p:nvPicPr>
        <p:blipFill>
          <a:blip r:embed="rId1"/>
          <a:stretch/>
        </p:blipFill>
        <p:spPr>
          <a:xfrm>
            <a:off x="285840" y="581040"/>
            <a:ext cx="891072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" descr="01300000241358123978331830076.jpg"/>
          <p:cNvPicPr/>
          <p:nvPr/>
        </p:nvPicPr>
        <p:blipFill>
          <a:blip r:embed="rId1"/>
          <a:stretch/>
        </p:blipFill>
        <p:spPr>
          <a:xfrm>
            <a:off x="142920" y="461880"/>
            <a:ext cx="901368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01300000280771122562617638232.jpg"/>
          <p:cNvPicPr/>
          <p:nvPr/>
        </p:nvPicPr>
        <p:blipFill>
          <a:blip r:embed="rId1"/>
          <a:stretch/>
        </p:blipFill>
        <p:spPr>
          <a:xfrm>
            <a:off x="2774880" y="266760"/>
            <a:ext cx="3594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8031240" y="-2160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中华民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1" descr="CityImages_27119.jpg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" descr="fcab4ed3b5ede491a8ec9ae0.bmp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top_img_02"/>
          <p:cNvPicPr/>
          <p:nvPr/>
        </p:nvPicPr>
        <p:blipFill>
          <a:blip r:embed="rId1"/>
          <a:stretch/>
        </p:blipFill>
        <p:spPr>
          <a:xfrm>
            <a:off x="0" y="0"/>
            <a:ext cx="9144000" cy="7677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xin21"/>
          <p:cNvPicPr/>
          <p:nvPr/>
        </p:nvPicPr>
        <p:blipFill>
          <a:blip r:embed="rId2"/>
          <a:stretch/>
        </p:blipFill>
        <p:spPr>
          <a:xfrm>
            <a:off x="395280" y="476280"/>
            <a:ext cx="952560" cy="2590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xin21"/>
          <p:cNvPicPr/>
          <p:nvPr/>
        </p:nvPicPr>
        <p:blipFill>
          <a:blip r:embed="rId3"/>
          <a:stretch/>
        </p:blipFill>
        <p:spPr>
          <a:xfrm>
            <a:off x="2627280" y="476280"/>
            <a:ext cx="95256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xin21"/>
          <p:cNvPicPr/>
          <p:nvPr/>
        </p:nvPicPr>
        <p:blipFill>
          <a:blip r:embed="rId4"/>
          <a:stretch/>
        </p:blipFill>
        <p:spPr>
          <a:xfrm>
            <a:off x="4643280" y="404640"/>
            <a:ext cx="952560" cy="2590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xin21"/>
          <p:cNvPicPr/>
          <p:nvPr/>
        </p:nvPicPr>
        <p:blipFill>
          <a:blip r:embed="rId5"/>
          <a:stretch/>
        </p:blipFill>
        <p:spPr>
          <a:xfrm>
            <a:off x="7020000" y="404640"/>
            <a:ext cx="952560" cy="2590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xin21"/>
          <p:cNvPicPr/>
          <p:nvPr/>
        </p:nvPicPr>
        <p:blipFill>
          <a:blip r:embed="rId6"/>
          <a:stretch/>
        </p:blipFill>
        <p:spPr>
          <a:xfrm>
            <a:off x="1476360" y="3716280"/>
            <a:ext cx="952560" cy="2590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xin21"/>
          <p:cNvPicPr/>
          <p:nvPr/>
        </p:nvPicPr>
        <p:blipFill>
          <a:blip r:embed="rId7"/>
          <a:stretch/>
        </p:blipFill>
        <p:spPr>
          <a:xfrm>
            <a:off x="3780000" y="3573360"/>
            <a:ext cx="952200" cy="2590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xin21"/>
          <p:cNvPicPr/>
          <p:nvPr/>
        </p:nvPicPr>
        <p:blipFill>
          <a:blip r:embed="rId8"/>
          <a:stretch/>
        </p:blipFill>
        <p:spPr>
          <a:xfrm>
            <a:off x="6012000" y="3357720"/>
            <a:ext cx="952200" cy="2590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xin21"/>
          <p:cNvPicPr/>
          <p:nvPr/>
        </p:nvPicPr>
        <p:blipFill>
          <a:blip r:embed="rId9"/>
          <a:stretch/>
        </p:blipFill>
        <p:spPr>
          <a:xfrm>
            <a:off x="8191440" y="3500280"/>
            <a:ext cx="952560" cy="25909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13"/>
          <p:cNvSpPr txBox="1"/>
          <p:nvPr/>
        </p:nvSpPr>
        <p:spPr>
          <a:xfrm>
            <a:off x="1403280" y="1197000"/>
            <a:ext cx="66978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黑体"/>
              </a:rPr>
              <a:t>故事欣赏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11" name="吐鲁番的葡萄熟了 ....mp3" descr=""/>
          <p:cNvPicPr/>
          <p:nvPr/>
        </p:nvPicPr>
        <p:blipFill>
          <a:blip r:embed="rId10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99208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427280" y="0"/>
            <a:ext cx="471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抗日战争时期，在华北平原上，活跃着一支以回民兄弟为主组成的抗日部队——回民支队。这支部队屡建战功，威震敌胆，给日本侵略军以沉重打击，被八路军冀中军区誉为“无攻不克，无坚不摧，打不垮，拖不烂的铁军”。毛泽东称其为“百战百胜的回民支队”。马本斋就是这支英雄的回民支队的司令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200811171037220087"/>
          <p:cNvPicPr/>
          <p:nvPr/>
        </p:nvPicPr>
        <p:blipFill>
          <a:blip r:embed="rId1"/>
          <a:stretch/>
        </p:blipFill>
        <p:spPr>
          <a:xfrm>
            <a:off x="0" y="0"/>
            <a:ext cx="437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564000" y="1196640"/>
            <a:ext cx="558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前的夏天，一个年轻的小伙子从扬州医专毕业，来到了“万山之祖”帕米尔高原。这个扬州小伙名叫吴登云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来，吴登云如一株坚韧的胡杨扎根在戈壁荒滩，把自己的全部心血和爱献给了这里的人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200210170927_220972"/>
          <p:cNvPicPr/>
          <p:nvPr/>
        </p:nvPicPr>
        <p:blipFill>
          <a:blip r:embed="rId1"/>
          <a:stretch/>
        </p:blipFill>
        <p:spPr>
          <a:xfrm>
            <a:off x="0" y="1700280"/>
            <a:ext cx="3708360" cy="39337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755640" y="54936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帕  米  尔  之  子  吴  登  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708360" y="83664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孔繁森同志是一位优秀的共产党员和革命干部。他深入群众，关心群众，时刻把藏族同胞的冷暖挂在心上，为了救济生活困难的群众，他三次卖血，多次慷慨解囊，主动收养两个藏族孤儿，与藏族同胞结下了深厚的情谊，深受西藏干部群众的爱戴，表现出了一个优秀共产党员和人民公仆的高度政治觉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228509338070"/>
          <p:cNvPicPr/>
          <p:nvPr/>
        </p:nvPicPr>
        <p:blipFill>
          <a:blip r:embed="rId1"/>
          <a:stretch/>
        </p:blipFill>
        <p:spPr>
          <a:xfrm>
            <a:off x="179280" y="836640"/>
            <a:ext cx="3467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93200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疆十大杰出母亲阿尼帕阿力马洪共养育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不同民族的孩子，其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孩子是他们收养的汉、回、维、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民族的孤儿，加上塔塔尔族、乌孜别克族的女婿、儿媳，全家共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民族组成。阿尼帕夫妇以博大的慈母之心，创造了人间至真至纯的旷世奇爱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阿尼帕获得新疆首届十大杰出母亲称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W020090510569989550524"/>
          <p:cNvPicPr/>
          <p:nvPr/>
        </p:nvPicPr>
        <p:blipFill>
          <a:blip r:embed="rId1"/>
          <a:stretch/>
        </p:blipFill>
        <p:spPr>
          <a:xfrm>
            <a:off x="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互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图片k"/>
          <p:cNvPicPr/>
          <p:nvPr/>
        </p:nvPicPr>
        <p:blipFill>
          <a:blip r:embed="rId1"/>
          <a:stretch/>
        </p:blipFill>
        <p:spPr>
          <a:xfrm>
            <a:off x="0" y="0"/>
            <a:ext cx="9229680" cy="6934320"/>
          </a:xfrm>
          <a:prstGeom prst="rect">
            <a:avLst/>
          </a:prstGeom>
          <a:ln w="0">
            <a:noFill/>
          </a:ln>
        </p:spPr>
      </p:pic>
      <p:sp>
        <p:nvSpPr>
          <p:cNvPr id="224" name="WordArt 3"/>
          <p:cNvSpPr txBox="1"/>
          <p:nvPr/>
        </p:nvSpPr>
        <p:spPr>
          <a:xfrm>
            <a:off x="1476360" y="1052640"/>
            <a:ext cx="410544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S Gothic"/>
              </a:rPr>
              <a:t>大家谈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S Gothic"/>
              <a:ea typeface="MS Gothic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258920" y="350028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生活在多民族地区的我们，应该怎样做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图片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xin2"/>
          <p:cNvPicPr/>
          <p:nvPr/>
        </p:nvPicPr>
        <p:blipFill>
          <a:blip r:embed="rId2"/>
          <a:stretch/>
        </p:blipFill>
        <p:spPr>
          <a:xfrm>
            <a:off x="6750000" y="620640"/>
            <a:ext cx="2394000" cy="5392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xin2"/>
          <p:cNvPicPr/>
          <p:nvPr/>
        </p:nvPicPr>
        <p:blipFill>
          <a:blip r:embed="rId3"/>
          <a:stretch/>
        </p:blipFill>
        <p:spPr>
          <a:xfrm>
            <a:off x="2843280" y="620640"/>
            <a:ext cx="2394000" cy="539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xin2"/>
          <p:cNvPicPr/>
          <p:nvPr/>
        </p:nvPicPr>
        <p:blipFill>
          <a:blip r:embed="rId4"/>
          <a:stretch/>
        </p:blipFill>
        <p:spPr>
          <a:xfrm>
            <a:off x="3635280" y="1465200"/>
            <a:ext cx="2394000" cy="5392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xin2"/>
          <p:cNvPicPr/>
          <p:nvPr/>
        </p:nvPicPr>
        <p:blipFill>
          <a:blip r:embed="rId5"/>
          <a:stretch/>
        </p:blipFill>
        <p:spPr>
          <a:xfrm>
            <a:off x="6012000" y="1197000"/>
            <a:ext cx="2393640" cy="5392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xin2"/>
          <p:cNvPicPr/>
          <p:nvPr/>
        </p:nvPicPr>
        <p:blipFill>
          <a:blip r:embed="rId6"/>
          <a:stretch/>
        </p:blipFill>
        <p:spPr>
          <a:xfrm>
            <a:off x="826920" y="1465200"/>
            <a:ext cx="2394000" cy="5392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xin2"/>
          <p:cNvPicPr/>
          <p:nvPr/>
        </p:nvPicPr>
        <p:blipFill>
          <a:blip r:embed="rId7"/>
          <a:stretch/>
        </p:blipFill>
        <p:spPr>
          <a:xfrm>
            <a:off x="0" y="692280"/>
            <a:ext cx="2394000" cy="5392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PE01460_"/>
          <p:cNvPicPr/>
          <p:nvPr/>
        </p:nvPicPr>
        <p:blipFill>
          <a:blip r:embed="rId8"/>
          <a:stretch/>
        </p:blipFill>
        <p:spPr>
          <a:xfrm>
            <a:off x="324000" y="260280"/>
            <a:ext cx="1512720" cy="1524240"/>
          </a:xfrm>
          <a:prstGeom prst="rect">
            <a:avLst/>
          </a:prstGeom>
          <a:ln w="0">
            <a:noFill/>
          </a:ln>
        </p:spPr>
      </p:pic>
      <p:sp>
        <p:nvSpPr>
          <p:cNvPr id="147" name="Line 11"/>
          <p:cNvSpPr/>
          <p:nvPr/>
        </p:nvSpPr>
        <p:spPr>
          <a:xfrm>
            <a:off x="2411280" y="1844640"/>
            <a:ext cx="5562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403280" y="278136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认识下列民族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BJ2034"/>
          <p:cNvPicPr/>
          <p:nvPr/>
        </p:nvPicPr>
        <p:blipFill>
          <a:blip r:embed="rId9"/>
          <a:stretch/>
        </p:blipFill>
        <p:spPr>
          <a:xfrm>
            <a:off x="6248520" y="492120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2411280" y="69228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2286000" y="45720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Times New Roman"/>
                <a:ea typeface="华文隶书"/>
              </a:rPr>
              <a:t>比一比，赛一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339640" y="404640"/>
            <a:ext cx="626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我们从现在做起，从点滴做起，从自我做起， “心连心、手拉手、同呼吸、共命运”，牢固树立“三个离不开”的思想，象爱护自己眼睛一样爱护民族团结，象珍惜自己生命一样珍惜民族团结。用我们心中那超越血缘、超越亲情、超越民族的无上崇高的大爱，来描绘我们更加美好、更加辉煌的未来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684360" y="476280"/>
            <a:ext cx="122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的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承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诺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7815240" y="-9396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爱我中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3" descr="10096218_200701201212211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1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傣族(56-18)1999"/>
          <p:cNvPicPr/>
          <p:nvPr/>
        </p:nvPicPr>
        <p:blipFill>
          <a:blip r:embed="rId1"/>
          <a:stretch/>
        </p:blipFill>
        <p:spPr>
          <a:xfrm>
            <a:off x="4572000" y="549360"/>
            <a:ext cx="4419720" cy="62481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6629400" y="228600"/>
            <a:ext cx="1295280" cy="6426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傣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苗族(56-6)1999"/>
          <p:cNvPicPr/>
          <p:nvPr/>
        </p:nvPicPr>
        <p:blipFill>
          <a:blip r:embed="rId2"/>
          <a:stretch/>
        </p:blipFill>
        <p:spPr>
          <a:xfrm>
            <a:off x="0" y="0"/>
            <a:ext cx="4267080" cy="6477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3048120" y="228600"/>
            <a:ext cx="1143000" cy="6426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苗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6477120" y="2286000"/>
            <a:ext cx="1295280" cy="642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满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蒙古族(56-2)1999"/>
          <p:cNvPicPr/>
          <p:nvPr/>
        </p:nvPicPr>
        <p:blipFill>
          <a:blip r:embed="rId1"/>
          <a:stretch/>
        </p:blipFill>
        <p:spPr>
          <a:xfrm>
            <a:off x="0" y="0"/>
            <a:ext cx="5943600" cy="3962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满族(56-11)1999"/>
          <p:cNvPicPr/>
          <p:nvPr/>
        </p:nvPicPr>
        <p:blipFill>
          <a:blip r:embed="rId2"/>
          <a:stretch/>
        </p:blipFill>
        <p:spPr>
          <a:xfrm>
            <a:off x="3276720" y="3276720"/>
            <a:ext cx="5867280" cy="3581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62120" y="4191120"/>
            <a:ext cx="1676160" cy="642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蒙古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维吾尔族(56-5)1999"/>
          <p:cNvPicPr/>
          <p:nvPr/>
        </p:nvPicPr>
        <p:blipFill>
          <a:blip r:embed="rId1"/>
          <a:stretch/>
        </p:blipFill>
        <p:spPr>
          <a:xfrm>
            <a:off x="0" y="0"/>
            <a:ext cx="6324480" cy="3733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914400" y="3809880"/>
            <a:ext cx="2209680" cy="642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维吾尔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238880" y="2590920"/>
            <a:ext cx="1676520" cy="642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朝鲜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朝鲜族(56-10)1999"/>
          <p:cNvPicPr/>
          <p:nvPr/>
        </p:nvPicPr>
        <p:blipFill>
          <a:blip r:embed="rId2"/>
          <a:stretch/>
        </p:blipFill>
        <p:spPr>
          <a:xfrm>
            <a:off x="3429000" y="3352680"/>
            <a:ext cx="5715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壮族(56-8)1999"/>
          <p:cNvPicPr/>
          <p:nvPr/>
        </p:nvPicPr>
        <p:blipFill>
          <a:blip r:embed="rId1"/>
          <a:stretch/>
        </p:blipFill>
        <p:spPr>
          <a:xfrm>
            <a:off x="5559480" y="76320"/>
            <a:ext cx="3611520" cy="5333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7131240" y="5467320"/>
            <a:ext cx="729360" cy="642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壮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黎族(56-19)1999"/>
          <p:cNvPicPr/>
          <p:nvPr/>
        </p:nvPicPr>
        <p:blipFill>
          <a:blip r:embed="rId2"/>
          <a:stretch/>
        </p:blipFill>
        <p:spPr>
          <a:xfrm>
            <a:off x="0" y="1709640"/>
            <a:ext cx="5562720" cy="3700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1803600" y="5513400"/>
            <a:ext cx="729360" cy="642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黎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3886200" y="-241200"/>
            <a:ext cx="5257800" cy="5949360"/>
            <a:chOff x="3886200" y="-241200"/>
            <a:chExt cx="5257800" cy="5949360"/>
          </a:xfrm>
        </p:grpSpPr>
        <p:pic>
          <p:nvPicPr>
            <p:cNvPr id="169" name="Picture 3" descr="藏族(56-4)1999"/>
            <p:cNvPicPr/>
            <p:nvPr/>
          </p:nvPicPr>
          <p:blipFill>
            <a:blip r:embed="rId1"/>
            <a:stretch/>
          </p:blipFill>
          <p:spPr>
            <a:xfrm>
              <a:off x="3886200" y="-241200"/>
              <a:ext cx="5257800" cy="59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4"/>
            <p:cNvSpPr/>
            <p:nvPr/>
          </p:nvSpPr>
          <p:spPr>
            <a:xfrm>
              <a:off x="4095000" y="176400"/>
              <a:ext cx="1106640" cy="10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5" descr="瑶族(56-13)1999"/>
          <p:cNvPicPr/>
          <p:nvPr/>
        </p:nvPicPr>
        <p:blipFill>
          <a:blip r:embed="rId2"/>
          <a:stretch/>
        </p:blipFill>
        <p:spPr>
          <a:xfrm>
            <a:off x="0" y="0"/>
            <a:ext cx="3890880" cy="5715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1041840" y="5818320"/>
            <a:ext cx="729360" cy="642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瑶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071040" y="5759280"/>
            <a:ext cx="729360" cy="642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藏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泼水节"/>
          <p:cNvPicPr/>
          <p:nvPr/>
        </p:nvPicPr>
        <p:blipFill>
          <a:blip r:embed="rId1"/>
          <a:stretch/>
        </p:blipFill>
        <p:spPr>
          <a:xfrm>
            <a:off x="2819520" y="2057400"/>
            <a:ext cx="6248160" cy="4800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289080" y="55990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42120" y="4419720"/>
            <a:ext cx="1155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傣族、阿昌族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德昂族、佤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布朗族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96960" y="0"/>
            <a:ext cx="8370720" cy="642600"/>
          </a:xfrm>
          <a:prstGeom prst="rect">
            <a:avLst/>
          </a:prstGeom>
          <a:noFill/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泼水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傣族的节日，于傣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举行，相传为纪念十二个姑娘杀死魔王，轮流抱着滚烫的魔头泼水降温直到魔头死去，后发展为辞旧迎新的节日。被泼的水越多受到的祝福就越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1:45:41Z</dcterms:created>
  <dc:creator>YlmF</dc:creator>
  <dc:description/>
  <cp:keywords/>
  <dc:language>en-US</dc:language>
  <cp:lastModifiedBy>sxyjj</cp:lastModifiedBy>
  <cp:lastPrinted>1899-12-30T00:00:00Z</cp:lastPrinted>
  <dcterms:modified xsi:type="dcterms:W3CDTF">2012-10-25T02:16:56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