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F6E-0879-4ECF-8C49-9FC21E3D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C3E-5EA4-45D9-82A4-39EDA5D0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D450D-342C-4A49-9811-5D8227C2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11088-04EC-4E80-8DE7-4FCA2C1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BCAC4-5253-4F56-88ED-2013A1E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886D4-3FCF-49EB-8284-25DF9669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354F7-CF3B-4FFB-9DC3-9B5F6B6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E2854-520D-4B9B-92CA-C1B143BB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AFCBE-68F9-460E-943D-2665B4FC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A857E-9AA7-4C84-9EB4-6ED32A7E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A00C0-01BF-44F4-AE26-BD03FBCB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27518-F09D-4868-A7EA-D8491010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859-C897-46BE-9F96-3F9217C3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37176-A298-4BDD-BB00-5DE29A1B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A65AA-E141-49C0-AF2B-43A305A9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2E846-C0DD-4AA8-9380-30A0FF70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9DD9F-8BAA-4CDC-A937-CB202505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EF2E5-DE83-4600-A492-82873AC6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C8EEB-6082-43B1-B4BC-F7F9A77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1AADE-935D-4AA5-8AD8-7072F7E5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95697-BE5F-438F-AD91-91DA3FF1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781D6-BFB4-40EE-A54F-DBB9919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A9F40-E8E9-45B8-BBDE-314E8879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258-AE94-4E50-882E-3699C90D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9303D-EF0B-469C-B06A-E0B7DAC6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7429F-3A7F-4872-8104-67762709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0E3A7-6890-4070-A4A0-DAEC837B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FAEDF-6980-46B4-BC35-F7E8E50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659EB-A747-41E3-9D2F-442429AF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1067B-7DFC-4982-B418-D5996177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81A14-95C9-4BF7-9298-90EC1EB2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7A811-6377-4341-832F-2ECFA5E1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453F1-30E2-46D2-A9DE-2DFA4ED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C65F-4E7A-4A0A-8885-C9BE569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6439-39C7-4191-8BC8-758F284A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7F6E1-9425-43D3-B715-5596FBE3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B6379-727A-4513-AC58-86A9D60D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E56D2-BFCD-4065-B7CC-BD7657DF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29842-83D5-4E15-8B3A-96A9479F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D1BCE-B84B-46F1-A150-CBD4AF9C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D2E73-ADD0-427A-8319-E66EB228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1C650-3516-4658-86AF-15BCBE0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37FBA-9B20-499C-913D-2CF52036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1C366-DFC1-4B9C-9F69-CCFF2990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99BF1-830A-4AEB-8E15-4A06D9F0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5C25-FC49-4B47-8739-19D03D62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22EB1-EDC8-4BE6-8050-85203ACE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55537-ADBA-4D06-8220-3DF3DDC1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358C0-F8A5-48D4-A8CB-91A4A0DA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00BDB-EE45-469E-9139-C3427100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4DE10-422D-4CAE-887F-F15BFCED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F878A-1B44-4A2A-9E14-3C5FC142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2FED4-973C-4B63-B568-1EED2869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E9FBE-2656-498C-9D3B-8F429E33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9DBDC-89DC-4D6F-B8D1-8CAB678B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4A0E1-B205-4369-B2C0-C7FDF07F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2518-7EE8-44BB-9F45-5043FE2F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32ED9-174E-4A63-908A-DF864FDF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771D0-12AA-4C4C-B0F7-011D1E6B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339A1-C575-42D8-8638-CFD67DD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AE583-3B8C-4DCB-8E39-FC1B379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4032E-0FB9-4F3D-B11E-D18B58A6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583B1-D0A7-4252-B5A3-8AA5C37D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850D6-13EE-4561-9489-FCF171CC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F1C3-CFFF-49FB-885D-92204869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C039-B933-4999-968A-7F5A1171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B76E-F59F-4785-8509-02F1B314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F294-3EE6-47A5-8A94-AC4ED63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AC9-E66A-439F-91A4-F133C88D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4221-F4E4-4954-9D51-626075A9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6B91-05FA-4EB3-AB4B-3F78C498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E5AC-125D-49E0-93C2-126DBE13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7441-98BD-458A-85B2-835C6CF3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8AB4-4217-4DE4-8216-F5A6E1B9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9ADB-3750-4AFC-813B-F2BD4A0D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A5E2-6BFB-4014-B269-20B65517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0BA2-A500-42E5-9CD9-827B0F46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EBF6-0EFE-424D-9E2C-1C9A53A0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E7E9-EDB6-49A8-8937-7B0E9514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3ED-51EC-408E-A236-DF5A71F3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4D3C-4770-4257-B60E-28C5143A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9355-9EF8-41CB-B720-F1487208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73E1-4C3C-4887-B883-9B44F2D7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4794-B1ED-4108-AD14-E278A46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A136-D8A5-440A-8D43-8973E916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C46C-C7D8-4B61-AACE-7807B603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A279-F13F-4B56-A8BD-62F2192C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2289-8076-424E-A80D-BF6BB1B3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7501-67AA-4736-9E24-F9FFFBC9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F032-B733-4A70-8A79-06641746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D4C-4C10-40A4-936A-4812051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3331-5036-48B4-9349-C21A0AC1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D719-0DB5-4091-83AD-BE54966B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D9E57-35EA-463E-BD1A-0907191E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F355-AABD-445A-A312-78E098C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3C7AC-F874-480E-B35F-80E80FF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344A-7103-4624-86C3-5CCB5F7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BA03-B50F-4985-BE46-EC8FC469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493E5-197C-4471-A643-4C8F07D8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8F4D-6AD4-4C7B-AC23-126CBC81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78396-CFFE-4A12-88A4-0D997684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9CB-BE73-46CA-A30E-63C7CDA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B7AD4-3EF4-4E77-B222-AFD71F21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82BB8-1949-4448-9A55-83416AAB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4BF0-D59B-4A49-A299-23E6B893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B05D8-4A80-4DEA-A815-BA3D96C2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9C323-71D2-4442-9CA2-91A299CC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28270-9B42-494B-A20C-8A08335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84B01-2ABE-4707-B366-0BA81846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9FA2D-00C2-472C-975A-296DAFF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C832-23D2-4B85-BB21-3B125A6F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446D2-70BF-44D0-87A1-CB5F3659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0ED-902F-44BF-827B-572DC096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2D898-68CB-4F30-9C72-8EA08109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1D6D7-2383-4B65-B77E-2A9A36D0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9EECD-B5A0-4B34-80C2-F0EB7744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DADAB-1904-409E-B3E7-AB2A2CD3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6B24F-02FC-470E-A361-35E04312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278AE-EFA4-4F64-A815-AB189548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44E17-A9FA-4BFB-BFAD-422227F9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104FC-9859-4B6B-946A-F20CAC30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AB0DB-75D1-4A7E-9CDB-60778F2B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7C4EA-90DC-4ED8-AB89-DC2A0BB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FFB-7B28-46EA-83B1-25A43E2D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CA10-6D20-4BA3-BE64-1D62E416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32F1-8CDE-44F5-8608-999590F4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57B57-F600-42D8-8154-FBEE6971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AC6F6-E7CD-45C4-B07E-77F11F0B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6EE2-0458-45C6-ACDC-EBE3C8D2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AA8CA-227F-441C-869E-DAA558DB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0976B-9E07-4CA5-8884-FB3B8784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B2ED1-B970-494F-9515-EDC43A37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C7303-A393-46F9-A50C-8A2E7640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EA4E1-434F-4E10-A59D-EC11F745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10F-535B-40D0-8B96-6E940C2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96AE1-9CFB-4531-A7E6-AB3BC5F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0BFF-C698-492C-BA52-8DAF32A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59456-A3F1-4514-83E3-AF6F1591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614A8-3B24-4943-AEC3-3B9045FE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16CCA-E1F6-4E2C-AFD2-DFADB283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A90B1-157C-470F-A8C4-5D90D53F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5F74-106D-4244-AEA1-C5EC4AF0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38BB5-FF79-4717-8612-41C1D0CF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8D4F-8B08-49F3-9FC7-E46E79C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A35DC-E591-4647-B41C-AD975591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0B3-852D-4B32-947C-4D371BD1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04687-6543-4035-80DE-0A20B81E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129D2-5045-4F1E-9A04-23AC4216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4C38E-FD69-4E48-91D9-E2ED554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7A8A9-DCC4-457F-8BB3-B2AE944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B4B91-374A-4559-A75B-04B531A2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D50F-1804-40D5-9840-3BA69315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B195B-D20D-4F35-A5C8-88BB086D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3A59A-E5B2-4421-B404-56A9E159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E3518-3F06-4B88-BD3D-BAF03130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6260F-8762-4F8B-B151-F6091C17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898E-461F-4955-BBB2-B713223198B9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0826-CAA9-4828-A448-242F4B534546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F843-F682-459A-9EDF-A4ADEE3245EE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069E-B40B-4614-A892-356096CA2421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89DA-6BDD-4118-AD3B-0D394882F430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32C7-40A9-4980-AF32-6A6695D33399}" type="slidenum">
              <a:rPr b="0" lang="zh-CN" sz="2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A478-DAC7-4E23-9245-C59BECD8EC0B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29DA-5606-4731-8806-674D21ED275B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ACF8-D61A-40BC-BC95-686F528BFD04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3516-4A30-45C7-97E3-61CF4A3A3206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03D2-C2E1-4EA8-94B3-0BF4EA8AEFD7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35A7-8A40-4E42-A0F7-204D83A6A955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A2D0-546C-4FA5-9204-7D630E0EF7F3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3527280" y="365040"/>
            <a:ext cx="10217160" cy="121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7" descr=""/>
          <p:cNvPicPr/>
          <p:nvPr/>
        </p:nvPicPr>
        <p:blipFill>
          <a:blip r:embed="rId1"/>
          <a:stretch/>
        </p:blipFill>
        <p:spPr>
          <a:xfrm>
            <a:off x="355680" y="1368360"/>
            <a:ext cx="16579800" cy="98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6" descr=""/>
          <p:cNvPicPr/>
          <p:nvPr/>
        </p:nvPicPr>
        <p:blipFill>
          <a:blip r:embed="rId1"/>
          <a:stretch/>
        </p:blipFill>
        <p:spPr>
          <a:xfrm>
            <a:off x="363600" y="1328760"/>
            <a:ext cx="16563960" cy="99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8" descr=""/>
          <p:cNvPicPr/>
          <p:nvPr/>
        </p:nvPicPr>
        <p:blipFill>
          <a:blip r:embed="rId1"/>
          <a:stretch/>
        </p:blipFill>
        <p:spPr>
          <a:xfrm>
            <a:off x="833400" y="1512720"/>
            <a:ext cx="1562436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"/>
          <p:cNvPicPr/>
          <p:nvPr/>
        </p:nvPicPr>
        <p:blipFill>
          <a:blip r:embed="rId1"/>
          <a:stretch/>
        </p:blipFill>
        <p:spPr>
          <a:xfrm>
            <a:off x="860400" y="1440000"/>
            <a:ext cx="15570360" cy="97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"/>
          <p:cNvPicPr/>
          <p:nvPr/>
        </p:nvPicPr>
        <p:blipFill>
          <a:blip r:embed="rId1"/>
          <a:stretch/>
        </p:blipFill>
        <p:spPr>
          <a:xfrm>
            <a:off x="1905120" y="1873080"/>
            <a:ext cx="13480920" cy="88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4"/>
          <p:cNvSpPr/>
          <p:nvPr/>
        </p:nvSpPr>
        <p:spPr>
          <a:xfrm>
            <a:off x="2971800" y="8180280"/>
            <a:ext cx="12201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powerpoint/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0" y="5122800"/>
            <a:ext cx="17281440" cy="258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0" rIns="172800" tIns="86400" bIns="86400" anchor="ctr">
            <a:noAutofit/>
          </a:bodyPr>
          <a:p>
            <a:pPr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图片 9" descr=""/>
          <p:cNvPicPr/>
          <p:nvPr/>
        </p:nvPicPr>
        <p:blipFill>
          <a:blip r:embed="rId8"/>
          <a:stretch/>
        </p:blipFill>
        <p:spPr>
          <a:xfrm>
            <a:off x="3124080" y="658800"/>
            <a:ext cx="10547640" cy="367524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885960" y="5310360"/>
            <a:ext cx="775476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8640720" y="5310360"/>
            <a:ext cx="775512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0" descr="png-0644"/>
          <p:cNvPicPr/>
          <p:nvPr/>
        </p:nvPicPr>
        <p:blipFill>
          <a:blip r:embed="rId9"/>
          <a:stretch/>
        </p:blipFill>
        <p:spPr>
          <a:xfrm>
            <a:off x="5510160" y="5310360"/>
            <a:ext cx="744480" cy="742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png-0652"/>
          <p:cNvPicPr/>
          <p:nvPr/>
        </p:nvPicPr>
        <p:blipFill>
          <a:blip r:embed="rId10"/>
          <a:stretch/>
        </p:blipFill>
        <p:spPr>
          <a:xfrm>
            <a:off x="13671720" y="5310360"/>
            <a:ext cx="7444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3614760" y="431640"/>
            <a:ext cx="10013760" cy="11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386160" y="289080"/>
            <a:ext cx="10344240" cy="123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1"/>
          <a:stretch/>
        </p:blipFill>
        <p:spPr>
          <a:xfrm>
            <a:off x="511200" y="1368360"/>
            <a:ext cx="16268760" cy="97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"/>
          <p:cNvPicPr/>
          <p:nvPr/>
        </p:nvPicPr>
        <p:blipFill>
          <a:blip r:embed="rId1"/>
          <a:stretch/>
        </p:blipFill>
        <p:spPr>
          <a:xfrm>
            <a:off x="393840" y="1440000"/>
            <a:ext cx="16498800" cy="98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5"/>
          <p:cNvSpPr/>
          <p:nvPr/>
        </p:nvSpPr>
        <p:spPr>
          <a:xfrm>
            <a:off x="2016000" y="482436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8" descr=""/>
          <p:cNvPicPr/>
          <p:nvPr/>
        </p:nvPicPr>
        <p:blipFill>
          <a:blip r:embed="rId16"/>
          <a:stretch/>
        </p:blipFill>
        <p:spPr>
          <a:xfrm>
            <a:off x="747720" y="1440000"/>
            <a:ext cx="15795720" cy="96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6" descr=""/>
          <p:cNvPicPr/>
          <p:nvPr/>
        </p:nvPicPr>
        <p:blipFill>
          <a:blip r:embed="rId1"/>
          <a:stretch/>
        </p:blipFill>
        <p:spPr>
          <a:xfrm>
            <a:off x="463680" y="1655640"/>
            <a:ext cx="16349400" cy="97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"/>
          <p:cNvPicPr/>
          <p:nvPr/>
        </p:nvPicPr>
        <p:blipFill>
          <a:blip r:embed="rId1"/>
          <a:stretch/>
        </p:blipFill>
        <p:spPr>
          <a:xfrm>
            <a:off x="852480" y="1512720"/>
            <a:ext cx="1564812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"/>
          <p:cNvPicPr/>
          <p:nvPr/>
        </p:nvPicPr>
        <p:blipFill>
          <a:blip r:embed="rId1"/>
          <a:stretch/>
        </p:blipFill>
        <p:spPr>
          <a:xfrm>
            <a:off x="351000" y="1328760"/>
            <a:ext cx="16589160" cy="99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6:53:07Z</dcterms:created>
  <dc:creator>新教育</dc:creator>
  <dc:description/>
  <dc:language>en-US</dc:language>
  <cp:lastModifiedBy>clf2015</cp:lastModifiedBy>
  <dcterms:modified xsi:type="dcterms:W3CDTF">2015-09-14T07:46:24Z</dcterms:modified>
  <cp:revision>7</cp:revision>
  <dc:subject/>
  <dc:title>幻灯片 1</dc:title>
</cp:coreProperties>
</file>