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11D-9DFC-4811-9AD7-10A73D64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7B5-49A2-4A97-B216-86E3085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E42-68FC-409B-8CC2-2B3187D4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0F4-9B39-4F34-AE35-93ED54A0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44B-3D68-4DE9-876E-9DB1F60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CBD-2875-4EFF-966E-D2E5E36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05C-D1E4-4630-835B-602E402D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D4B-09BA-4897-BA53-94E20EB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158-0D47-46B5-A75D-1CC72ABF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62E-9A0A-41D9-A3B0-E5E5562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A22-0E38-4CD7-896A-6BB161C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A59-A8D4-43F6-B844-B5EBA53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6F09-FE51-4D99-9E7E-45FC3F163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net.com.cn/eschool/includes/zhuanti/cg/100DScan/441551/img09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at.chinaren.com/person/plist-802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20120" cy="41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479736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徐悲鸿励志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36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了让外国人重新认识中国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祖国争光。徐悲鸿励志学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62064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徐悲鸿更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奋发努力。他像一匹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知疲倦的骏马，日夜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驰，勇往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24480" cy="46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5040000" cy="2474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122076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他像一匹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知疲倦的骏马，日夜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驰，勇往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3808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他像一匹不知疲倦的骏马，日夜奔驰，勇往直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004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86200" y="396252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这句话把他比喻成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从哪些地方可以看出他是这样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-1900440"/>
            <a:ext cx="854064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612720" y="2565360"/>
            <a:ext cx="9361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74880" y="191628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的生活十分清苦。他只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一间小阁楼，经常每餐只用一杯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开水和两片面包，为的是省下钱来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买绘画用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2000" y="404640"/>
            <a:ext cx="691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怎么励志学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421000"/>
            <a:ext cx="8137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勤学苦练，抓紧一切时间学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活清苦，省钱购买绘画用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功夫不负有心人。三年过去了，徐悲鸿在巴黎高等美术学校以优异的成绩通过了结业考试。他创作的油画在巴黎展出时，轰动了整个画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76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励志学画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47000" y="692280"/>
            <a:ext cx="6122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个外国学生，看了徐悲鸿的作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非常震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找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鞠了一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承认中国人是很有才能的。看来我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一个错误，用中国话来说，那就是‘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眼不识泰山’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夫不负有心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功夫：时间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有心人：用心做事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做事只要下功夫就能取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本文指徐悲鸿生活清苦，抓紧一切时间画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最后取得优异成绩，画展轰动画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19280" y="549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把他比成骏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最能体现他奋发努力，勇往直前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活清苦和学画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衬托他学画的艰难和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正的中国人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有骨气的，有自尊的中国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260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悲鸿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~195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），汉族，江苏宜兴人。中国现代美术事业的奠基者，杰出的画家和美术教育家。他常画的奔马、雄狮、晨鸡等，给人以生机和力量，表现了令人振奋的积极精神。尤其他的奔马，更是驰誉世界，成了现代中国画的象征和标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4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62064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徐悲鸿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励志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5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楷体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什么要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怎么励志学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励志学画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04640"/>
            <a:ext cx="88930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读课文，做到读通，读顺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课文分三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励志学画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励志学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励志学画的结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2133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2852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3429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0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课文的主要内容，尽量用上以下词语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嫉妒    礼貌    激怒    励志   疲倦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陈列    临摹    优异    承认   震惊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268280"/>
            <a:ext cx="75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    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    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成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承认    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错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励志     达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嫉妒    礼貌     优异     省 钱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摹    震惊     激怒     轰动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眼不识泰山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巴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54936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一天，一个外国学生很不礼貌地冲着徐悲鸿说：“徐先生，我知道达仰很看重你，但你别以为进了达仰的门就能当画家。你们中国人就是到天堂去深造，也成不了才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0" y="685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5300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对中国人歧视和偏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48680" y="1125360"/>
            <a:ext cx="5389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悲鸿被激怒了，但是他知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靠争论是无法改变别人的无知和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的，必须用事实让他们重新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5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真正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真正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869000"/>
            <a:ext cx="52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骨气的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9:52Z</dcterms:created>
  <dc:creator>dell</dc:creator>
  <dc:description/>
  <dc:language>en-US</dc:language>
  <cp:lastModifiedBy>dell</cp:lastModifiedBy>
  <dcterms:modified xsi:type="dcterms:W3CDTF">2013-09-24T00:58:52Z</dcterms:modified>
  <cp:revision>11</cp:revision>
  <dc:subject/>
  <dc:title>幻灯片 1</dc:title>
</cp:coreProperties>
</file>