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33A-359C-4D09-80CE-69A778CF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7C5-C96D-4A60-96E6-1EDC5F79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6DA-ECBB-41C3-9825-558E3816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AEB-BE6E-4625-BAB1-52ECCDD8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41E-7B0A-44A6-B295-6B056F63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FC8-C9E7-4D9A-B42E-3C3E5366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A3C-A23F-4F25-A685-C6003617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DC8-E7A9-448B-A84F-00A37EA6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9CF-6D80-49A0-89EF-DBFD2886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E72-198D-4ADF-B117-DB8267F0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969-E242-434F-9A76-45D6BDA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762-5990-435A-A88C-24F9981F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52B4-FD5B-49E0-B117-1ABA4DE6FC0B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527280" y="55440"/>
            <a:ext cx="10298160" cy="12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216000" y="936720"/>
            <a:ext cx="16849800" cy="110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672000" y="415800"/>
            <a:ext cx="9432720" cy="119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176720" y="431640"/>
            <a:ext cx="9255240" cy="12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557520" y="-1440"/>
            <a:ext cx="10166400" cy="129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600360" y="14400"/>
            <a:ext cx="10068120" cy="128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548160" y="-30240"/>
            <a:ext cx="10185480" cy="13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592440" y="69840"/>
            <a:ext cx="10096560" cy="128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736800" y="-1440"/>
            <a:ext cx="9807840" cy="129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643200" y="41400"/>
            <a:ext cx="9995040" cy="128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797280" y="-25560"/>
            <a:ext cx="9686880" cy="13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4400" y="552600"/>
            <a:ext cx="17262360" cy="118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527280" y="79200"/>
            <a:ext cx="10226880" cy="128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586320" y="27000"/>
            <a:ext cx="10109160" cy="129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527280" y="79200"/>
            <a:ext cx="10226880" cy="128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382920" y="65160"/>
            <a:ext cx="10515600" cy="128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746520" y="0"/>
            <a:ext cx="9740880" cy="128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73080" y="1258920"/>
            <a:ext cx="16921080" cy="1065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519280" y="540072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9"/>
          <a:stretch/>
        </p:blipFill>
        <p:spPr>
          <a:xfrm>
            <a:off x="511200" y="1008000"/>
            <a:ext cx="16257600" cy="107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16000" y="1100160"/>
            <a:ext cx="16849800" cy="108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31640" y="912960"/>
            <a:ext cx="16345080" cy="1091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31640" y="1066680"/>
            <a:ext cx="16489440" cy="1089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60360" y="1065240"/>
            <a:ext cx="16560720" cy="1083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59:21Z</dcterms:created>
  <dc:creator>新教育</dc:creator>
  <dc:description/>
  <dc:language>en-US</dc:language>
  <cp:lastModifiedBy>clf2015</cp:lastModifiedBy>
  <dcterms:modified xsi:type="dcterms:W3CDTF">2015-09-14T07:55:47Z</dcterms:modified>
  <cp:revision>10</cp:revision>
  <dc:subject/>
  <dc:title>幻灯片 1</dc:title>
</cp:coreProperties>
</file>