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BD6-0CDD-40EA-A335-CB0F3955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C5D-571F-4EF9-AF32-F126B23A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337-53AE-43FB-A0DB-30A83649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E7B-FC3B-44C4-9B26-CA7AEB7C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8EE-0F67-4C93-8C9E-F1394A0B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AAD-89EE-4146-A1FA-A18D91B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52D-0045-420F-885F-85D21D92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91B-B57C-4E64-A68D-4686671E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F3B-B756-4977-8887-683742F0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796-C39C-4014-AC55-EF01BA5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DA5-3F34-4C6D-A479-ADB50988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967-5DD6-4F8B-A1D8-2025462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33D-A62C-431A-AA3A-F13F6D834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9072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各位家长，</a:t>
            </a:r>
            <a:br>
              <a:rPr sz="8000"/>
            </a:b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晚上好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457200"/>
          <a:ext cx="8305920" cy="579132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990720"/>
                <a:gridCol w="914400"/>
                <a:gridCol w="923760"/>
                <a:gridCol w="1038240"/>
                <a:gridCol w="1038240"/>
                <a:gridCol w="1038240"/>
              </a:tblGrid>
              <a:tr h="89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二、三单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复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四单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测试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测试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江嘉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倪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丽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汪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方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次期中考试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没有考出自己水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发挥失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涛，汪磊，张林娟，张丽珍，方子涵，李思婷，黄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059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学期来上课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很不认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陈聪、涂玉屏、姚家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动作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学习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没有积极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唐星怡、陈梦洁、厉佳莹、杨杰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基础知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不够好的有</a:t>
            </a: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俞梦娇，唐星怡，金海燕，冯佳鲁，冯思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762120"/>
            <a:ext cx="8610480" cy="393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坚持在第一时间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做题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坚持在第一时间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询问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反映出良好的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学习习惯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态度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非常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18240"/>
            <a:ext cx="83818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76520" y="2209680"/>
            <a:ext cx="571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请家长加强关注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609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、不要把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为自己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但忙的目的也是为了孩子能够生活地更加  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36232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交谈；多陪伴；少唠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、多关注孩子的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内心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年龄的孩子想法很奇怪，也很有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类学生的复习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1480" y="1371600"/>
            <a:ext cx="460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础较好的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搜集错题，提出要求，以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更高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大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难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量，可以做一些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奥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，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坚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9000" y="2895480"/>
            <a:ext cx="538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中等的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整理错误，找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错误原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严格按老师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方法进行解题。仔细认真，不出现低级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6880" y="4495680"/>
            <a:ext cx="213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较差的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端正思想，认真从基础做起。围绕书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行强化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ff"/>
                </a:solidFill>
                <a:latin typeface="Arial"/>
              </a:rPr>
              <a:t>每天进步一点</a:t>
            </a:r>
            <a:r>
              <a:rPr b="0" lang="zh-CN" sz="6000" spc="-1" strike="noStrike">
                <a:solidFill>
                  <a:srgbClr val="cc00ff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3733920"/>
            <a:ext cx="60962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让孩子喊出口号吧：</a:t>
            </a:r>
            <a:br>
              <a:rPr sz="5400"/>
            </a:br>
            <a:r>
              <a:rPr b="0" lang="zh-CN" sz="7200" spc="-1" strike="noStrike">
                <a:solidFill>
                  <a:srgbClr val="cc00ff"/>
                </a:solidFill>
                <a:latin typeface="Arial"/>
              </a:rPr>
              <a:t>“我要提高</a:t>
            </a:r>
            <a:r>
              <a:rPr b="0" lang="zh-CN" sz="72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zh-CN" sz="7200" spc="-1" strike="noStrike">
                <a:solidFill>
                  <a:srgbClr val="cc00ff"/>
                </a:solidFill>
                <a:latin typeface="Arial"/>
              </a:rPr>
              <a:t>分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Arial"/>
              </a:rPr>
              <a:t>要求：到期末每人提高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zh-CN" sz="6000" spc="-1" strike="noStrike">
                <a:solidFill>
                  <a:srgbClr val="cc00ff"/>
                </a:solidFill>
                <a:latin typeface="Arial"/>
              </a:rPr>
              <a:t>分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联 系 电 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数学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俞老师：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138680735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79560" y="2895480"/>
            <a:ext cx="5267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是感谢你们在百忙之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到这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老师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讨孩子的教育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是感谢你们平时在工作上对我的理解和支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1143000"/>
            <a:ext cx="1904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感谢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0000" spc="-1" strike="noStrike">
                <a:solidFill>
                  <a:srgbClr val="ff0066"/>
                </a:solidFill>
                <a:latin typeface="Arial"/>
              </a:rPr>
              <a:t>谢谢大家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zh-CN" sz="10000" spc="-1" strike="noStrike">
                <a:solidFill>
                  <a:srgbClr val="ff0066"/>
                </a:solidFill>
                <a:latin typeface="Arial"/>
              </a:rPr>
              <a:t>再见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俞晓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4572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进入六年级就意味着学习生活面临最紧张最激烈的开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一方面渴望自己的努力能得到自我价值的肯定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一方面各种压力又使得他们不得不面对各种矛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9625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在众多矛盾面前，有些孩子不会识别主次，分不清轻重缓急，于是就开始手忙脚乱，情绪失控，心态极易变得消沉，表现出做事注意力不集中，记忆力下降，忙，却效率低下，甚至出现心智的逐渐退化，形成恶性循环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6520" y="3048120"/>
            <a:ext cx="571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孩子是辛苦的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533520"/>
            <a:ext cx="3962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孩子的变化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3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的积极性、态度出现两极分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800" y="3352680"/>
            <a:ext cx="8229600" cy="1295640"/>
            <a:chOff x="685800" y="3352680"/>
            <a:chExt cx="8229600" cy="1295640"/>
          </a:xfrm>
        </p:grpSpPr>
        <p:sp>
          <p:nvSpPr>
            <p:cNvPr id="50" name=""/>
            <p:cNvSpPr/>
            <p:nvPr/>
          </p:nvSpPr>
          <p:spPr>
            <a:xfrm>
              <a:off x="685800" y="335268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生理、心理方面变化带来的现象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1143000" y="4191120"/>
              <a:ext cx="1752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审美问题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505320" y="4191120"/>
              <a:ext cx="1752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朦胧问题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5943600" y="4191120"/>
              <a:ext cx="1752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毕业问题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2101680"/>
            <a:ext cx="67816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进步明显的同学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江玟、周鹏鹏、李思婷、陈鸿凯、方子涵、楼聪聪、江嘉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学期来共进行了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测试，以下是同学们进入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前十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次数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沈澍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楼聪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子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嘉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丽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学期来共进行了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测试，以下是同学们进入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前十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杨泽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周鹏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汪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厉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太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陈冰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学期来共进行了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测试，以下是同学们进入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前十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淑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嘉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天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江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一次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梦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一次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其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第一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838080"/>
          <a:ext cx="8229600" cy="531000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723960"/>
                <a:gridCol w="1028520"/>
                <a:gridCol w="1028880"/>
                <a:gridCol w="1028520"/>
                <a:gridCol w="1028880"/>
                <a:gridCol w="1028520"/>
              </a:tblGrid>
              <a:tr h="13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单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二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单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复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四单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测试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测试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考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厉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楼聪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澍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8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太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15T13:43:1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