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4.jpeg" ContentType="image/jpeg"/>
  <Override PartName="/ppt/media/image21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6.png" ContentType="image/png"/>
  <Override PartName="/ppt/media/image12.jpeg" ContentType="image/jpeg"/>
  <Override PartName="/ppt/media/image2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32.gif" ContentType="image/gif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44D1-AA8C-455B-950C-A34E4821D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90B7-EDFB-4B68-9B0F-334BAA49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5CB6-511B-4633-9AD9-CF6962AAA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F967-68E2-4FB1-BA1A-56D33B50C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9AB5-B34B-463B-87AC-C048DC40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3BCB-7EF5-48E8-A41A-C1378E04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14CD-A0AC-45B7-B81C-035B1CCC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821B-27E4-4561-9D9B-AFA6815D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3498-BC70-4B4A-BBD0-32D01E62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A6EF-EC8D-4913-9B83-D71A1038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4995-C60A-409F-8475-0290036F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7400-CE85-4E45-BE77-D77AF6CD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1E4A-FCF2-470F-96BD-9F6CD16A49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26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533520"/>
            <a:ext cx="9144000" cy="7391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114800" y="4572000"/>
            <a:ext cx="632448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三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中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主持人 ：杨  畅     周瑞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辅导员 ：段利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228600"/>
            <a:ext cx="739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Arial"/>
              </a:rPr>
              <a:t>节约用水，从我做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3" descr="6ac026027c3918387bec2c0d[1].jpg"/>
          <p:cNvPicPr/>
          <p:nvPr/>
        </p:nvPicPr>
        <p:blipFill>
          <a:blip r:embed="rId1"/>
          <a:stretch/>
        </p:blipFill>
        <p:spPr>
          <a:xfrm>
            <a:off x="4800600" y="1257480"/>
            <a:ext cx="4343400" cy="5067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1295280"/>
            <a:ext cx="4495680" cy="4496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62120" y="59436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鱼也如此，人何以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8229600" cy="20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受持续干旱影响，云南九大高原湖泊湖容量减少近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亿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5562720"/>
            <a:ext cx="914400" cy="12952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zoom dir="ou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随着干旱越来越严峻，人民生活越来越恶劣，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不畏艰难千里求水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4680000" cy="49975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364000" y="1197000"/>
            <a:ext cx="3780000" cy="51800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590920" y="6248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艰辛的背水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渴求的目光，对着天空凝视，老天啊！何时才会下雨呢，我的地都变焦了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04920" y="1628640"/>
            <a:ext cx="8305560" cy="5040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本来生活就不好的农民，加上干旱的折磨，真是雪上加霜，苦不堪言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2852640"/>
            <a:ext cx="133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257800" y="121932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Tahoma"/>
              </a:rPr>
              <a:t>水啊！农民伯伯们需要水，他们需要水才能种植好庄稼，养活自己</a:t>
            </a:r>
            <a:r>
              <a:rPr b="0" lang="zh-CN" sz="2400" spc="-1" strike="noStrike">
                <a:solidFill>
                  <a:srgbClr val="ff00ff"/>
                </a:solidFill>
                <a:latin typeface="Tahom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381560" y="2971800"/>
            <a:ext cx="4762440" cy="36291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2008080"/>
            <a:ext cx="3962520" cy="43624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plit dir="out" orient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029200" y="457200"/>
            <a:ext cx="4114800" cy="3184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52280" y="304920"/>
            <a:ext cx="4038840" cy="6333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465800" y="3733920"/>
            <a:ext cx="4678200" cy="29718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343400" y="380880"/>
            <a:ext cx="45864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71400" y="457200"/>
            <a:ext cx="6069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珍贵的泥黄色水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3" descr="29_1269918615_2850120[1].jpg"/>
          <p:cNvPicPr/>
          <p:nvPr/>
        </p:nvPicPr>
        <p:blipFill>
          <a:blip r:embed="rId1"/>
          <a:stretch/>
        </p:blipFill>
        <p:spPr>
          <a:xfrm>
            <a:off x="4572000" y="304920"/>
            <a:ext cx="4419720" cy="3200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33520" y="3886200"/>
            <a:ext cx="82296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据最新资料报道： 截止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2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日，此次西南大旱已致使广西、重庆、四川、贵州、云南省（区）受灾人口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6130.6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万人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1807.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万人饮水困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24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日，中央气象台继续发布干旱黄色预警，西南旱区旱情将继续发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3886200" cy="3276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966120" y="685800"/>
            <a:ext cx="667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我渴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10160" cy="3886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80880" y="5105520"/>
            <a:ext cx="3886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3581280"/>
            <a:ext cx="3733920" cy="3276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876920" y="0"/>
            <a:ext cx="426708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523880" y="2743200"/>
            <a:ext cx="716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80680" y="380880"/>
            <a:ext cx="139932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生活中浪费水的现象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8" descr="4320a06484c3cdd1f636541f"/>
          <p:cNvPicPr/>
          <p:nvPr/>
        </p:nvPicPr>
        <p:blipFill>
          <a:blip r:embed="rId1"/>
          <a:stretch/>
        </p:blipFill>
        <p:spPr>
          <a:xfrm>
            <a:off x="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733920" y="60948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ff"/>
                </a:solidFill>
                <a:latin typeface="Arial"/>
              </a:rPr>
              <a:t>节水的办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67080" y="25146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各小组可以说节水妙招、写节水口号、画宣传画、诗歌朗诵、写倡议书等形式来表现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057400" y="228600"/>
            <a:ext cx="495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节水口号（格言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09480" y="228600"/>
            <a:ext cx="81536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节水拍手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清清流水别糟蹋，节约用水靠大家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用水之时拧开匣，洗完手后关紧它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洗涤瓜果用盆装，洗好衣服擦门窗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洗完脸后洗鞋袜，淘完米后再浇花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关掉龙头擦香皂，节约用水来洗澡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洗完澡后擦地板，洗车改用湿布擦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龙头损坏及时换，严格预防清水冒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大家动手来环保，果皮纸屑不乱倒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流水清清源不断，家园环境更美好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合理使用不匮乏，节约用水人人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9640" y="115920"/>
            <a:ext cx="8569440" cy="46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活动程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集队、清点人数、报告人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出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、 唱队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四、中队长讲话，宣布活动开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52480" y="60199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出旗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57150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640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28600" y="0"/>
            <a:ext cx="86868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《 水，是生命之源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水是生命之源，她像乳汁般甘甜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她让森林青翠欲滴，她使花朵缤纷灿烂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她让小鸟歌唱婉转，她使大地生机盎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命从水中走来，一代代生息繁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那是生命的源泉，生命从水中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珍惜宝贵的水源吧，一代代生息繁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水是生命之源，请珍惜每一滴水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浪费会让森林失去绿色，挥霍将使鲜花不再灿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果地球上不再有水，鸟儿将没有婉转的歌唱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球上也不再有人类的出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珍惜宝贵的水源吧，那是生命的源泉！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562720" y="57913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858000" y="0"/>
            <a:ext cx="251460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200253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30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作品赏析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4" descr="683397"/>
          <p:cNvPicPr/>
          <p:nvPr/>
        </p:nvPicPr>
        <p:blipFill>
          <a:blip r:embed="rId2"/>
          <a:stretch/>
        </p:blipFill>
        <p:spPr>
          <a:xfrm>
            <a:off x="250920" y="2133720"/>
            <a:ext cx="4537080" cy="4395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5" descr="2007042414145626159(1)"/>
          <p:cNvPicPr/>
          <p:nvPr/>
        </p:nvPicPr>
        <p:blipFill>
          <a:blip r:embed="rId3"/>
          <a:stretch/>
        </p:blipFill>
        <p:spPr>
          <a:xfrm>
            <a:off x="4932360" y="333360"/>
            <a:ext cx="3887640" cy="61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2340000" y="2133720"/>
            <a:ext cx="4724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8000"/>
                </a:solidFill>
                <a:latin typeface="华文行楷"/>
              </a:rPr>
              <a:t>生命的甘露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8000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66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916360" y="515772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地球只剩下最后一滴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84720" y="566100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那将是我们的眼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1905120" y="62485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80880" y="228600"/>
            <a:ext cx="8382240" cy="47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倡议书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亲爱的老师们、同学们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你们好 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水，是一切生命的源泉。有了它，才构建了这个蔚蓝的星球；有了它，整个世界有了生命的气息；有了它，我们的世界变得生机盎然；有了它，我们才有了秀美的山川，清澈的溪水，湛蓝的海洋……，我们才有了一切。 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当前，我们面临着水资源短缺的困扰：水危机已经严重威胁人类的生命。借此“节约用水，从我做起”主题队会之际，我们小队向全体师生发出如下倡议： 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、避免大开水龙头，提倡使用脸盆洗脸、洗手；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、用完水后要及时拧紧水龙头，防止滴水、漏水，避免长流水现象；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、提倡对水资源的充分、反复的利用；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、增强节水意识，敢于同一切不良用水行为做斗争； 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、从节约一滴水开始，树立勤俭节约的美德。 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       “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节约每一滴水，关爱生命之源，造福未来”。让我们告诉身边的每一个人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爱一滴水就是爱全世界！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让我们一起行动起来吧！    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                       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城南小学三（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）中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                           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2012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年 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月 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日 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28600" y="0"/>
            <a:ext cx="8569440" cy="46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六、中队长请辅导员指导、小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七、辅导员带领队员呼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八、退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九、中队长宣布活动结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61722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退旗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28600" y="5943600"/>
            <a:ext cx="11430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179905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476360" y="1413000"/>
            <a:ext cx="5111640" cy="24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1ffff"/>
                    </a:gs>
                    <a:gs pos="100000">
                      <a:srgbClr val="0a15f6"/>
                    </a:gs>
                  </a:gsLst>
                  <a:path path="rect">
                    <a:fillToRect l="50000" t="50000" r="50000" b="50000"/>
                  </a:path>
                </a:gradFill>
                <a:latin typeface="楷体_GB2312"/>
              </a:rPr>
              <a:t>谢谢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1ffff"/>
                  </a:gs>
                  <a:gs pos="100000">
                    <a:srgbClr val="0a15f6"/>
                  </a:gs>
                </a:gsLst>
                <a:path path="rect">
                  <a:fillToRect l="50000" t="50000" r="50000" b="50000"/>
                </a:path>
              </a:gradFill>
              <a:latin typeface="楷体_GB2312"/>
              <a:ea typeface="楷体_GB2312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4952880"/>
            <a:ext cx="9144000" cy="19051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150640" y="380880"/>
            <a:ext cx="45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感谢各位老师的光临和指导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4560" y="228600"/>
            <a:ext cx="8569440" cy="55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活动程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集队、清点人数、报告人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出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、 唱队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四、中队长讲话，宣布活动开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4876920"/>
            <a:ext cx="373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五、活动过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60199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队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838080" y="5791320"/>
            <a:ext cx="91440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11439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828800" y="1600200"/>
            <a:ext cx="541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Arial"/>
              </a:rPr>
              <a:t>说说水的作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380880"/>
            <a:ext cx="8991720" cy="6000480"/>
            <a:chOff x="152280" y="380880"/>
            <a:chExt cx="8991720" cy="6000480"/>
          </a:xfrm>
        </p:grpSpPr>
        <p:grpSp>
          <p:nvGrpSpPr>
            <p:cNvPr id="56" name=""/>
            <p:cNvGrpSpPr/>
            <p:nvPr/>
          </p:nvGrpSpPr>
          <p:grpSpPr>
            <a:xfrm>
              <a:off x="546120" y="380880"/>
              <a:ext cx="8466120" cy="3782160"/>
              <a:chOff x="546120" y="380880"/>
              <a:chExt cx="8466120" cy="3782160"/>
            </a:xfrm>
          </p:grpSpPr>
          <p:pic>
            <p:nvPicPr>
              <p:cNvPr id="57" name="20061125203757244" descr=""/>
              <p:cNvPicPr/>
              <p:nvPr/>
            </p:nvPicPr>
            <p:blipFill>
              <a:blip r:embed="rId1"/>
              <a:srcRect l="0" t="4417" r="0" b="0"/>
              <a:stretch/>
            </p:blipFill>
            <p:spPr>
              <a:xfrm>
                <a:off x="546120" y="536760"/>
                <a:ext cx="4922280" cy="343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043760" y="2722320"/>
                <a:ext cx="1575000" cy="144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5271480" y="380880"/>
                <a:ext cx="3740760" cy="1717200"/>
              </a:xfrm>
              <a:prstGeom prst="cloudCallout">
                <a:avLst>
                  <a:gd name="adj1" fmla="val -8773"/>
                  <a:gd name="adj2" fmla="val 103962"/>
                </a:avLst>
              </a:prstGeom>
              <a:solidFill>
                <a:srgbClr val="ffe1e1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观察图示，想一想还有哪些生产、生活中需要水资源？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152280" y="4283280"/>
              <a:ext cx="8991720" cy="2098080"/>
              <a:chOff x="152280" y="4283280"/>
              <a:chExt cx="8991720" cy="2098080"/>
            </a:xfrm>
          </p:grpSpPr>
          <p:sp>
            <p:nvSpPr>
              <p:cNvPr id="61" name=""/>
              <p:cNvSpPr/>
              <p:nvPr/>
            </p:nvSpPr>
            <p:spPr>
              <a:xfrm>
                <a:off x="152280" y="4283280"/>
                <a:ext cx="8860320" cy="2028960"/>
              </a:xfrm>
              <a:prstGeom prst="foldedCorner">
                <a:avLst>
                  <a:gd name="adj" fmla="val 12500"/>
                </a:avLst>
              </a:prstGeom>
              <a:solidFill>
                <a:srgbClr val="ffe1e1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人类在生产与生活中需要水资源的地方是：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学校里……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公园里……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医院里……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5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               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                                                  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437600" y="5219640"/>
                <a:ext cx="1706400" cy="1161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752480" y="1752480"/>
            <a:ext cx="655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了解水资源状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458200" cy="6324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4400" y="914400"/>
            <a:ext cx="4586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7480" y="685800"/>
            <a:ext cx="7898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be0e3"/>
                </a:solidFill>
                <a:latin typeface="Arial"/>
              </a:rPr>
              <a:t>水资源危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219320" y="20574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Arial"/>
              </a:rPr>
              <a:t>交流水资源的相关信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219320" y="17524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ff"/>
                </a:solidFill>
                <a:latin typeface="Arial"/>
              </a:rPr>
              <a:t>了解云南的旱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雨林木风</cp:lastModifiedBy>
  <dcterms:modified xsi:type="dcterms:W3CDTF">2012-06-07T17:09:35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