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215-62EF-43E0-98BC-2AE80CA5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7F4-FC63-42A2-9803-D26BF18F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3EC-EA3B-452D-9653-98E357BD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FE4-EA96-4DC4-8414-6325E9E7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1BA2-9DC1-47D9-9EB4-00CDE294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23AA-6051-4317-980A-607D1FCC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DD4D-CD07-4898-844E-32A5F7B6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DEA1-E860-4A31-97CB-D04B80D6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606A-F213-4BBC-BDEF-B12D4C83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A8DD-484D-427F-9024-37AD098C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9522-239D-4357-85E1-1E3E4D17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0BC-9F40-4182-87A7-A73819AC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569C-141C-489D-A879-3B9BCBA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465E-5D41-4654-8501-04B21F2F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F13C-144D-47C9-9BDF-6CCCF621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440F-B508-4D20-BBF3-5A768BBB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7D58-3DC3-442B-94F5-D8D28E36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09D-EB36-44CE-8D46-CAACAB8C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2F5-6BD1-4855-9522-A5247106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865-8F2A-4505-94B8-1B0C113A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1E6-04B9-4398-BE8E-E6B18AFB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D31-C7F8-43EB-AC70-F97370F1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213-EB5A-4328-83F3-2E80642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C36-F4A2-4E05-A765-AC7EA357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665C-289F-4B8C-BD59-AA154D24A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A2C7-58DA-4239-80EB-78B58AB720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82800" y="692280"/>
            <a:ext cx="6361200" cy="5776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476360" y="2349360"/>
            <a:ext cx="6443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微软雅黑"/>
              </a:rPr>
              <a:t>节约水资源</a:t>
            </a:r>
            <a:endParaRPr b="0" lang="en-US" sz="66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1341360"/>
            <a:ext cx="708660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cc99"/>
                </a:solidFill>
                <a:latin typeface="宋体"/>
              </a:rPr>
              <a:t>普定县实验学校六（</a:t>
            </a:r>
            <a:r>
              <a:rPr b="1" lang="en-US" sz="1800" spc="1" strike="noStrike">
                <a:ln w="0">
                  <a:noFill/>
                </a:ln>
                <a:solidFill>
                  <a:srgbClr val="ffcc99"/>
                </a:solidFill>
                <a:latin typeface="宋体"/>
              </a:rPr>
              <a:t>2</a:t>
            </a:r>
            <a:r>
              <a:rPr b="1" lang="zh-CN" sz="1800" spc="1" strike="noStrike">
                <a:ln w="0">
                  <a:noFill/>
                </a:ln>
                <a:solidFill>
                  <a:srgbClr val="ffcc99"/>
                </a:solidFill>
                <a:latin typeface="宋体"/>
              </a:rPr>
              <a:t>）班主题班会</a:t>
            </a:r>
            <a:endParaRPr b="1" lang="en-US" sz="1800" spc="1" strike="noStrike">
              <a:ln w="0">
                <a:noFill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5661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熊辅弼     编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9079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下面请听相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洗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916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呦，这不是小红吗？好久没见了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是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呵，我刚发现，今天穿的衣服挺精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嗨，这哪是精神啊！这是因为洗衣服洗得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怎么洗的？把秘诀给我传授传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成！（快速说）先用狗牌洗衣粉打一遍，将水龙头开至最大哗哗一冲，这是第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噢，这是第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（快速地）再把兔牌领洁净喷上，放一大盆水，以每秒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800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公里的速度将衣服扔进盆中，双手迅速抓住衣领口大喊：洗刷刷，洗刷刷，喔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   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呵，还带唱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87280" y="1197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下面请听相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洗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20500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（放慢语速）猛搓衣服。只见晶莹的水花四溅飞扬，（深情地说）整间屋子都湿了，连澡都一块儿洗了（感动地说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您等会儿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嗯？怎么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您这一盆水是多少水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没多少，就一浴盆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这还没有多少呢！不行，你太浪费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（咄咄逼人地说）怎么不行，怎么不行！日本鬼子被赶走了，人民当家做主人了，全民幸福奔小康了，我家洗衣服多用点水咋了！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6000" y="4046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下面请听相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洗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41360"/>
            <a:ext cx="835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俗话说得好，穷啥不能穷教育，苦啥不能苦孩子，费啥不能费水源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那你是怎么洗衣服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我把衣服放在水池子里，将水龙头轻抬</a:t>
            </a:r>
            <a:r>
              <a:rPr b="1" lang="en-US" sz="2400" spc="-1" strike="noStrike">
                <a:solidFill>
                  <a:srgbClr val="33cc33"/>
                </a:solidFill>
                <a:latin typeface="宋体"/>
              </a:rPr>
              <a:t>2.25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毫米，等</a:t>
            </a:r>
            <a:r>
              <a:rPr b="1" lang="en-US" sz="2400" spc="-1" strike="noStrike">
                <a:solidFill>
                  <a:srgbClr val="33cc33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秒后会滴出一滴水珠，一定要调整好衣服的位置，让水珠正好滴在污渍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那其他地方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干搓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啊？干搓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是啊！这样多省水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我的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哈哈，咱们还是好好洗衣服吧，既别浪费，也别用水珠洗衣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对！在节约的前提下把衣服洗干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6361200" cy="577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64000" y="3429000"/>
            <a:ext cx="2520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主任讲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6361200" cy="5776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92360" y="4292640"/>
            <a:ext cx="252108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会结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16360" y="1773360"/>
            <a:ext cx="396072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32000" y="5445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宁波下雨天用水枪冲洗小区路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43280" y="5445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来水龙头没人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551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盗用消防栓水洗衣服造成水资源浪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63640" y="5300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给我的宠物洗澡，太爽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68360" y="5300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这样洗车节约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5640" y="5229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泼吧泼吧！好过瘾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5445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哗，哗，哗，什么也不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119700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下面请听“三句半”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保护水资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989000"/>
            <a:ext cx="24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茫茫宇宙大无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恒星行星万万千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只有地球才有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真可怜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地球上面水挺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就是太咸没法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淡水只有一丁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靠它活！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地球淡水本就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若再浪费不得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防止污染节约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保保保！    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916280"/>
            <a:ext cx="295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中国地大物又博，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别忘人口也最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人均有水相对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有啥招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普定夜郎湖来绿水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咱安顺人民的水葫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千方百计防污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护护护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要想节水办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一水多用是法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1916280"/>
            <a:ext cx="2592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淘米洗菜浇花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冲厕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自来水管真方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又能洗来又能涮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谁要把它瞎糟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咱们和他把账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对对对！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谁要把它瞎糟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我们和他把账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把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账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算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20:37Z</dcterms:created>
  <dc:creator>Administrator</dc:creator>
  <dc:description/>
  <cp:keywords/>
  <dc:language>en-US</dc:language>
  <cp:lastModifiedBy>User</cp:lastModifiedBy>
  <cp:lastPrinted>1899-12-30T00:00:00Z</cp:lastPrinted>
  <dcterms:modified xsi:type="dcterms:W3CDTF">2011-11-02T17:02:50Z</dcterms:modified>
  <cp:revision>6</cp:revision>
  <dc:subject/>
  <dc:title>保护水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