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1CA-1DC2-4B23-8B16-68FBF18A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BD38-25E0-4EB4-914A-2605B09D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C808-B18B-4A86-863A-85374178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69F-D5E1-4500-A9D6-9ED652C4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2CC0-28BC-43FD-890E-E9CA344C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AFD6-4351-43F8-8C82-E4336514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A57C-AEDC-436C-B61F-656F7DF3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7159-78A1-43D6-906B-DE535EE5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DC3E-3229-467F-A191-CD22F04C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DCCB-4070-4B04-895B-22675209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AAA9-DC14-49BE-8DE0-5D7DAFB2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4E1B-C191-4274-B087-5FD01359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7F2A-D92A-4A20-AC64-6982C8A4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BC14-463C-4195-9365-8550B4F9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5610-A711-4332-A49D-5F34D159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CCD9-C62B-4BDC-A2F3-508FB0FA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CA01-2E45-4972-B3AF-B71F26B2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B3BC0-FBA2-41A3-B8F1-8B15155F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BC3D1-F6B4-4A8B-848A-0F1A469D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EBC27-B19D-4BE2-999F-890BA87B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79716-DAB1-49F5-BAE2-805CB162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F0B27-49D3-42F6-BCB3-19C98AD6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6EF9-09AB-4F7B-BF64-A77024E8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3CD77-D615-44E9-BEC8-F35F6F2F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54909-8845-40EB-897E-4E9727F7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1BC64-EFC3-49A5-A064-E3C30F17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31D60-2B6C-466C-9AB5-E574E6BF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CB609-2027-486B-80BC-1344F7F7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9D42C-9643-453D-A0D7-E3154212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DA931-5160-43F8-A652-6F3F2391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9730-9952-4843-81F4-99150D11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3BA5-143E-46E2-A373-568BC89D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384-E95A-4580-91A7-FFBFBDBD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E44-DFC0-4994-AFAB-1777E359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1416-5B69-4144-B402-4C0CCFA8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4AB-E2FC-458B-9A32-A961AC1A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9505-06C6-4770-8D21-C0B568CFDD1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五边形 6"/>
          <p:cNvSpPr/>
          <p:nvPr/>
        </p:nvSpPr>
        <p:spPr>
          <a:xfrm>
            <a:off x="0" y="0"/>
            <a:ext cx="8153280" cy="6858000"/>
          </a:xfrm>
          <a:custGeom>
            <a:avLst/>
            <a:gdLst>
              <a:gd name="textAreaLeft" fmla="*/ 0 w 8153280"/>
              <a:gd name="textAreaRight" fmla="*/ 8153640 w 81532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58" y="0"/>
                </a:lnTo>
                <a:lnTo>
                  <a:pt x="21600" y="10800"/>
                </a:lnTo>
                <a:lnTo>
                  <a:pt x="138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030a0"/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任意多边形 7"/>
          <p:cNvSpPr/>
          <p:nvPr/>
        </p:nvSpPr>
        <p:spPr>
          <a:xfrm>
            <a:off x="5078520" y="-14400"/>
            <a:ext cx="7132680" cy="6865920"/>
          </a:xfrm>
          <a:prstGeom prst="pie">
            <a:avLst/>
          </a:prstGeom>
          <a:solidFill>
            <a:srgbClr val="7f7f7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4038480" y="633240"/>
            <a:ext cx="3670560" cy="5542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Franklin Gothic Book"/>
              </a:rPr>
              <a:t>简历</a:t>
            </a:r>
            <a:endParaRPr b="0" lang="en-US" sz="11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4038480" y="633240"/>
            <a:ext cx="3670560" cy="123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Franklin Gothic Book"/>
              </a:rPr>
              <a:t>我的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10"/>
          <p:cNvSpPr/>
          <p:nvPr/>
        </p:nvSpPr>
        <p:spPr>
          <a:xfrm>
            <a:off x="4038480" y="4950000"/>
            <a:ext cx="3670560" cy="123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46" name="组合 14"/>
          <p:cNvGrpSpPr/>
          <p:nvPr/>
        </p:nvGrpSpPr>
        <p:grpSpPr>
          <a:xfrm>
            <a:off x="5952240" y="5443200"/>
            <a:ext cx="1594800" cy="337680"/>
            <a:chOff x="5952240" y="5443200"/>
            <a:chExt cx="1594800" cy="337680"/>
          </a:xfrm>
        </p:grpSpPr>
        <p:sp>
          <p:nvSpPr>
            <p:cNvPr id="47" name="椭圆 12"/>
            <p:cNvSpPr/>
            <p:nvPr/>
          </p:nvSpPr>
          <p:spPr>
            <a:xfrm rot="4414800">
              <a:off x="5984280" y="5475240"/>
              <a:ext cx="266760" cy="266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8" name="椭圆 13"/>
            <p:cNvSpPr/>
            <p:nvPr/>
          </p:nvSpPr>
          <p:spPr>
            <a:xfrm rot="4414800">
              <a:off x="6405480" y="5475240"/>
              <a:ext cx="266760" cy="2667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" name="椭圆 14"/>
            <p:cNvSpPr/>
            <p:nvPr/>
          </p:nvSpPr>
          <p:spPr>
            <a:xfrm rot="4414800">
              <a:off x="7247880" y="5481720"/>
              <a:ext cx="266760" cy="2667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" name="椭圆 15"/>
            <p:cNvSpPr/>
            <p:nvPr/>
          </p:nvSpPr>
          <p:spPr>
            <a:xfrm rot="4414800">
              <a:off x="6826680" y="5481720"/>
              <a:ext cx="266760" cy="266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1" name="文本框 19"/>
          <p:cNvSpPr/>
          <p:nvPr/>
        </p:nvSpPr>
        <p:spPr>
          <a:xfrm>
            <a:off x="4195800" y="5008680"/>
            <a:ext cx="234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Book"/>
              </a:rPr>
              <a:t>start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5F7A-EDDB-45AB-AC6F-A6F57ED7F83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99FE-DFFD-4163-BCA4-C77326D9611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5"/>
          <p:cNvSpPr/>
          <p:nvPr/>
        </p:nvSpPr>
        <p:spPr>
          <a:xfrm>
            <a:off x="669960" y="2805120"/>
            <a:ext cx="2585880" cy="131292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</a:rPr>
              <a:t>身份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文本框 7"/>
          <p:cNvSpPr/>
          <p:nvPr/>
        </p:nvSpPr>
        <p:spPr>
          <a:xfrm>
            <a:off x="3571920" y="3014640"/>
            <a:ext cx="80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Franklin Gothic Book"/>
              </a:rPr>
              <a:t>我是一名大学生，距离毕业还有</a:t>
            </a: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Franklin Gothic Book"/>
              </a:rPr>
              <a:t>年</a:t>
            </a:r>
            <a:r>
              <a:rPr b="1" lang="zh-CN" sz="4000" spc="-1" strike="noStrike">
                <a:solidFill>
                  <a:srgbClr val="7030a0"/>
                </a:solidFill>
                <a:latin typeface="Franklin Gothic Book"/>
              </a:rPr>
              <a:t>多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任意多边形 8"/>
          <p:cNvSpPr/>
          <p:nvPr/>
        </p:nvSpPr>
        <p:spPr>
          <a:xfrm>
            <a:off x="3728880" y="4129200"/>
            <a:ext cx="7743960" cy="360"/>
          </a:xfrm>
          <a:prstGeom prst="pie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38" name="组合 14"/>
          <p:cNvGrpSpPr/>
          <p:nvPr/>
        </p:nvGrpSpPr>
        <p:grpSpPr>
          <a:xfrm>
            <a:off x="769320" y="4447080"/>
            <a:ext cx="2389320" cy="506520"/>
            <a:chOff x="769320" y="4447080"/>
            <a:chExt cx="2389320" cy="506520"/>
          </a:xfrm>
        </p:grpSpPr>
        <p:sp>
          <p:nvSpPr>
            <p:cNvPr id="139" name="椭圆 10"/>
            <p:cNvSpPr/>
            <p:nvPr/>
          </p:nvSpPr>
          <p:spPr>
            <a:xfrm rot="15214800">
              <a:off x="2709720" y="4505040"/>
              <a:ext cx="400320" cy="39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0" name="椭圆 11"/>
            <p:cNvSpPr/>
            <p:nvPr/>
          </p:nvSpPr>
          <p:spPr>
            <a:xfrm rot="15214800">
              <a:off x="2079000" y="4505040"/>
              <a:ext cx="400320" cy="3999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1" name="椭圆 12"/>
            <p:cNvSpPr/>
            <p:nvPr/>
          </p:nvSpPr>
          <p:spPr>
            <a:xfrm rot="15214800">
              <a:off x="817200" y="4495680"/>
              <a:ext cx="400320" cy="3999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2" name="椭圆 13"/>
            <p:cNvSpPr/>
            <p:nvPr/>
          </p:nvSpPr>
          <p:spPr>
            <a:xfrm rot="15214800">
              <a:off x="1447920" y="4495680"/>
              <a:ext cx="400320" cy="399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2"/>
          <p:cNvSpPr/>
          <p:nvPr/>
        </p:nvSpPr>
        <p:spPr>
          <a:xfrm>
            <a:off x="768240" y="2793960"/>
            <a:ext cx="2586240" cy="131292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</a:rPr>
              <a:t>爱好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文本框 4"/>
          <p:cNvSpPr/>
          <p:nvPr/>
        </p:nvSpPr>
        <p:spPr>
          <a:xfrm>
            <a:off x="3643200" y="260820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Franklin Gothic Book"/>
              </a:rPr>
              <a:t>大爱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Franklin Gothic Book"/>
              </a:rPr>
              <a:t>（毕业就想和她在一起）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Franklin Gothic Book"/>
              </a:rPr>
              <a:t>喜欢摄影摄像，是一名设计屌丝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任意多边形 5"/>
          <p:cNvSpPr/>
          <p:nvPr/>
        </p:nvSpPr>
        <p:spPr>
          <a:xfrm>
            <a:off x="3728880" y="4129200"/>
            <a:ext cx="6586560" cy="56880"/>
          </a:xfrm>
          <a:prstGeom prst="pie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46" name="组合 11"/>
          <p:cNvGrpSpPr/>
          <p:nvPr/>
        </p:nvGrpSpPr>
        <p:grpSpPr>
          <a:xfrm>
            <a:off x="769320" y="4447080"/>
            <a:ext cx="2389320" cy="506520"/>
            <a:chOff x="769320" y="4447080"/>
            <a:chExt cx="2389320" cy="506520"/>
          </a:xfrm>
        </p:grpSpPr>
        <p:sp>
          <p:nvSpPr>
            <p:cNvPr id="147" name="椭圆 12"/>
            <p:cNvSpPr/>
            <p:nvPr/>
          </p:nvSpPr>
          <p:spPr>
            <a:xfrm rot="15214800">
              <a:off x="2709720" y="4505040"/>
              <a:ext cx="400320" cy="39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8" name="椭圆 13"/>
            <p:cNvSpPr/>
            <p:nvPr/>
          </p:nvSpPr>
          <p:spPr>
            <a:xfrm rot="15214800">
              <a:off x="2079000" y="4505040"/>
              <a:ext cx="400320" cy="3999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9" name="椭圆 14"/>
            <p:cNvSpPr/>
            <p:nvPr/>
          </p:nvSpPr>
          <p:spPr>
            <a:xfrm rot="15214800">
              <a:off x="817200" y="4495680"/>
              <a:ext cx="400320" cy="3999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50" name="椭圆 15"/>
            <p:cNvSpPr/>
            <p:nvPr/>
          </p:nvSpPr>
          <p:spPr>
            <a:xfrm rot="15214800">
              <a:off x="1447920" y="4495680"/>
              <a:ext cx="400320" cy="399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文本框 4"/>
          <p:cNvSpPr/>
          <p:nvPr/>
        </p:nvSpPr>
        <p:spPr>
          <a:xfrm>
            <a:off x="1828800" y="3492360"/>
            <a:ext cx="9001080" cy="64260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Franklin Gothic Book"/>
              </a:rPr>
              <a:t>我只能说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………………………………………………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文本框 1"/>
          <p:cNvSpPr/>
          <p:nvPr/>
        </p:nvSpPr>
        <p:spPr>
          <a:xfrm>
            <a:off x="1828800" y="838080"/>
            <a:ext cx="8715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</a:rPr>
              <a:t>是不是好学生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文本框 5"/>
          <p:cNvSpPr/>
          <p:nvPr/>
        </p:nvSpPr>
        <p:spPr>
          <a:xfrm rot="1070400">
            <a:off x="9234000" y="532080"/>
            <a:ext cx="11142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7030a0"/>
                </a:solidFill>
                <a:latin typeface="Franklin Gothic Book"/>
              </a:rPr>
              <a:t>？</a:t>
            </a:r>
            <a:endParaRPr b="0" lang="en-US" sz="13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54" name="组合 7"/>
          <p:cNvGrpSpPr/>
          <p:nvPr/>
        </p:nvGrpSpPr>
        <p:grpSpPr>
          <a:xfrm>
            <a:off x="4755240" y="2405880"/>
            <a:ext cx="2389320" cy="507960"/>
            <a:chOff x="4755240" y="2405880"/>
            <a:chExt cx="2389320" cy="507960"/>
          </a:xfrm>
        </p:grpSpPr>
        <p:sp>
          <p:nvSpPr>
            <p:cNvPr id="155" name="椭圆 8"/>
            <p:cNvSpPr/>
            <p:nvPr/>
          </p:nvSpPr>
          <p:spPr>
            <a:xfrm rot="15214800">
              <a:off x="6694920" y="2464560"/>
              <a:ext cx="401760" cy="399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56" name="椭圆 9"/>
            <p:cNvSpPr/>
            <p:nvPr/>
          </p:nvSpPr>
          <p:spPr>
            <a:xfrm rot="15214800">
              <a:off x="6063840" y="2464560"/>
              <a:ext cx="401760" cy="3996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57" name="椭圆 10"/>
            <p:cNvSpPr/>
            <p:nvPr/>
          </p:nvSpPr>
          <p:spPr>
            <a:xfrm rot="15214800">
              <a:off x="4802400" y="2454840"/>
              <a:ext cx="401760" cy="39960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58" name="椭圆 11"/>
            <p:cNvSpPr/>
            <p:nvPr/>
          </p:nvSpPr>
          <p:spPr>
            <a:xfrm rot="15214800">
              <a:off x="5433120" y="2454840"/>
              <a:ext cx="401760" cy="399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文本框 4"/>
          <p:cNvSpPr/>
          <p:nvPr/>
        </p:nvSpPr>
        <p:spPr>
          <a:xfrm>
            <a:off x="1828800" y="3492360"/>
            <a:ext cx="9001080" cy="119124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……………………………………………………………………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文本框 1"/>
          <p:cNvSpPr/>
          <p:nvPr/>
        </p:nvSpPr>
        <p:spPr>
          <a:xfrm>
            <a:off x="1658880" y="838080"/>
            <a:ext cx="871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</a:rPr>
              <a:t>只有这些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文本框 5"/>
          <p:cNvSpPr/>
          <p:nvPr/>
        </p:nvSpPr>
        <p:spPr>
          <a:xfrm rot="1070400">
            <a:off x="9234000" y="532080"/>
            <a:ext cx="11142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7030a0"/>
                </a:solidFill>
                <a:latin typeface="Franklin Gothic Book"/>
              </a:rPr>
              <a:t>？</a:t>
            </a:r>
            <a:endParaRPr b="0" lang="en-US" sz="13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62" name="组合 7"/>
          <p:cNvGrpSpPr/>
          <p:nvPr/>
        </p:nvGrpSpPr>
        <p:grpSpPr>
          <a:xfrm>
            <a:off x="4755240" y="2405880"/>
            <a:ext cx="2389320" cy="507960"/>
            <a:chOff x="4755240" y="2405880"/>
            <a:chExt cx="2389320" cy="507960"/>
          </a:xfrm>
        </p:grpSpPr>
        <p:sp>
          <p:nvSpPr>
            <p:cNvPr id="163" name="椭圆 8"/>
            <p:cNvSpPr/>
            <p:nvPr/>
          </p:nvSpPr>
          <p:spPr>
            <a:xfrm rot="15214800">
              <a:off x="6694920" y="2464560"/>
              <a:ext cx="401760" cy="399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4" name="椭圆 9"/>
            <p:cNvSpPr/>
            <p:nvPr/>
          </p:nvSpPr>
          <p:spPr>
            <a:xfrm rot="15214800">
              <a:off x="6063840" y="2464560"/>
              <a:ext cx="401760" cy="3996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5" name="椭圆 10"/>
            <p:cNvSpPr/>
            <p:nvPr/>
          </p:nvSpPr>
          <p:spPr>
            <a:xfrm rot="15214800">
              <a:off x="4802400" y="2454840"/>
              <a:ext cx="401760" cy="39960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66" name="椭圆 11"/>
            <p:cNvSpPr/>
            <p:nvPr/>
          </p:nvSpPr>
          <p:spPr>
            <a:xfrm rot="15214800">
              <a:off x="5433120" y="2454840"/>
              <a:ext cx="401760" cy="399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2"/>
          <p:cNvSpPr/>
          <p:nvPr/>
        </p:nvSpPr>
        <p:spPr>
          <a:xfrm>
            <a:off x="2479680" y="514440"/>
            <a:ext cx="7429320" cy="1312920"/>
          </a:xfrm>
          <a:prstGeom prst="rect">
            <a:avLst/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1" lang="zh-CN" sz="8000" spc="-1" strike="noStrike">
                <a:solidFill>
                  <a:srgbClr val="ffffff"/>
                </a:solidFill>
                <a:latin typeface="Franklin Gothic Book"/>
              </a:rPr>
              <a:t>我的</a:t>
            </a:r>
            <a:r>
              <a:rPr b="1" lang="en-US" sz="8000" spc="-1" strike="noStrike">
                <a:solidFill>
                  <a:srgbClr val="7030a0"/>
                </a:solidFill>
                <a:latin typeface="Franklin Gothic Book"/>
              </a:rPr>
              <a:t>P</a:t>
            </a:r>
            <a:r>
              <a:rPr b="1" lang="zh-CN" sz="8000" spc="-1" strike="noStrike">
                <a:solidFill>
                  <a:srgbClr val="ffffff"/>
                </a:solidFill>
                <a:latin typeface="Franklin Gothic Book"/>
              </a:rPr>
              <a:t>经历？</a:t>
            </a:r>
            <a:endParaRPr b="0" lang="en-US" sz="80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68" name="组合 5"/>
          <p:cNvGrpSpPr/>
          <p:nvPr/>
        </p:nvGrpSpPr>
        <p:grpSpPr>
          <a:xfrm>
            <a:off x="4998600" y="2012040"/>
            <a:ext cx="2390760" cy="506520"/>
            <a:chOff x="4998600" y="2012040"/>
            <a:chExt cx="2390760" cy="506520"/>
          </a:xfrm>
        </p:grpSpPr>
        <p:sp>
          <p:nvSpPr>
            <p:cNvPr id="169" name="椭圆 6"/>
            <p:cNvSpPr/>
            <p:nvPr/>
          </p:nvSpPr>
          <p:spPr>
            <a:xfrm rot="15214800">
              <a:off x="6940440" y="2070000"/>
              <a:ext cx="400320" cy="39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0" name="椭圆 7"/>
            <p:cNvSpPr/>
            <p:nvPr/>
          </p:nvSpPr>
          <p:spPr>
            <a:xfrm rot="15214800">
              <a:off x="6309000" y="2070000"/>
              <a:ext cx="400320" cy="3999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1" name="椭圆 8"/>
            <p:cNvSpPr/>
            <p:nvPr/>
          </p:nvSpPr>
          <p:spPr>
            <a:xfrm rot="15214800">
              <a:off x="5046480" y="2060640"/>
              <a:ext cx="400320" cy="3999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72" name="椭圆 9"/>
            <p:cNvSpPr/>
            <p:nvPr/>
          </p:nvSpPr>
          <p:spPr>
            <a:xfrm rot="15214800">
              <a:off x="5677560" y="2060640"/>
              <a:ext cx="400320" cy="399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31T08:45:00Z</dcterms:created>
  <dc:creator>www.pptbz.com</dc:creator>
  <dc:description/>
  <dc:language>en-US</dc:language>
  <cp:lastModifiedBy>Windows 用户</cp:lastModifiedBy>
  <dcterms:modified xsi:type="dcterms:W3CDTF">2015-08-20T09:25:03Z</dcterms:modified>
  <cp:revision>14</cp:revision>
  <dc:subject/>
  <dc:title>PowerPoint 演示文稿</dc:title>
</cp:coreProperties>
</file>