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A41-E4CF-493E-8C71-2B7548BA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314-349B-4BF0-B731-DD37329D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8D2-7232-409F-A636-8C4F7837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9FB-BE75-40AE-88E0-1B2BCBB2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F68-B16F-4248-99F3-9E02A6F8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646-5AD0-4BE1-B716-964864E9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BD2-293B-490F-8229-394CA2BB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879-0FB3-42A2-A976-C229364D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F50-DE0B-46E3-BD38-1E5291B8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950-F2E5-405F-AC35-451C665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7B9-2F6C-4B2C-9E4E-504F7B2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FE0-9C6E-43CB-9F1C-0C6C878F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2DE0-89AA-49BD-BD9E-765593A5B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&#21382;&#23626;&#21517;&#29983;&#23545;&#27604;.xls" TargetMode="External"/><Relationship Id="rId2" Type="http://schemas.openxmlformats.org/officeDocument/2006/relationships/hyperlink" Target="2015&#24180;&#22899;&#25490;&#19990;&#30028;&#26479; &#39041;&#22870;&#20202;&#24335;.mp4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巅峰超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0080718_15a0fa988361b27ee77eSOHTLkv286H8"/>
          <p:cNvPicPr/>
          <p:nvPr/>
        </p:nvPicPr>
        <p:blipFill>
          <a:blip r:embed="rId1"/>
          <a:stretch/>
        </p:blipFill>
        <p:spPr>
          <a:xfrm>
            <a:off x="152280" y="3429000"/>
            <a:ext cx="140040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20080718_15a0fa988361b27ee77eSOHTLkv286H8"/>
          <p:cNvPicPr/>
          <p:nvPr/>
        </p:nvPicPr>
        <p:blipFill>
          <a:blip r:embed="rId2"/>
          <a:stretch/>
        </p:blipFill>
        <p:spPr>
          <a:xfrm>
            <a:off x="2666880" y="3581280"/>
            <a:ext cx="132408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20080718_15a0fa988361b27ee77eSOHTLkv286H8"/>
          <p:cNvPicPr/>
          <p:nvPr/>
        </p:nvPicPr>
        <p:blipFill>
          <a:blip r:embed="rId3"/>
          <a:stretch/>
        </p:blipFill>
        <p:spPr>
          <a:xfrm>
            <a:off x="5105520" y="3581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80718_15a0fa988361b27ee77eSOHTLkv286H8"/>
          <p:cNvPicPr/>
          <p:nvPr/>
        </p:nvPicPr>
        <p:blipFill>
          <a:blip r:embed="rId4"/>
          <a:stretch/>
        </p:blipFill>
        <p:spPr>
          <a:xfrm>
            <a:off x="1371600" y="35053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20080718_15a0fa988361b27ee77eSOHTLkv286H8"/>
          <p:cNvPicPr/>
          <p:nvPr/>
        </p:nvPicPr>
        <p:blipFill>
          <a:blip r:embed="rId5"/>
          <a:stretch/>
        </p:blipFill>
        <p:spPr>
          <a:xfrm>
            <a:off x="6477120" y="3505320"/>
            <a:ext cx="132372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20080718_15a0fa988361b27ee77eSOHTLkv286H8"/>
          <p:cNvPicPr/>
          <p:nvPr/>
        </p:nvPicPr>
        <p:blipFill>
          <a:blip r:embed="rId6"/>
          <a:stretch/>
        </p:blipFill>
        <p:spPr>
          <a:xfrm>
            <a:off x="3886200" y="3505320"/>
            <a:ext cx="13240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20080718_15a0fa988361b27ee77eSOHTLkv286H8"/>
          <p:cNvPicPr/>
          <p:nvPr/>
        </p:nvPicPr>
        <p:blipFill>
          <a:blip r:embed="rId7"/>
          <a:stretch/>
        </p:blipFill>
        <p:spPr>
          <a:xfrm>
            <a:off x="7620120" y="350532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2590920" y="1371600"/>
            <a:ext cx="3886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健康拍手操</a:t>
            </a:r>
            <a:endParaRPr b="1" lang="en-US" sz="1800" spc="-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8000" y="1557360"/>
            <a:ext cx="921708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环节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历届对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数据分析，总结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环节：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女排精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勇于承担，迎难而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环节：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刻意练习——训练得法，方显实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环节：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超常发挥——认知调整，心理暗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12700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r>
              <a:rPr b="0" lang="zh-CN" sz="4800" spc="-1" strike="noStrike">
                <a:solidFill>
                  <a:srgbClr val="ff00ff"/>
                </a:solidFill>
                <a:latin typeface="华文新魏"/>
                <a:ea typeface="华文新魏"/>
              </a:rPr>
              <a:t>伟大的竞技者在追求卓越，创造传奇的道路上永不止步。期待你们像中国女排一样巅峰超越，再次书写文科班的传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00:54:56Z</dcterms:created>
  <dc:creator>FtpDown</dc:creator>
  <dc:description/>
  <dc:language>en-US</dc:language>
  <cp:lastModifiedBy>FtpDown</cp:lastModifiedBy>
  <dcterms:modified xsi:type="dcterms:W3CDTF">2015-09-07T12:00:29Z</dcterms:modified>
  <cp:revision>12</cp:revision>
  <dc:subject/>
  <dc:title>经历军训，感悟成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