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A76-939B-44D4-A3F8-9EA1D669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D64-8446-497C-A808-7965C9D1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43E-FF96-48D9-8D74-5E9BCBE8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AED-B910-49BB-A371-42B30DE1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5D7-900C-4C6C-9EB2-61E74BDF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16A-5448-49F7-B124-D91AE204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D0D-B2CE-4063-A6F9-D9AF9BA0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3D3-6964-413A-9F11-7FCE3C94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FFD-21A8-4D29-BA50-1B3B024A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647-D3B3-4CD5-8724-B5467F1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F35-1DEA-49BB-A3A3-AF945778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A4C-A201-4C6E-8EE5-AFF7E162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B7D0-11E2-4278-927D-30AB5C445C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14"/>
          <p:cNvGraphicFramePr/>
          <p:nvPr/>
        </p:nvGraphicFramePr>
        <p:xfrm>
          <a:off x="228600" y="228600"/>
          <a:ext cx="251460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25146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5076720" y="1700280"/>
            <a:ext cx="31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约四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68360" y="386064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您感到僵硬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坚持做这套操会让您放松肩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03280" y="981000"/>
            <a:ext cx="568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便脊椎放松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68360" y="263700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长时间坐在电脑前或伏案工作往往会造成脖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2765880" y="3141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肩膀僵硬，偶尔也会背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223236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头脑清醒，消除疲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66"/>
                </a:solidFill>
                <a:latin typeface="Arial"/>
                <a:ea typeface="楷体_GB2312"/>
              </a:rPr>
              <a:t>请 站 起 来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276720" y="1125360"/>
          <a:ext cx="230508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125360"/>
                    <a:ext cx="230508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8"/>
          <p:cNvSpPr/>
          <p:nvPr/>
        </p:nvSpPr>
        <p:spPr>
          <a:xfrm>
            <a:off x="2916360" y="18900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10-1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512680" y="15472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双手交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5766480" y="1916280"/>
            <a:ext cx="13993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手心向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239600" y="15472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两臂伸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3376440" y="1484280"/>
          <a:ext cx="234792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6440" y="1484280"/>
                    <a:ext cx="23479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10"/>
          <p:cNvSpPr/>
          <p:nvPr/>
        </p:nvSpPr>
        <p:spPr>
          <a:xfrm>
            <a:off x="1619280" y="40464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每侧坚持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</a:rPr>
              <a:t>8-10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秒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800" spc="-1" strike="noStrike">
                <a:solidFill>
                  <a:srgbClr val="339966"/>
                </a:solidFill>
                <a:latin typeface="楷体_GB2312"/>
              </a:rPr>
              <a:t>左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9966"/>
                </a:solidFill>
                <a:latin typeface="Arial"/>
                <a:ea typeface="楷体_GB2312"/>
              </a:rPr>
              <a:t>换另一侧啦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3348000" y="1486080"/>
          <a:ext cx="237636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6080"/>
                    <a:ext cx="23763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11"/>
          <p:cNvSpPr/>
          <p:nvPr/>
        </p:nvSpPr>
        <p:spPr>
          <a:xfrm>
            <a:off x="1763640" y="476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每侧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8-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</a:rPr>
              <a:t>右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492360" y="1125360"/>
          <a:ext cx="200520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125360"/>
                    <a:ext cx="200520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9"/>
          <p:cNvSpPr/>
          <p:nvPr/>
        </p:nvSpPr>
        <p:spPr>
          <a:xfrm>
            <a:off x="2843280" y="2602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15-2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512680" y="15472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双手交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766480" y="1916280"/>
            <a:ext cx="13993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手心向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7239600" y="15472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两臂伸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  三次  第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一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3"/>
          <p:cNvGraphicFramePr/>
          <p:nvPr/>
        </p:nvGraphicFramePr>
        <p:xfrm>
          <a:off x="1979640" y="1700280"/>
          <a:ext cx="293544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00280"/>
                    <a:ext cx="29354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24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5512680" y="1550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两臂下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5766480" y="1916280"/>
            <a:ext cx="13993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两肩上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7239600" y="15487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挺住不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32000" y="148392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66"/>
                </a:solidFill>
                <a:latin typeface="Arial"/>
                <a:ea typeface="楷体_GB2312"/>
              </a:rPr>
              <a:t>放 松 一 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66"/>
                </a:solidFill>
                <a:latin typeface="Arial"/>
                <a:ea typeface="楷体_GB2312"/>
              </a:rPr>
              <a:t>再 来 一 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  三次  第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3059280" y="1844640"/>
          <a:ext cx="293508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844640"/>
                    <a:ext cx="2935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9"/>
          <p:cNvSpPr/>
          <p:nvPr/>
        </p:nvSpPr>
        <p:spPr>
          <a:xfrm>
            <a:off x="-243000" y="5300640"/>
            <a:ext cx="10335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  三次  第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8"/>
          <p:cNvGraphicFramePr/>
          <p:nvPr/>
        </p:nvGraphicFramePr>
        <p:xfrm>
          <a:off x="2987640" y="1773360"/>
          <a:ext cx="293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773360"/>
                    <a:ext cx="293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9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omputer &amp; Desk Stretches"/>
          <p:cNvPicPr/>
          <p:nvPr/>
        </p:nvPicPr>
        <p:blipFill>
          <a:blip r:embed="rId1"/>
          <a:stretch/>
        </p:blipFill>
        <p:spPr>
          <a:xfrm>
            <a:off x="2482920" y="1125360"/>
            <a:ext cx="4105080" cy="5732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全部动作浏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12"/>
          <p:cNvGraphicFramePr/>
          <p:nvPr/>
        </p:nvGraphicFramePr>
        <p:xfrm>
          <a:off x="3025800" y="1341360"/>
          <a:ext cx="30589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1341360"/>
                    <a:ext cx="30589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侧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下拉右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9966"/>
                </a:solidFill>
                <a:latin typeface="Arial"/>
                <a:ea typeface="楷体_GB2312"/>
              </a:rPr>
              <a:t>换另一侧啦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3"/>
          <p:cNvGraphicFramePr/>
          <p:nvPr/>
        </p:nvGraphicFramePr>
        <p:xfrm>
          <a:off x="3059280" y="1557360"/>
          <a:ext cx="296064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557360"/>
                    <a:ext cx="2960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侧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下拉左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3"/>
          <p:cNvGraphicFramePr/>
          <p:nvPr/>
        </p:nvGraphicFramePr>
        <p:xfrm>
          <a:off x="2771640" y="1701720"/>
          <a:ext cx="35416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701720"/>
                    <a:ext cx="35416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7"/>
          <p:cNvSpPr/>
          <p:nvPr/>
        </p:nvSpPr>
        <p:spPr>
          <a:xfrm>
            <a:off x="3348000" y="40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744640" y="1762200"/>
            <a:ext cx="3627720" cy="4906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3570480" y="549360"/>
            <a:ext cx="21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4000" y="2276640"/>
            <a:ext cx="8459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9966"/>
                </a:solidFill>
                <a:latin typeface="Arial"/>
                <a:ea typeface="楷体_GB2312"/>
              </a:rPr>
              <a:t>请坐下来并举起右手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3"/>
          <p:cNvGraphicFramePr/>
          <p:nvPr/>
        </p:nvGraphicFramePr>
        <p:xfrm>
          <a:off x="3441600" y="1484280"/>
          <a:ext cx="228276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1600" y="1484280"/>
                    <a:ext cx="22827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9"/>
          <p:cNvSpPr/>
          <p:nvPr/>
        </p:nvSpPr>
        <p:spPr>
          <a:xfrm>
            <a:off x="1864800" y="507960"/>
            <a:ext cx="581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每侧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8-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</a:rPr>
              <a:t>右手上左手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9966"/>
                </a:solidFill>
                <a:latin typeface="Arial"/>
                <a:ea typeface="楷体_GB2312"/>
              </a:rPr>
              <a:t>换另一侧啦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3"/>
          <p:cNvGraphicFramePr/>
          <p:nvPr/>
        </p:nvGraphicFramePr>
        <p:xfrm>
          <a:off x="3564000" y="1403280"/>
          <a:ext cx="192384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403280"/>
                    <a:ext cx="192384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侧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左手上右手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5"/>
          <p:cNvGraphicFramePr/>
          <p:nvPr/>
        </p:nvGraphicFramePr>
        <p:xfrm>
          <a:off x="2050920" y="1341360"/>
          <a:ext cx="31132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341360"/>
                    <a:ext cx="31132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9"/>
          <p:cNvSpPr/>
          <p:nvPr/>
        </p:nvSpPr>
        <p:spPr>
          <a:xfrm>
            <a:off x="2484360" y="333360"/>
            <a:ext cx="431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每侧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8-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512680" y="15487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翘起左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5766480" y="1916280"/>
            <a:ext cx="13993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左手扶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7239600" y="15487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头看左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339966"/>
                </a:solidFill>
                <a:latin typeface="Arial"/>
              </a:rPr>
              <a:t>3</a:t>
            </a: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9966"/>
                </a:solidFill>
                <a:latin typeface="Arial"/>
                <a:ea typeface="楷体_GB2312"/>
              </a:rPr>
              <a:t>换另一侧啦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2124000" y="260280"/>
            <a:ext cx="43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每侧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8-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83600" y="5300640"/>
            <a:ext cx="6069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5512680" y="15487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翘起右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5766480" y="1916280"/>
            <a:ext cx="13993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右手扶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239600" y="15487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66"/>
                </a:solidFill>
                <a:latin typeface="Arial"/>
              </a:rPr>
              <a:t>头看右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17"/>
          <p:cNvGraphicFramePr/>
          <p:nvPr/>
        </p:nvGraphicFramePr>
        <p:xfrm>
          <a:off x="1979640" y="1341360"/>
          <a:ext cx="321156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341360"/>
                    <a:ext cx="321156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diamond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2987640" y="1413000"/>
          <a:ext cx="309708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413000"/>
                    <a:ext cx="309708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7"/>
          <p:cNvSpPr/>
          <p:nvPr/>
        </p:nvSpPr>
        <p:spPr>
          <a:xfrm>
            <a:off x="1042920" y="40464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10-1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　两次　第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</a:rPr>
              <a:t>一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83600" y="5300640"/>
            <a:ext cx="6069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十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25892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放 松 一 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再 来 一 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3"/>
          <p:cNvGraphicFramePr/>
          <p:nvPr/>
        </p:nvGraphicFramePr>
        <p:xfrm>
          <a:off x="2987640" y="1413000"/>
          <a:ext cx="309708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413000"/>
                    <a:ext cx="309708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6"/>
          <p:cNvSpPr/>
          <p:nvPr/>
        </p:nvSpPr>
        <p:spPr>
          <a:xfrm>
            <a:off x="1042920" y="404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10-1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　两次　第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</a:rPr>
              <a:t>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83600" y="5300640"/>
            <a:ext cx="6069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十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3"/>
          <p:cNvGraphicFramePr/>
          <p:nvPr/>
        </p:nvGraphicFramePr>
        <p:xfrm>
          <a:off x="3132000" y="1484280"/>
          <a:ext cx="28767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484280"/>
                    <a:ext cx="28767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8"/>
          <p:cNvSpPr/>
          <p:nvPr/>
        </p:nvSpPr>
        <p:spPr>
          <a:xfrm>
            <a:off x="2340000" y="5493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抖动双手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8-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-243000" y="5300640"/>
            <a:ext cx="10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十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36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339966"/>
                </a:solidFill>
                <a:latin typeface="Arial"/>
              </a:rPr>
              <a:t>2</a:t>
            </a: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339966"/>
                </a:solidFill>
                <a:latin typeface="Arial"/>
              </a:rPr>
              <a:t>1</a:t>
            </a: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339966"/>
                </a:solidFill>
                <a:latin typeface="Arial"/>
                <a:ea typeface="楷体_GB2312"/>
              </a:rPr>
              <a:t>开始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3"/>
          <p:cNvGraphicFramePr/>
          <p:nvPr/>
        </p:nvGraphicFramePr>
        <p:xfrm>
          <a:off x="2124000" y="1341360"/>
          <a:ext cx="4897440" cy="47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341360"/>
                    <a:ext cx="489744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4"/>
          <p:cNvSpPr/>
          <p:nvPr/>
        </p:nvSpPr>
        <p:spPr>
          <a:xfrm>
            <a:off x="1042920" y="404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10-2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秒 两次 第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</a:rPr>
              <a:t>一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258920" y="59500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66"/>
                </a:solidFill>
                <a:latin typeface="楷体_GB2312"/>
              </a:rPr>
              <a:t>双手交叉　手心向外　两臂伸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148392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66"/>
                </a:solidFill>
                <a:latin typeface="Arial"/>
                <a:ea typeface="楷体_GB2312"/>
              </a:rPr>
              <a:t>放 松 一 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66"/>
                </a:solidFill>
                <a:latin typeface="Arial"/>
                <a:ea typeface="楷体_GB2312"/>
              </a:rPr>
              <a:t>再 来 一 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坚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 两次 第</a:t>
            </a:r>
            <a:r>
              <a:rPr b="1" lang="zh-CN" sz="44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122560" y="1700280"/>
          <a:ext cx="4897440" cy="47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1700280"/>
                    <a:ext cx="489744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20"/>
          <p:cNvSpPr/>
          <p:nvPr/>
        </p:nvSpPr>
        <p:spPr>
          <a:xfrm>
            <a:off x="183600" y="5300640"/>
            <a:ext cx="60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Arial"/>
              </a:rPr>
              <a:t>动作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08:02:03Z</dcterms:created>
  <dc:creator>Bob and Jean Anderson</dc:creator>
  <dc:description>Kevin Shih re-edits into MS Power Point format</dc:description>
  <dc:language>en-US</dc:language>
  <cp:lastModifiedBy>MC SYSTEM</cp:lastModifiedBy>
  <dcterms:modified xsi:type="dcterms:W3CDTF">2010-10-03T15:53:25Z</dcterms:modified>
  <cp:revision>84</cp:revision>
  <dc:subject/>
  <dc:title>Computer &amp; Desk Stretches</dc:title>
</cp:coreProperties>
</file>