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700000" y="274320"/>
            <a:ext cx="5986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700000" y="274320"/>
            <a:ext cx="5986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hyperlink" Target="http://jingyan.baidu.com/article/48a420579e7ef5a9242504ee.html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755640" y="1052640"/>
            <a:ext cx="763272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>
                      <a:alpha val="78000"/>
                    </a:srgbClr>
                  </a:outerShdw>
                </a:effectLst>
                <a:latin typeface="宋体"/>
              </a:rPr>
              <a:t>中职学校教师计算机使用问题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050920" y="2997360"/>
            <a:ext cx="367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全州县中等职业技术学校   邓祯福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78" name="WordArt 6" descr=""/>
          <p:cNvPicPr/>
          <p:nvPr/>
        </p:nvPicPr>
        <p:blipFill>
          <a:blip r:embed="rId1"/>
          <a:stretch/>
        </p:blipFill>
        <p:spPr>
          <a:xfrm>
            <a:off x="2548080" y="4071960"/>
            <a:ext cx="2547720" cy="2379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147240" y="6132600"/>
            <a:ext cx="323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-mail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qzzjzx@126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97920" y="5780160"/>
            <a:ext cx="238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el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8076776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771640" y="188640"/>
            <a:ext cx="5832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三、个人电脑的日常使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971640" y="1675440"/>
            <a:ext cx="619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软件下载和安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755640" y="2205000"/>
            <a:ext cx="7561440" cy="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9" descr="未标题-7.png"/>
          <p:cNvPicPr/>
          <p:nvPr/>
        </p:nvPicPr>
        <p:blipFill>
          <a:blip r:embed="rId1"/>
          <a:stretch/>
        </p:blipFill>
        <p:spPr>
          <a:xfrm>
            <a:off x="179280" y="1484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54468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468360" y="241992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尽量到软件的官方网站或大型的正规网站下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2"/>
          <a:stretch/>
        </p:blipFill>
        <p:spPr>
          <a:xfrm>
            <a:off x="1444680" y="3068640"/>
            <a:ext cx="1871640" cy="623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"/>
          <p:cNvPicPr/>
          <p:nvPr/>
        </p:nvPicPr>
        <p:blipFill>
          <a:blip r:embed="rId3"/>
          <a:stretch/>
        </p:blipFill>
        <p:spPr>
          <a:xfrm>
            <a:off x="4324320" y="3068640"/>
            <a:ext cx="1762200" cy="771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"/>
          <p:cNvPicPr/>
          <p:nvPr/>
        </p:nvPicPr>
        <p:blipFill>
          <a:blip r:embed="rId4"/>
          <a:stretch/>
        </p:blipFill>
        <p:spPr>
          <a:xfrm>
            <a:off x="4253040" y="4005360"/>
            <a:ext cx="2047680" cy="476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"/>
          <p:cNvPicPr/>
          <p:nvPr/>
        </p:nvPicPr>
        <p:blipFill>
          <a:blip r:embed="rId5"/>
          <a:stretch/>
        </p:blipFill>
        <p:spPr>
          <a:xfrm>
            <a:off x="1731960" y="3933720"/>
            <a:ext cx="1162080" cy="5907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3"/>
          <p:cNvSpPr/>
          <p:nvPr/>
        </p:nvSpPr>
        <p:spPr>
          <a:xfrm>
            <a:off x="611280" y="50119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软件安装，只安装必要的，广告插件不选择安装。安装位置尽量选择在非系统盘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71640" y="188640"/>
            <a:ext cx="5832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三、个人电脑的日常使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971640" y="1675440"/>
            <a:ext cx="619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软件下载和安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"/>
          <p:cNvSpPr/>
          <p:nvPr/>
        </p:nvSpPr>
        <p:spPr>
          <a:xfrm>
            <a:off x="755640" y="2205000"/>
            <a:ext cx="7561440" cy="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9" descr="未标题-7.png"/>
          <p:cNvPicPr/>
          <p:nvPr/>
        </p:nvPicPr>
        <p:blipFill>
          <a:blip r:embed="rId1"/>
          <a:stretch/>
        </p:blipFill>
        <p:spPr>
          <a:xfrm>
            <a:off x="179280" y="1484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6"/>
          <p:cNvSpPr/>
          <p:nvPr/>
        </p:nvSpPr>
        <p:spPr>
          <a:xfrm>
            <a:off x="54468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468360" y="241992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闭非必要的自动启动软件（安全软件除外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3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7561440" cy="226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188640"/>
            <a:ext cx="5832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三、个人电脑的日常使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971640" y="1675440"/>
            <a:ext cx="619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软件下载和安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755640" y="2205000"/>
            <a:ext cx="7561440" cy="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片 9" descr="未标题-7.png"/>
          <p:cNvPicPr/>
          <p:nvPr/>
        </p:nvPicPr>
        <p:blipFill>
          <a:blip r:embed="rId1"/>
          <a:stretch/>
        </p:blipFill>
        <p:spPr>
          <a:xfrm>
            <a:off x="179280" y="1484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54468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900000" y="2851560"/>
            <a:ext cx="65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使用的软件（含游戏），建议清理卸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900000" y="4075560"/>
            <a:ext cx="65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尽量少用破解软件（的广告插件、或病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71640" y="188640"/>
            <a:ext cx="5832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三、个人电脑的日常使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1187280" y="1483200"/>
            <a:ext cx="619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系统安装好后做好备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4"/>
          <p:cNvSpPr/>
          <p:nvPr/>
        </p:nvSpPr>
        <p:spPr>
          <a:xfrm>
            <a:off x="971640" y="2013120"/>
            <a:ext cx="7561080" cy="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9" descr="未标题-7.png"/>
          <p:cNvPicPr/>
          <p:nvPr/>
        </p:nvPicPr>
        <p:blipFill>
          <a:blip r:embed="rId1"/>
          <a:stretch/>
        </p:blipFill>
        <p:spPr>
          <a:xfrm>
            <a:off x="468360" y="126828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6"/>
          <p:cNvSpPr/>
          <p:nvPr/>
        </p:nvSpPr>
        <p:spPr>
          <a:xfrm>
            <a:off x="829080" y="148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1116000" y="205956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赛门铁克公司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6337440" cy="36734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1"/>
          <p:cNvSpPr/>
          <p:nvPr/>
        </p:nvSpPr>
        <p:spPr>
          <a:xfrm>
            <a:off x="755640" y="6292080"/>
            <a:ext cx="6580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80808"/>
                </a:solidFill>
                <a:uFillTx/>
                <a:latin typeface="黑体"/>
                <a:ea typeface="黑体"/>
                <a:hlinkClick r:id="rId3"/>
              </a:rPr>
              <a:t>http://jingyan.baidu.com/article/48a420579e7ef5a9242504e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771640" y="188640"/>
            <a:ext cx="5832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三、个人电脑的日常使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71640" y="1675440"/>
            <a:ext cx="619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重要资料备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"/>
          <p:cNvSpPr/>
          <p:nvPr/>
        </p:nvSpPr>
        <p:spPr>
          <a:xfrm>
            <a:off x="755640" y="2205000"/>
            <a:ext cx="7561440" cy="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9" descr="未标题-7.png"/>
          <p:cNvPicPr/>
          <p:nvPr/>
        </p:nvPicPr>
        <p:blipFill>
          <a:blip r:embed="rId1"/>
          <a:stretch/>
        </p:blipFill>
        <p:spPr>
          <a:xfrm>
            <a:off x="179280" y="1484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54468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1042920" y="263592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电脑上不存放在“我的文档”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盘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042920" y="321192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点多存储设备备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1042920" y="385956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用网盘备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1" descr=""/>
          <p:cNvPicPr/>
          <p:nvPr/>
        </p:nvPicPr>
        <p:blipFill>
          <a:blip r:embed="rId2"/>
          <a:stretch/>
        </p:blipFill>
        <p:spPr>
          <a:xfrm>
            <a:off x="4572000" y="4653000"/>
            <a:ext cx="2376360" cy="461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"/>
          <p:cNvPicPr/>
          <p:nvPr/>
        </p:nvPicPr>
        <p:blipFill>
          <a:blip r:embed="rId3"/>
          <a:stretch/>
        </p:blipFill>
        <p:spPr>
          <a:xfrm>
            <a:off x="1692360" y="5516640"/>
            <a:ext cx="2160360" cy="731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"/>
          <p:cNvPicPr/>
          <p:nvPr/>
        </p:nvPicPr>
        <p:blipFill>
          <a:blip r:embed="rId4"/>
          <a:stretch/>
        </p:blipFill>
        <p:spPr>
          <a:xfrm>
            <a:off x="1835280" y="4581360"/>
            <a:ext cx="1871640" cy="613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5" descr=""/>
          <p:cNvPicPr/>
          <p:nvPr/>
        </p:nvPicPr>
        <p:blipFill>
          <a:blip r:embed="rId5"/>
          <a:stretch/>
        </p:blipFill>
        <p:spPr>
          <a:xfrm>
            <a:off x="4932360" y="5373720"/>
            <a:ext cx="1209600" cy="95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771640" y="188640"/>
            <a:ext cx="5832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四、碰到问题解决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Freeform 25"/>
          <p:cNvSpPr/>
          <p:nvPr/>
        </p:nvSpPr>
        <p:spPr>
          <a:xfrm>
            <a:off x="7616880" y="2565360"/>
            <a:ext cx="614160" cy="981000"/>
          </a:xfrm>
          <a:custGeom>
            <a:avLst/>
            <a:gdLst>
              <a:gd name="textAreaLeft" fmla="*/ 0 w 614160"/>
              <a:gd name="textAreaRight" fmla="*/ 614520 w 6141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26"/>
          <p:cNvSpPr/>
          <p:nvPr/>
        </p:nvSpPr>
        <p:spPr>
          <a:xfrm>
            <a:off x="4676760" y="256536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7"/>
          <p:cNvSpPr/>
          <p:nvPr/>
        </p:nvSpPr>
        <p:spPr>
          <a:xfrm>
            <a:off x="6999120" y="3540240"/>
            <a:ext cx="613080" cy="974520"/>
          </a:xfrm>
          <a:custGeom>
            <a:avLst/>
            <a:gdLst>
              <a:gd name="textAreaLeft" fmla="*/ 0 w 613080"/>
              <a:gd name="textAreaRight" fmla="*/ 613440 w 61308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8"/>
          <p:cNvSpPr/>
          <p:nvPr/>
        </p:nvSpPr>
        <p:spPr>
          <a:xfrm>
            <a:off x="3792600" y="354024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9"/>
          <p:cNvSpPr/>
          <p:nvPr/>
        </p:nvSpPr>
        <p:spPr>
          <a:xfrm>
            <a:off x="6380280" y="4503600"/>
            <a:ext cx="610920" cy="981360"/>
          </a:xfrm>
          <a:custGeom>
            <a:avLst/>
            <a:gdLst>
              <a:gd name="textAreaLeft" fmla="*/ 0 w 610920"/>
              <a:gd name="textAreaRight" fmla="*/ 611280 w 6109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0"/>
          <p:cNvSpPr/>
          <p:nvPr/>
        </p:nvSpPr>
        <p:spPr>
          <a:xfrm>
            <a:off x="5765760" y="547056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>
            <a:off x="2033640" y="547524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2"/>
          <p:cNvSpPr/>
          <p:nvPr/>
        </p:nvSpPr>
        <p:spPr>
          <a:xfrm>
            <a:off x="1332000" y="2637000"/>
            <a:ext cx="2930400" cy="2979720"/>
          </a:xfrm>
          <a:custGeom>
            <a:avLst/>
            <a:gdLst>
              <a:gd name="textAreaLeft" fmla="*/ 0 w 2930400"/>
              <a:gd name="textAreaRight" fmla="*/ 2930760 w 2930400"/>
              <a:gd name="textAreaTop" fmla="*/ 0 h 2979720"/>
              <a:gd name="textAreaBottom" fmla="*/ 2980080 h 297972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3"/>
          <p:cNvSpPr/>
          <p:nvPr/>
        </p:nvSpPr>
        <p:spPr>
          <a:xfrm>
            <a:off x="4683240" y="319248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Verdana"/>
              </a:rPr>
              <a:t>网络提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4"/>
          <p:cNvSpPr/>
          <p:nvPr/>
        </p:nvSpPr>
        <p:spPr>
          <a:xfrm>
            <a:off x="3794040" y="4165560"/>
            <a:ext cx="3211560" cy="34596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Verdana"/>
              </a:rPr>
              <a:t>身边的同事朋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5"/>
          <p:cNvSpPr/>
          <p:nvPr/>
        </p:nvSpPr>
        <p:spPr>
          <a:xfrm>
            <a:off x="2914560" y="4503600"/>
            <a:ext cx="4083120" cy="631800"/>
          </a:xfrm>
          <a:custGeom>
            <a:avLst/>
            <a:gdLst>
              <a:gd name="textAreaLeft" fmla="*/ 0 w 4083120"/>
              <a:gd name="textAreaRight" fmla="*/ 4083480 w 408312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6"/>
          <p:cNvSpPr/>
          <p:nvPr/>
        </p:nvSpPr>
        <p:spPr>
          <a:xfrm>
            <a:off x="2916360" y="5135400"/>
            <a:ext cx="347796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Verdana"/>
              </a:rPr>
              <a:t>网络上的搜索引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7"/>
          <p:cNvSpPr/>
          <p:nvPr/>
        </p:nvSpPr>
        <p:spPr>
          <a:xfrm>
            <a:off x="2050920" y="6093000"/>
            <a:ext cx="3741840" cy="34416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Verdana"/>
              </a:rPr>
              <a:t>使用帮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8" descr=""/>
          <p:cNvPicPr/>
          <p:nvPr/>
        </p:nvPicPr>
        <p:blipFill>
          <a:blip r:embed="rId1"/>
          <a:srcRect l="3308" t="57543" r="55238" b="0"/>
          <a:stretch/>
        </p:blipFill>
        <p:spPr>
          <a:xfrm rot="18637200">
            <a:off x="1182600" y="3217680"/>
            <a:ext cx="1404720" cy="53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771640" y="188640"/>
            <a:ext cx="5832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四、碰到问题解决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1547640" y="1700280"/>
            <a:ext cx="21607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</a:rPr>
              <a:t>有事上百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7" descr=""/>
          <p:cNvPicPr/>
          <p:nvPr/>
        </p:nvPicPr>
        <p:blipFill>
          <a:blip r:embed="rId1"/>
          <a:stretch/>
        </p:blipFill>
        <p:spPr>
          <a:xfrm>
            <a:off x="3203640" y="2133720"/>
            <a:ext cx="3666960" cy="15904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8"/>
          <p:cNvSpPr/>
          <p:nvPr/>
        </p:nvSpPr>
        <p:spPr>
          <a:xfrm>
            <a:off x="1547640" y="42199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+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“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771640" y="188640"/>
            <a:ext cx="5832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四、碰到问题解决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332000" y="1700280"/>
            <a:ext cx="237636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</a:rPr>
              <a:t>找朋友或专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195640" y="2780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问题描述要准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2124000" y="364356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最好要截出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QQ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截图：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Ctrl+Alt+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771280" y="188640"/>
            <a:ext cx="6372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五、学习资源的获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3"/>
          <p:cNvSpPr/>
          <p:nvPr/>
        </p:nvSpPr>
        <p:spPr>
          <a:xfrm rot="16200000">
            <a:off x="6045840" y="2954520"/>
            <a:ext cx="1484280" cy="1121040"/>
          </a:xfrm>
          <a:prstGeom prst="downArrow">
            <a:avLst>
              <a:gd name="adj1" fmla="val 52074"/>
              <a:gd name="adj2" fmla="val 57903"/>
            </a:avLst>
          </a:prstGeom>
          <a:gradFill rotWithShape="0">
            <a:gsLst>
              <a:gs pos="0">
                <a:srgbClr val="bbe0e3"/>
              </a:gs>
              <a:gs pos="100000">
                <a:srgbClr val="333399">
                  <a:alpha val="0"/>
                </a:srgbClr>
              </a:gs>
            </a:gsLst>
            <a:lin ang="27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4"/>
          <p:cNvSpPr/>
          <p:nvPr/>
        </p:nvSpPr>
        <p:spPr>
          <a:xfrm rot="5400000">
            <a:off x="1668960" y="2991600"/>
            <a:ext cx="1484280" cy="1117800"/>
          </a:xfrm>
          <a:prstGeom prst="downArrow">
            <a:avLst>
              <a:gd name="adj1" fmla="val 52074"/>
              <a:gd name="adj2" fmla="val 57903"/>
            </a:avLst>
          </a:prstGeom>
          <a:gradFill rotWithShape="0">
            <a:gsLst>
              <a:gs pos="0">
                <a:srgbClr val="bbe0e3"/>
              </a:gs>
              <a:gs pos="100000">
                <a:srgbClr val="333399">
                  <a:alpha val="0"/>
                </a:srgbClr>
              </a:gs>
            </a:gsLst>
            <a:lin ang="135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5"/>
          <p:cNvGrpSpPr/>
          <p:nvPr/>
        </p:nvGrpSpPr>
        <p:grpSpPr>
          <a:xfrm>
            <a:off x="2843280" y="1700280"/>
            <a:ext cx="3610080" cy="3510000"/>
            <a:chOff x="2843280" y="1700280"/>
            <a:chExt cx="3610080" cy="3510000"/>
          </a:xfrm>
        </p:grpSpPr>
        <p:grpSp>
          <p:nvGrpSpPr>
            <p:cNvPr id="299" name="Group 6"/>
            <p:cNvGrpSpPr/>
            <p:nvPr/>
          </p:nvGrpSpPr>
          <p:grpSpPr>
            <a:xfrm>
              <a:off x="2843280" y="1700280"/>
              <a:ext cx="3610080" cy="3510000"/>
              <a:chOff x="2843280" y="1700280"/>
              <a:chExt cx="3610080" cy="3510000"/>
            </a:xfrm>
          </p:grpSpPr>
          <p:pic>
            <p:nvPicPr>
              <p:cNvPr id="300" name="Picture 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843280" y="1700280"/>
                <a:ext cx="3610080" cy="349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Oval 8"/>
              <p:cNvSpPr/>
              <p:nvPr/>
            </p:nvSpPr>
            <p:spPr>
              <a:xfrm>
                <a:off x="2843280" y="1700280"/>
                <a:ext cx="3585960" cy="351000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2" name="Picture 9" descr="Picture2"/>
            <p:cNvPicPr/>
            <p:nvPr/>
          </p:nvPicPr>
          <p:blipFill>
            <a:blip r:embed="rId2"/>
            <a:stretch/>
          </p:blipFill>
          <p:spPr>
            <a:xfrm>
              <a:off x="3203640" y="1734480"/>
              <a:ext cx="2851920" cy="124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WordArt 10"/>
          <p:cNvSpPr txBox="1"/>
          <p:nvPr/>
        </p:nvSpPr>
        <p:spPr>
          <a:xfrm>
            <a:off x="3564000" y="3218040"/>
            <a:ext cx="195732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学习资源</a:t>
            </a:r>
            <a:endParaRPr b="0" lang="en-US" sz="24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grpSp>
        <p:nvGrpSpPr>
          <p:cNvPr id="304" name="Group 13"/>
          <p:cNvGrpSpPr/>
          <p:nvPr/>
        </p:nvGrpSpPr>
        <p:grpSpPr>
          <a:xfrm>
            <a:off x="179280" y="2773440"/>
            <a:ext cx="1656000" cy="1367640"/>
            <a:chOff x="179280" y="2773440"/>
            <a:chExt cx="1656000" cy="1367640"/>
          </a:xfrm>
        </p:grpSpPr>
        <p:sp>
          <p:nvSpPr>
            <p:cNvPr id="305" name="Rectangle 14"/>
            <p:cNvSpPr/>
            <p:nvPr/>
          </p:nvSpPr>
          <p:spPr>
            <a:xfrm rot="10800000">
              <a:off x="179280" y="2961360"/>
              <a:ext cx="1656000" cy="11797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15"/>
            <p:cNvSpPr/>
            <p:nvPr/>
          </p:nvSpPr>
          <p:spPr>
            <a:xfrm rot="10800000">
              <a:off x="179280" y="2773440"/>
              <a:ext cx="1656000" cy="181440"/>
            </a:xfrm>
            <a:custGeom>
              <a:avLst/>
              <a:gdLst>
                <a:gd name="textAreaLeft" fmla="*/ 348840 w 1656000"/>
                <a:gd name="textAreaRight" fmla="*/ 1307160 w 1656000"/>
                <a:gd name="textAreaTop" fmla="*/ 38520 h 181440"/>
                <a:gd name="textAreaBottom" fmla="*/ 142920 h 1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89" y="21600"/>
                  </a:lnTo>
                  <a:lnTo>
                    <a:pt x="16111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WordArt 16"/>
          <p:cNvSpPr txBox="1"/>
          <p:nvPr/>
        </p:nvSpPr>
        <p:spPr>
          <a:xfrm>
            <a:off x="539640" y="3205080"/>
            <a:ext cx="1038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搜索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308" name="Group 17"/>
          <p:cNvGrpSpPr/>
          <p:nvPr/>
        </p:nvGrpSpPr>
        <p:grpSpPr>
          <a:xfrm>
            <a:off x="7380000" y="2708280"/>
            <a:ext cx="1655640" cy="1367640"/>
            <a:chOff x="7380000" y="2708280"/>
            <a:chExt cx="1655640" cy="1367640"/>
          </a:xfrm>
        </p:grpSpPr>
        <p:sp>
          <p:nvSpPr>
            <p:cNvPr id="309" name="Rectangle 18"/>
            <p:cNvSpPr/>
            <p:nvPr/>
          </p:nvSpPr>
          <p:spPr>
            <a:xfrm rot="10800000">
              <a:off x="7380000" y="2896200"/>
              <a:ext cx="1655640" cy="11797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9"/>
            <p:cNvSpPr/>
            <p:nvPr/>
          </p:nvSpPr>
          <p:spPr>
            <a:xfrm rot="10800000">
              <a:off x="7380000" y="2708280"/>
              <a:ext cx="1655640" cy="181440"/>
            </a:xfrm>
            <a:custGeom>
              <a:avLst/>
              <a:gdLst>
                <a:gd name="textAreaLeft" fmla="*/ 348840 w 1655640"/>
                <a:gd name="textAreaRight" fmla="*/ 1306800 w 1655640"/>
                <a:gd name="textAreaTop" fmla="*/ 38520 h 181440"/>
                <a:gd name="textAreaBottom" fmla="*/ 142920 h 1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89" y="21600"/>
                  </a:lnTo>
                  <a:lnTo>
                    <a:pt x="16111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WordArt 20"/>
          <p:cNvSpPr txBox="1"/>
          <p:nvPr/>
        </p:nvSpPr>
        <p:spPr>
          <a:xfrm>
            <a:off x="7812000" y="3205080"/>
            <a:ext cx="1038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淘宝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网购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312" name="Picture 23" descr=""/>
          <p:cNvPicPr/>
          <p:nvPr/>
        </p:nvPicPr>
        <p:blipFill>
          <a:blip r:embed="rId3"/>
          <a:stretch/>
        </p:blipFill>
        <p:spPr>
          <a:xfrm>
            <a:off x="0" y="5373720"/>
            <a:ext cx="3348000" cy="1330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4" descr=""/>
          <p:cNvPicPr/>
          <p:nvPr/>
        </p:nvPicPr>
        <p:blipFill>
          <a:blip r:embed="rId4"/>
          <a:stretch/>
        </p:blipFill>
        <p:spPr>
          <a:xfrm>
            <a:off x="6300720" y="5373720"/>
            <a:ext cx="2303640" cy="12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771280" y="188640"/>
            <a:ext cx="6372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五、学习资源的获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1"/>
          <p:cNvGrpSpPr/>
          <p:nvPr/>
        </p:nvGrpSpPr>
        <p:grpSpPr>
          <a:xfrm>
            <a:off x="1692000" y="1557000"/>
            <a:ext cx="3023640" cy="1080000"/>
            <a:chOff x="1692000" y="1557000"/>
            <a:chExt cx="3023640" cy="1080000"/>
          </a:xfrm>
        </p:grpSpPr>
        <p:sp>
          <p:nvSpPr>
            <p:cNvPr id="316" name="Rectangle 12"/>
            <p:cNvSpPr/>
            <p:nvPr/>
          </p:nvSpPr>
          <p:spPr>
            <a:xfrm rot="10800000">
              <a:off x="1692000" y="1706040"/>
              <a:ext cx="3023640" cy="9309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13"/>
            <p:cNvSpPr/>
            <p:nvPr/>
          </p:nvSpPr>
          <p:spPr>
            <a:xfrm rot="10800000">
              <a:off x="1692000" y="1556640"/>
              <a:ext cx="3023640" cy="142920"/>
            </a:xfrm>
            <a:custGeom>
              <a:avLst/>
              <a:gdLst>
                <a:gd name="textAreaLeft" fmla="*/ 637200 w 3023640"/>
                <a:gd name="textAreaRight" fmla="*/ 2386440 w 3023640"/>
                <a:gd name="textAreaTop" fmla="*/ 30240 h 142920"/>
                <a:gd name="textAreaBottom" fmla="*/ 1126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89" y="21600"/>
                  </a:lnTo>
                  <a:lnTo>
                    <a:pt x="16111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WordArt 14"/>
          <p:cNvSpPr txBox="1"/>
          <p:nvPr/>
        </p:nvSpPr>
        <p:spPr>
          <a:xfrm>
            <a:off x="2050920" y="1989000"/>
            <a:ext cx="25146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网络视频下载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19" name="WordArt 18"/>
          <p:cNvSpPr txBox="1"/>
          <p:nvPr/>
        </p:nvSpPr>
        <p:spPr>
          <a:xfrm>
            <a:off x="7812000" y="3205080"/>
            <a:ext cx="1038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淘宝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网购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320" name="Picture 21" descr=""/>
          <p:cNvPicPr/>
          <p:nvPr/>
        </p:nvPicPr>
        <p:blipFill>
          <a:blip r:embed="rId1"/>
          <a:stretch/>
        </p:blipFill>
        <p:spPr>
          <a:xfrm>
            <a:off x="1042920" y="3141720"/>
            <a:ext cx="2486160" cy="107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71640" y="188640"/>
            <a:ext cx="5832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一、培训学习意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403280" y="2997360"/>
            <a:ext cx="2519280" cy="64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职业教育</a:t>
            </a:r>
            <a:br>
              <a:rPr sz="2000"/>
            </a:br>
            <a:r>
              <a:rPr b="1" lang="zh-CN" sz="2000" spc="-1" strike="noStrike">
                <a:solidFill>
                  <a:srgbClr val="800000"/>
                </a:solidFill>
                <a:latin typeface="仿宋_GB2312"/>
                <a:ea typeface="仿宋_GB2312"/>
              </a:rPr>
              <a:t>教学生赚钱的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332000" y="1987920"/>
            <a:ext cx="3887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我们自己选择了职业教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930920" y="2708280"/>
            <a:ext cx="187308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公司企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1476360" y="4579920"/>
            <a:ext cx="115092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职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6950160" y="4579920"/>
            <a:ext cx="115092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事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AutoShape 15"/>
          <p:cNvCxnSpPr>
            <a:stCxn id="85" idx="3"/>
            <a:endCxn id="86" idx="1"/>
          </p:cNvCxnSpPr>
          <p:nvPr/>
        </p:nvCxnSpPr>
        <p:spPr>
          <a:xfrm>
            <a:off x="2627280" y="4795560"/>
            <a:ext cx="43236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8" name="Rectangle 16"/>
          <p:cNvSpPr/>
          <p:nvPr/>
        </p:nvSpPr>
        <p:spPr>
          <a:xfrm>
            <a:off x="3276720" y="4363920"/>
            <a:ext cx="287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辈子的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4930920" y="3573360"/>
            <a:ext cx="187308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中职学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AutoShape 18"/>
          <p:cNvCxnSpPr>
            <a:stCxn id="82" idx="3"/>
            <a:endCxn id="84" idx="1"/>
          </p:cNvCxnSpPr>
          <p:nvPr/>
        </p:nvCxnSpPr>
        <p:spPr>
          <a:xfrm flipV="1">
            <a:off x="3922200" y="2923920"/>
            <a:ext cx="1008720" cy="397440"/>
          </a:xfrm>
          <a:prstGeom prst="bentConnector3">
            <a:avLst>
              <a:gd name="adj1" fmla="val 4991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1" name="AutoShape 19"/>
          <p:cNvCxnSpPr>
            <a:stCxn id="82" idx="3"/>
            <a:endCxn id="89" idx="1"/>
          </p:cNvCxnSpPr>
          <p:nvPr/>
        </p:nvCxnSpPr>
        <p:spPr>
          <a:xfrm>
            <a:off x="3922200" y="3320640"/>
            <a:ext cx="1008720" cy="469080"/>
          </a:xfrm>
          <a:prstGeom prst="bentConnector3">
            <a:avLst>
              <a:gd name="adj1" fmla="val 4991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92" name="图片 9" descr="未标题-7.png"/>
          <p:cNvPicPr/>
          <p:nvPr/>
        </p:nvPicPr>
        <p:blipFill>
          <a:blip r:embed="rId1"/>
          <a:stretch/>
        </p:blipFill>
        <p:spPr>
          <a:xfrm>
            <a:off x="539640" y="1844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1"/>
          <p:cNvSpPr/>
          <p:nvPr/>
        </p:nvSpPr>
        <p:spPr>
          <a:xfrm>
            <a:off x="3348000" y="4867200"/>
            <a:ext cx="287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一辈子怎么过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3492360" y="5877000"/>
            <a:ext cx="273528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学习培训促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3"/>
          <p:cNvSpPr/>
          <p:nvPr/>
        </p:nvSpPr>
        <p:spPr>
          <a:xfrm>
            <a:off x="4643280" y="537228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4"/>
          <p:cNvSpPr/>
          <p:nvPr/>
        </p:nvSpPr>
        <p:spPr>
          <a:xfrm>
            <a:off x="1187280" y="2492280"/>
            <a:ext cx="367200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902160" y="2035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0" y="21337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谢谢大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0" dur="2000" fill="hold"/>
                                        <p:tgtEl>
                                          <p:spTgt spid="3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71640" y="188640"/>
            <a:ext cx="5832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一、培训学习意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403280" y="2275560"/>
            <a:ext cx="4824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三天不学习比不上刘少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9" descr="未标题-7.png"/>
          <p:cNvPicPr/>
          <p:nvPr/>
        </p:nvPicPr>
        <p:blipFill>
          <a:blip r:embed="rId1"/>
          <a:stretch/>
        </p:blipFill>
        <p:spPr>
          <a:xfrm>
            <a:off x="539640" y="2060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01" name="Line 20"/>
          <p:cNvSpPr/>
          <p:nvPr/>
        </p:nvSpPr>
        <p:spPr>
          <a:xfrm>
            <a:off x="1403280" y="2781360"/>
            <a:ext cx="453708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9" descr="未标题-7.png"/>
          <p:cNvPicPr/>
          <p:nvPr/>
        </p:nvPicPr>
        <p:blipFill>
          <a:blip r:embed="rId2"/>
          <a:stretch/>
        </p:blipFill>
        <p:spPr>
          <a:xfrm>
            <a:off x="539640" y="357336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Line 27"/>
          <p:cNvSpPr/>
          <p:nvPr/>
        </p:nvSpPr>
        <p:spPr>
          <a:xfrm>
            <a:off x="1332000" y="4221000"/>
            <a:ext cx="453708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8" descr=""/>
          <p:cNvPicPr/>
          <p:nvPr/>
        </p:nvPicPr>
        <p:blipFill>
          <a:blip r:embed="rId3"/>
          <a:stretch/>
        </p:blipFill>
        <p:spPr>
          <a:xfrm>
            <a:off x="5651640" y="1197000"/>
            <a:ext cx="2592360" cy="1884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9"/>
          <p:cNvSpPr/>
          <p:nvPr/>
        </p:nvSpPr>
        <p:spPr>
          <a:xfrm>
            <a:off x="1403280" y="3691440"/>
            <a:ext cx="4824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士别三日，当刮目相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0" descr=""/>
          <p:cNvPicPr/>
          <p:nvPr/>
        </p:nvPicPr>
        <p:blipFill>
          <a:blip r:embed="rId4"/>
          <a:stretch/>
        </p:blipFill>
        <p:spPr>
          <a:xfrm>
            <a:off x="324000" y="4782960"/>
            <a:ext cx="5689440" cy="207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1640" y="188640"/>
            <a:ext cx="5832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一、培训学习的意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324000" y="4076640"/>
            <a:ext cx="2879640" cy="503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中职学校教师发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3564000" y="3139920"/>
            <a:ext cx="863640" cy="72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学校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3564000" y="5445000"/>
            <a:ext cx="863640" cy="72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师生交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AutoShape 26"/>
          <p:cNvCxnSpPr>
            <a:stCxn id="112" idx="3"/>
            <a:endCxn id="109" idx="1"/>
          </p:cNvCxnSpPr>
          <p:nvPr/>
        </p:nvCxnSpPr>
        <p:spPr>
          <a:xfrm flipV="1">
            <a:off x="3203280" y="3499920"/>
            <a:ext cx="361080" cy="1045440"/>
          </a:xfrm>
          <a:prstGeom prst="bentConnector3">
            <a:avLst>
              <a:gd name="adj1" fmla="val 497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3" name="AutoShape 27"/>
          <p:cNvCxnSpPr>
            <a:stCxn id="112" idx="3"/>
            <a:endCxn id="110" idx="1"/>
          </p:cNvCxnSpPr>
          <p:nvPr/>
        </p:nvCxnSpPr>
        <p:spPr>
          <a:xfrm>
            <a:off x="3203280" y="4544640"/>
            <a:ext cx="361080" cy="1261080"/>
          </a:xfrm>
          <a:prstGeom prst="bentConnector3">
            <a:avLst>
              <a:gd name="adj1" fmla="val 497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4" name="Rectangle 31"/>
          <p:cNvSpPr/>
          <p:nvPr/>
        </p:nvSpPr>
        <p:spPr>
          <a:xfrm>
            <a:off x="324000" y="4508640"/>
            <a:ext cx="287964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仿宋_GB2312"/>
                <a:ea typeface="仿宋_GB2312"/>
              </a:rPr>
              <a:t>迷雾重重，困难多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2"/>
          <p:cNvSpPr/>
          <p:nvPr/>
        </p:nvSpPr>
        <p:spPr>
          <a:xfrm>
            <a:off x="324000" y="4076640"/>
            <a:ext cx="2879640" cy="93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4788000" y="2205000"/>
            <a:ext cx="1439640" cy="719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学校教学任务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4788000" y="3068640"/>
            <a:ext cx="1439640" cy="93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校企合作任重道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AutoShape 35"/>
          <p:cNvCxnSpPr>
            <a:stCxn id="109" idx="3"/>
            <a:endCxn id="115" idx="1"/>
          </p:cNvCxnSpPr>
          <p:nvPr/>
        </p:nvCxnSpPr>
        <p:spPr>
          <a:xfrm flipV="1">
            <a:off x="4427280" y="2564640"/>
            <a:ext cx="361080" cy="935640"/>
          </a:xfrm>
          <a:prstGeom prst="bentConnector3">
            <a:avLst>
              <a:gd name="adj1" fmla="val 497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8" name="AutoShape 36"/>
          <p:cNvCxnSpPr>
            <a:stCxn id="109" idx="3"/>
            <a:endCxn id="116" idx="1"/>
          </p:cNvCxnSpPr>
          <p:nvPr/>
        </p:nvCxnSpPr>
        <p:spPr>
          <a:xfrm>
            <a:off x="4427280" y="3500280"/>
            <a:ext cx="361080" cy="37440"/>
          </a:xfrm>
          <a:prstGeom prst="bentConnector3">
            <a:avLst>
              <a:gd name="adj1" fmla="val 497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9" name="Rectangle 37"/>
          <p:cNvSpPr/>
          <p:nvPr/>
        </p:nvSpPr>
        <p:spPr>
          <a:xfrm>
            <a:off x="6588000" y="1484280"/>
            <a:ext cx="1764000" cy="442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仿宋_GB2312"/>
                <a:ea typeface="仿宋_GB2312"/>
              </a:rPr>
              <a:t>课务量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6588000" y="2060640"/>
            <a:ext cx="1764000" cy="43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仿宋_GB2312"/>
                <a:ea typeface="仿宋_GB2312"/>
              </a:rPr>
              <a:t>课程跨度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39"/>
          <p:cNvCxnSpPr>
            <a:stCxn id="115" idx="3"/>
            <a:endCxn id="119" idx="1"/>
          </p:cNvCxnSpPr>
          <p:nvPr/>
        </p:nvCxnSpPr>
        <p:spPr>
          <a:xfrm flipV="1">
            <a:off x="6227280" y="1706040"/>
            <a:ext cx="361080" cy="859680"/>
          </a:xfrm>
          <a:prstGeom prst="bentConnector3">
            <a:avLst>
              <a:gd name="adj1" fmla="val 497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2" name="AutoShape 40"/>
          <p:cNvCxnSpPr>
            <a:stCxn id="115" idx="3"/>
            <a:endCxn id="120" idx="1"/>
          </p:cNvCxnSpPr>
          <p:nvPr/>
        </p:nvCxnSpPr>
        <p:spPr>
          <a:xfrm flipV="1">
            <a:off x="6227280" y="2277720"/>
            <a:ext cx="361080" cy="288000"/>
          </a:xfrm>
          <a:prstGeom prst="bentConnector3">
            <a:avLst>
              <a:gd name="adj1" fmla="val 497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3" name="Rectangle 41"/>
          <p:cNvSpPr/>
          <p:nvPr/>
        </p:nvSpPr>
        <p:spPr>
          <a:xfrm>
            <a:off x="6588000" y="2635200"/>
            <a:ext cx="1764000" cy="442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仿宋_GB2312"/>
                <a:ea typeface="仿宋_GB2312"/>
              </a:rPr>
              <a:t>专业不平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6588000" y="3211560"/>
            <a:ext cx="1764000" cy="43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仿宋_GB2312"/>
                <a:ea typeface="仿宋_GB2312"/>
              </a:rPr>
              <a:t>教学压力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43"/>
          <p:cNvCxnSpPr>
            <a:stCxn id="115" idx="3"/>
            <a:endCxn id="123" idx="1"/>
          </p:cNvCxnSpPr>
          <p:nvPr/>
        </p:nvCxnSpPr>
        <p:spPr>
          <a:xfrm>
            <a:off x="6227280" y="2565360"/>
            <a:ext cx="361080" cy="293040"/>
          </a:xfrm>
          <a:prstGeom prst="bentConnector3">
            <a:avLst>
              <a:gd name="adj1" fmla="val 497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6" name="AutoShape 44"/>
          <p:cNvCxnSpPr>
            <a:stCxn id="115" idx="3"/>
            <a:endCxn id="124" idx="1"/>
          </p:cNvCxnSpPr>
          <p:nvPr/>
        </p:nvCxnSpPr>
        <p:spPr>
          <a:xfrm>
            <a:off x="6227280" y="2565000"/>
            <a:ext cx="361080" cy="864360"/>
          </a:xfrm>
          <a:prstGeom prst="bentConnector3">
            <a:avLst>
              <a:gd name="adj1" fmla="val 497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27" name="Picture 45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324000" y="3016080"/>
            <a:ext cx="1079280" cy="1062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6"/>
          <p:cNvSpPr/>
          <p:nvPr/>
        </p:nvSpPr>
        <p:spPr>
          <a:xfrm>
            <a:off x="4788000" y="4151160"/>
            <a:ext cx="1439640" cy="100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教学以外的工作</a:t>
            </a:r>
            <a:br>
              <a:rPr sz="2000"/>
            </a:br>
            <a:r>
              <a:rPr b="1" lang="zh-CN" sz="2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繁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AutoShape 47"/>
          <p:cNvCxnSpPr>
            <a:stCxn id="109" idx="3"/>
            <a:endCxn id="128" idx="1"/>
          </p:cNvCxnSpPr>
          <p:nvPr/>
        </p:nvCxnSpPr>
        <p:spPr>
          <a:xfrm>
            <a:off x="4427280" y="3500280"/>
            <a:ext cx="361080" cy="1154880"/>
          </a:xfrm>
          <a:prstGeom prst="bentConnector3">
            <a:avLst>
              <a:gd name="adj1" fmla="val 497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0" name="Rectangle 48"/>
          <p:cNvSpPr/>
          <p:nvPr/>
        </p:nvSpPr>
        <p:spPr>
          <a:xfrm>
            <a:off x="4788000" y="5302080"/>
            <a:ext cx="1439640" cy="100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中职学校生源质量相对较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49"/>
          <p:cNvCxnSpPr>
            <a:stCxn id="110" idx="3"/>
            <a:endCxn id="130" idx="1"/>
          </p:cNvCxnSpPr>
          <p:nvPr/>
        </p:nvCxnSpPr>
        <p:spPr>
          <a:xfrm>
            <a:off x="4427280" y="5805000"/>
            <a:ext cx="3610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2" name="AutoShape 50"/>
          <p:cNvCxnSpPr>
            <a:stCxn id="130" idx="3"/>
            <a:endCxn id="133" idx="1"/>
          </p:cNvCxnSpPr>
          <p:nvPr/>
        </p:nvCxnSpPr>
        <p:spPr>
          <a:xfrm flipV="1">
            <a:off x="6227280" y="5444280"/>
            <a:ext cx="361080" cy="361080"/>
          </a:xfrm>
          <a:prstGeom prst="bentConnector3">
            <a:avLst>
              <a:gd name="adj1" fmla="val 497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4" name="Rectangle 51"/>
          <p:cNvSpPr/>
          <p:nvPr/>
        </p:nvSpPr>
        <p:spPr>
          <a:xfrm>
            <a:off x="6588000" y="5865840"/>
            <a:ext cx="1764000" cy="442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仿宋_GB2312"/>
                <a:ea typeface="仿宋_GB2312"/>
              </a:rPr>
              <a:t>管理难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AutoShape 52"/>
          <p:cNvCxnSpPr>
            <a:stCxn id="130" idx="3"/>
            <a:endCxn id="134" idx="1"/>
          </p:cNvCxnSpPr>
          <p:nvPr/>
        </p:nvCxnSpPr>
        <p:spPr>
          <a:xfrm>
            <a:off x="6227280" y="5805000"/>
            <a:ext cx="361080" cy="283320"/>
          </a:xfrm>
          <a:prstGeom prst="bentConnector3">
            <a:avLst>
              <a:gd name="adj1" fmla="val 497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3" name="Rectangle 53"/>
          <p:cNvSpPr/>
          <p:nvPr/>
        </p:nvSpPr>
        <p:spPr>
          <a:xfrm>
            <a:off x="6588000" y="5227560"/>
            <a:ext cx="1764000" cy="43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仿宋_GB2312"/>
                <a:ea typeface="仿宋_GB2312"/>
              </a:rPr>
              <a:t>厌学情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4"/>
          <p:cNvSpPr/>
          <p:nvPr/>
        </p:nvSpPr>
        <p:spPr>
          <a:xfrm>
            <a:off x="1258920" y="1773360"/>
            <a:ext cx="2665440" cy="1150920"/>
          </a:xfrm>
          <a:prstGeom prst="cloudCallout">
            <a:avLst>
              <a:gd name="adj1" fmla="val -55777"/>
              <a:gd name="adj2" fmla="val 7510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成就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幸福指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5"/>
          <p:cNvSpPr/>
          <p:nvPr/>
        </p:nvSpPr>
        <p:spPr>
          <a:xfrm>
            <a:off x="2700360" y="979920"/>
            <a:ext cx="3887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职业教育教师的困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6"/>
          <p:cNvSpPr/>
          <p:nvPr/>
        </p:nvSpPr>
        <p:spPr>
          <a:xfrm>
            <a:off x="2556000" y="1484280"/>
            <a:ext cx="367164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9" descr="未标题-7.png"/>
          <p:cNvPicPr/>
          <p:nvPr/>
        </p:nvPicPr>
        <p:blipFill>
          <a:blip r:embed="rId2"/>
          <a:stretch/>
        </p:blipFill>
        <p:spPr>
          <a:xfrm>
            <a:off x="1908000" y="836640"/>
            <a:ext cx="10083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7"/>
          <p:cNvSpPr/>
          <p:nvPr/>
        </p:nvSpPr>
        <p:spPr>
          <a:xfrm>
            <a:off x="2270520" y="102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1" descr=""/>
          <p:cNvPicPr/>
          <p:nvPr/>
        </p:nvPicPr>
        <p:blipFill>
          <a:blip r:embed="rId1"/>
          <a:stretch/>
        </p:blipFill>
        <p:spPr>
          <a:xfrm>
            <a:off x="2627280" y="3213000"/>
            <a:ext cx="1127160" cy="1317600"/>
          </a:xfrm>
          <a:prstGeom prst="rect">
            <a:avLst/>
          </a:prstGeom>
          <a:ln w="0">
            <a:noFill/>
          </a:ln>
        </p:spPr>
      </p:pic>
      <p:sp>
        <p:nvSpPr>
          <p:cNvPr id="142" name="Freeform 35"/>
          <p:cNvSpPr/>
          <p:nvPr/>
        </p:nvSpPr>
        <p:spPr>
          <a:xfrm rot="20459400">
            <a:off x="0" y="3933720"/>
            <a:ext cx="7319880" cy="2589480"/>
          </a:xfrm>
          <a:custGeom>
            <a:avLst/>
            <a:gdLst>
              <a:gd name="textAreaLeft" fmla="*/ 0 w 7319880"/>
              <a:gd name="textAreaRight" fmla="*/ 7320240 w 7319880"/>
              <a:gd name="textAreaTop" fmla="*/ 0 h 2589480"/>
              <a:gd name="textAreaBottom" fmla="*/ 2589840 h 258948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80808"/>
              </a:gs>
              <a:gs pos="100000">
                <a:srgbClr val="bbe0e3"/>
              </a:gs>
            </a:gsLst>
            <a:lin ang="654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11280" y="188640"/>
            <a:ext cx="6337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计算机知识培训学习的必要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042920" y="4869000"/>
            <a:ext cx="3529080" cy="503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教学工作需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042920" y="5373720"/>
            <a:ext cx="3529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仿宋_GB2312"/>
                <a:ea typeface="仿宋_GB2312"/>
              </a:rPr>
              <a:t>中职学生需要生动形象的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1042920" y="4869000"/>
            <a:ext cx="3529080" cy="93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2" descr="378"/>
          <p:cNvPicPr/>
          <p:nvPr/>
        </p:nvPicPr>
        <p:blipFill>
          <a:blip r:embed="rId2">
            <a:grayscl/>
            <a:lum contrast="30000"/>
          </a:blip>
          <a:srcRect l="0" t="0" r="80" b="0"/>
          <a:stretch/>
        </p:blipFill>
        <p:spPr>
          <a:xfrm>
            <a:off x="324000" y="3016080"/>
            <a:ext cx="1079280" cy="10623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31"/>
          <p:cNvSpPr/>
          <p:nvPr/>
        </p:nvSpPr>
        <p:spPr>
          <a:xfrm>
            <a:off x="1258920" y="1773360"/>
            <a:ext cx="2665440" cy="1150920"/>
          </a:xfrm>
          <a:prstGeom prst="cloudCallout">
            <a:avLst>
              <a:gd name="adj1" fmla="val -55777"/>
              <a:gd name="adj2" fmla="val 7510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需要就是动力！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2"/>
          <p:cNvSpPr/>
          <p:nvPr/>
        </p:nvSpPr>
        <p:spPr>
          <a:xfrm>
            <a:off x="4859280" y="3789360"/>
            <a:ext cx="367200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网络无处不在，无时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6"/>
          <p:cNvSpPr/>
          <p:nvPr/>
        </p:nvSpPr>
        <p:spPr>
          <a:xfrm>
            <a:off x="4859280" y="3213000"/>
            <a:ext cx="3672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日常生活应用需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7"/>
          <p:cNvSpPr/>
          <p:nvPr/>
        </p:nvSpPr>
        <p:spPr>
          <a:xfrm>
            <a:off x="4356000" y="1989000"/>
            <a:ext cx="3672000" cy="576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不要让孩子说你</a:t>
            </a:r>
            <a:r>
              <a:rPr b="1" lang="en-US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OUT</a:t>
            </a:r>
            <a:r>
              <a:rPr b="1" lang="zh-CN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8"/>
          <p:cNvSpPr/>
          <p:nvPr/>
        </p:nvSpPr>
        <p:spPr>
          <a:xfrm>
            <a:off x="4356000" y="1413000"/>
            <a:ext cx="3672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仿宋_GB2312"/>
                <a:ea typeface="仿宋_GB2312"/>
              </a:rPr>
              <a:t>培养孩子教育需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9"/>
          <p:cNvSpPr/>
          <p:nvPr/>
        </p:nvSpPr>
        <p:spPr>
          <a:xfrm flipH="1" rot="953400">
            <a:off x="7888320" y="2205000"/>
            <a:ext cx="1255680" cy="1548000"/>
          </a:xfrm>
          <a:custGeom>
            <a:avLst/>
            <a:gdLst>
              <a:gd name="textAreaLeft" fmla="*/ 360 w 1255680"/>
              <a:gd name="textAreaRight" fmla="*/ 1256400 w 1255680"/>
              <a:gd name="textAreaTop" fmla="*/ 0 h 1548000"/>
              <a:gd name="textAreaBottom" fmla="*/ 1548360 h 154800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63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640" y="188640"/>
            <a:ext cx="5832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二、基本认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Group 16"/>
          <p:cNvGrpSpPr/>
          <p:nvPr/>
        </p:nvGrpSpPr>
        <p:grpSpPr>
          <a:xfrm>
            <a:off x="1187280" y="2060640"/>
            <a:ext cx="6479280" cy="3816000"/>
            <a:chOff x="1187280" y="2060640"/>
            <a:chExt cx="6479280" cy="3816000"/>
          </a:xfrm>
        </p:grpSpPr>
        <p:sp>
          <p:nvSpPr>
            <p:cNvPr id="156" name="未知"/>
            <p:cNvSpPr/>
            <p:nvPr/>
          </p:nvSpPr>
          <p:spPr>
            <a:xfrm>
              <a:off x="1187280" y="2060640"/>
              <a:ext cx="6479280" cy="3816000"/>
            </a:xfrm>
            <a:custGeom>
              <a:avLst/>
              <a:gdLst>
                <a:gd name="textAreaLeft" fmla="*/ 0 w 6479280"/>
                <a:gd name="textAreaRight" fmla="*/ 6479640 w 6479280"/>
                <a:gd name="textAreaTop" fmla="*/ 0 h 3816000"/>
                <a:gd name="textAreaBottom" fmla="*/ 3816360 h 381600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181847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225080" y="2067840"/>
              <a:ext cx="6427440" cy="666360"/>
            </a:xfrm>
            <a:custGeom>
              <a:avLst/>
              <a:gdLst>
                <a:gd name="textAreaLeft" fmla="*/ 0 w 6427440"/>
                <a:gd name="textAreaRight" fmla="*/ 6427800 w 6427440"/>
                <a:gd name="textAreaTop" fmla="*/ 0 h 666360"/>
                <a:gd name="textAreaBottom" fmla="*/ 666360 h 66636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240200" y="5422320"/>
              <a:ext cx="6412320" cy="450720"/>
            </a:xfrm>
            <a:custGeom>
              <a:avLst/>
              <a:gdLst>
                <a:gd name="textAreaLeft" fmla="*/ 0 w 6412320"/>
                <a:gd name="textAreaRight" fmla="*/ 6412680 w 641232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20"/>
          <p:cNvSpPr/>
          <p:nvPr/>
        </p:nvSpPr>
        <p:spPr>
          <a:xfrm>
            <a:off x="1547640" y="2924280"/>
            <a:ext cx="5185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计算机是工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给工作带来便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需要掌握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器性、严谨性、程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1"/>
          <p:cNvGrpSpPr/>
          <p:nvPr/>
        </p:nvGrpSpPr>
        <p:grpSpPr>
          <a:xfrm>
            <a:off x="1332000" y="1844640"/>
            <a:ext cx="739800" cy="794880"/>
            <a:chOff x="1332000" y="1844640"/>
            <a:chExt cx="739800" cy="794880"/>
          </a:xfrm>
        </p:grpSpPr>
        <p:grpSp>
          <p:nvGrpSpPr>
            <p:cNvPr id="161" name="Group 22"/>
            <p:cNvGrpSpPr/>
            <p:nvPr/>
          </p:nvGrpSpPr>
          <p:grpSpPr>
            <a:xfrm>
              <a:off x="1332000" y="1844640"/>
              <a:ext cx="739800" cy="794880"/>
              <a:chOff x="1332000" y="1844640"/>
              <a:chExt cx="739800" cy="794880"/>
            </a:xfrm>
          </p:grpSpPr>
          <p:pic>
            <p:nvPicPr>
              <p:cNvPr id="162" name="Picture 23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401840" y="2467800"/>
                <a:ext cx="609480" cy="17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24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332000" y="1844640"/>
                <a:ext cx="739800" cy="73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Oval 25"/>
              <p:cNvSpPr/>
              <p:nvPr/>
            </p:nvSpPr>
            <p:spPr>
              <a:xfrm>
                <a:off x="1332000" y="1844640"/>
                <a:ext cx="735120" cy="735120"/>
              </a:xfrm>
              <a:prstGeom prst="ellipse">
                <a:avLst/>
              </a:prstGeom>
              <a:gradFill rotWithShape="0">
                <a:gsLst>
                  <a:gs pos="0">
                    <a:srgbClr val="181847">
                      <a:alpha val="90196"/>
                    </a:srgbClr>
                  </a:gs>
                  <a:gs pos="50000">
                    <a:srgbClr val="333399">
                      <a:alpha val="55294"/>
                    </a:srgbClr>
                  </a:gs>
                  <a:gs pos="100000">
                    <a:srgbClr val="18184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5" name="Picture 26" descr="Picture2"/>
            <p:cNvPicPr/>
            <p:nvPr/>
          </p:nvPicPr>
          <p:blipFill>
            <a:blip r:embed="rId3"/>
            <a:stretch/>
          </p:blipFill>
          <p:spPr>
            <a:xfrm>
              <a:off x="1422360" y="1852200"/>
              <a:ext cx="569880" cy="25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Oval 30"/>
          <p:cNvSpPr/>
          <p:nvPr/>
        </p:nvSpPr>
        <p:spPr>
          <a:xfrm>
            <a:off x="4427640" y="1700280"/>
            <a:ext cx="1008000" cy="865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2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71640" y="188640"/>
            <a:ext cx="5832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二、教师需要掌握计算机技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46"/>
          <p:cNvSpPr/>
          <p:nvPr/>
        </p:nvSpPr>
        <p:spPr>
          <a:xfrm>
            <a:off x="1042920" y="3141720"/>
            <a:ext cx="2016360" cy="504720"/>
          </a:xfrm>
          <a:prstGeom prst="diamond">
            <a:avLst/>
          </a:prstGeom>
          <a:solidFill>
            <a:srgbClr val="cc00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数据计算统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1116000" y="1844640"/>
            <a:ext cx="2087640" cy="4597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文字处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1114560" y="2276640"/>
            <a:ext cx="2087280" cy="368280"/>
          </a:xfrm>
          <a:prstGeom prst="rect">
            <a:avLst/>
          </a:prstGeom>
          <a:solidFill>
            <a:srgbClr val="ffff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Word Proces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4138560" y="2044800"/>
            <a:ext cx="1152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录入排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794200" y="2116080"/>
            <a:ext cx="1368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制作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7"/>
          <p:cNvSpPr/>
          <p:nvPr/>
        </p:nvSpPr>
        <p:spPr>
          <a:xfrm>
            <a:off x="1042920" y="3645000"/>
            <a:ext cx="2087640" cy="368280"/>
          </a:xfrm>
          <a:prstGeom prst="rect">
            <a:avLst/>
          </a:prstGeom>
          <a:solidFill>
            <a:srgbClr val="008000"/>
          </a:solidFill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ata Statistics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067280" y="3500280"/>
            <a:ext cx="208908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Microsoft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1"/>
          <p:cNvSpPr/>
          <p:nvPr/>
        </p:nvSpPr>
        <p:spPr>
          <a:xfrm>
            <a:off x="1114560" y="4584960"/>
            <a:ext cx="208728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课件制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1116000" y="5013360"/>
            <a:ext cx="2087640" cy="307080"/>
          </a:xfrm>
          <a:prstGeom prst="rect">
            <a:avLst/>
          </a:prstGeom>
          <a:solidFill>
            <a:srgbClr val="008000"/>
          </a:solidFill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Courseware Mak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3994200" y="4797360"/>
            <a:ext cx="32418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文字 图像 图表 视频 音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5"/>
          <p:cNvSpPr/>
          <p:nvPr/>
        </p:nvSpPr>
        <p:spPr>
          <a:xfrm>
            <a:off x="1116000" y="6216480"/>
            <a:ext cx="2087640" cy="307080"/>
          </a:xfrm>
          <a:prstGeom prst="rect">
            <a:avLst/>
          </a:prstGeom>
          <a:solidFill>
            <a:srgbClr val="008000"/>
          </a:solidFill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Internet Net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3994200" y="5932440"/>
            <a:ext cx="32418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交流 邮件 网购 搜索查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67"/>
          <p:cNvGrpSpPr/>
          <p:nvPr/>
        </p:nvGrpSpPr>
        <p:grpSpPr>
          <a:xfrm>
            <a:off x="7667640" y="4724280"/>
            <a:ext cx="1285920" cy="3551400"/>
            <a:chOff x="7667640" y="4724280"/>
            <a:chExt cx="1285920" cy="3551400"/>
          </a:xfrm>
        </p:grpSpPr>
        <p:sp>
          <p:nvSpPr>
            <p:cNvPr id="181" name="Freeform 472"/>
            <p:cNvSpPr/>
            <p:nvPr/>
          </p:nvSpPr>
          <p:spPr>
            <a:xfrm flipH="1">
              <a:off x="8327520" y="5400360"/>
              <a:ext cx="209160" cy="279000"/>
            </a:xfrm>
            <a:custGeom>
              <a:avLst/>
              <a:gdLst>
                <a:gd name="textAreaLeft" fmla="*/ -360 w 209160"/>
                <a:gd name="textAreaRight" fmla="*/ 209160 w 20916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280" h="372">
                  <a:moveTo>
                    <a:pt x="135" y="41"/>
                  </a:moveTo>
                  <a:lnTo>
                    <a:pt x="135" y="41"/>
                  </a:lnTo>
                  <a:lnTo>
                    <a:pt x="114" y="31"/>
                  </a:lnTo>
                  <a:lnTo>
                    <a:pt x="104" y="20"/>
                  </a:lnTo>
                  <a:lnTo>
                    <a:pt x="73" y="0"/>
                  </a:lnTo>
                  <a:lnTo>
                    <a:pt x="52" y="0"/>
                  </a:lnTo>
                  <a:lnTo>
                    <a:pt x="21" y="0"/>
                  </a:lnTo>
                  <a:lnTo>
                    <a:pt x="11" y="20"/>
                  </a:lnTo>
                  <a:lnTo>
                    <a:pt x="0" y="41"/>
                  </a:lnTo>
                  <a:lnTo>
                    <a:pt x="0" y="83"/>
                  </a:lnTo>
                  <a:lnTo>
                    <a:pt x="11" y="124"/>
                  </a:lnTo>
                  <a:lnTo>
                    <a:pt x="42" y="196"/>
                  </a:lnTo>
                  <a:lnTo>
                    <a:pt x="73" y="279"/>
                  </a:lnTo>
                  <a:lnTo>
                    <a:pt x="94" y="372"/>
                  </a:lnTo>
                  <a:lnTo>
                    <a:pt x="125" y="362"/>
                  </a:lnTo>
                  <a:lnTo>
                    <a:pt x="145" y="341"/>
                  </a:lnTo>
                  <a:lnTo>
                    <a:pt x="197" y="341"/>
                  </a:lnTo>
                  <a:lnTo>
                    <a:pt x="228" y="341"/>
                  </a:lnTo>
                  <a:lnTo>
                    <a:pt x="249" y="331"/>
                  </a:lnTo>
                  <a:lnTo>
                    <a:pt x="269" y="310"/>
                  </a:lnTo>
                  <a:lnTo>
                    <a:pt x="280" y="269"/>
                  </a:lnTo>
                  <a:lnTo>
                    <a:pt x="280" y="238"/>
                  </a:lnTo>
                  <a:lnTo>
                    <a:pt x="269" y="196"/>
                  </a:lnTo>
                  <a:lnTo>
                    <a:pt x="249" y="165"/>
                  </a:lnTo>
                  <a:lnTo>
                    <a:pt x="228" y="134"/>
                  </a:lnTo>
                  <a:lnTo>
                    <a:pt x="197" y="103"/>
                  </a:lnTo>
                  <a:lnTo>
                    <a:pt x="187" y="72"/>
                  </a:lnTo>
                  <a:lnTo>
                    <a:pt x="1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74"/>
            <p:cNvSpPr/>
            <p:nvPr/>
          </p:nvSpPr>
          <p:spPr>
            <a:xfrm flipH="1">
              <a:off x="8490600" y="5004000"/>
              <a:ext cx="92520" cy="185760"/>
            </a:xfrm>
            <a:custGeom>
              <a:avLst/>
              <a:gdLst>
                <a:gd name="textAreaLeft" fmla="*/ -360 w 92520"/>
                <a:gd name="textAreaRight" fmla="*/ 92520 w 92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24" h="248">
                  <a:moveTo>
                    <a:pt x="73" y="0"/>
                  </a:moveTo>
                  <a:lnTo>
                    <a:pt x="73" y="0"/>
                  </a:lnTo>
                  <a:lnTo>
                    <a:pt x="52" y="31"/>
                  </a:lnTo>
                  <a:lnTo>
                    <a:pt x="21" y="103"/>
                  </a:lnTo>
                  <a:lnTo>
                    <a:pt x="11" y="176"/>
                  </a:lnTo>
                  <a:lnTo>
                    <a:pt x="0" y="248"/>
                  </a:lnTo>
                  <a:lnTo>
                    <a:pt x="11" y="228"/>
                  </a:lnTo>
                  <a:lnTo>
                    <a:pt x="11" y="217"/>
                  </a:lnTo>
                  <a:lnTo>
                    <a:pt x="21" y="197"/>
                  </a:lnTo>
                  <a:lnTo>
                    <a:pt x="31" y="176"/>
                  </a:lnTo>
                  <a:lnTo>
                    <a:pt x="31" y="145"/>
                  </a:lnTo>
                  <a:lnTo>
                    <a:pt x="42" y="114"/>
                  </a:lnTo>
                  <a:lnTo>
                    <a:pt x="52" y="93"/>
                  </a:lnTo>
                  <a:lnTo>
                    <a:pt x="73" y="83"/>
                  </a:lnTo>
                  <a:lnTo>
                    <a:pt x="104" y="83"/>
                  </a:lnTo>
                  <a:lnTo>
                    <a:pt x="124" y="93"/>
                  </a:lnTo>
                  <a:lnTo>
                    <a:pt x="93" y="41"/>
                  </a:lnTo>
                  <a:lnTo>
                    <a:pt x="83" y="21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75"/>
            <p:cNvSpPr/>
            <p:nvPr/>
          </p:nvSpPr>
          <p:spPr>
            <a:xfrm flipH="1">
              <a:off x="8575200" y="5011560"/>
              <a:ext cx="116280" cy="178560"/>
            </a:xfrm>
            <a:custGeom>
              <a:avLst/>
              <a:gdLst>
                <a:gd name="textAreaLeft" fmla="*/ -360 w 116280"/>
                <a:gd name="textAreaRight" fmla="*/ 116280 w 1162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156" h="238">
                  <a:moveTo>
                    <a:pt x="52" y="0"/>
                  </a:moveTo>
                  <a:lnTo>
                    <a:pt x="52" y="0"/>
                  </a:lnTo>
                  <a:lnTo>
                    <a:pt x="73" y="11"/>
                  </a:lnTo>
                  <a:lnTo>
                    <a:pt x="94" y="42"/>
                  </a:lnTo>
                  <a:lnTo>
                    <a:pt x="114" y="93"/>
                  </a:lnTo>
                  <a:lnTo>
                    <a:pt x="145" y="156"/>
                  </a:lnTo>
                  <a:lnTo>
                    <a:pt x="156" y="197"/>
                  </a:lnTo>
                  <a:lnTo>
                    <a:pt x="145" y="238"/>
                  </a:lnTo>
                  <a:lnTo>
                    <a:pt x="135" y="197"/>
                  </a:lnTo>
                  <a:lnTo>
                    <a:pt x="114" y="156"/>
                  </a:lnTo>
                  <a:lnTo>
                    <a:pt x="94" y="93"/>
                  </a:lnTo>
                  <a:lnTo>
                    <a:pt x="63" y="62"/>
                  </a:lnTo>
                  <a:lnTo>
                    <a:pt x="42" y="52"/>
                  </a:lnTo>
                  <a:lnTo>
                    <a:pt x="31" y="62"/>
                  </a:lnTo>
                  <a:lnTo>
                    <a:pt x="0" y="73"/>
                  </a:lnTo>
                  <a:lnTo>
                    <a:pt x="11" y="62"/>
                  </a:lnTo>
                  <a:lnTo>
                    <a:pt x="21" y="42"/>
                  </a:lnTo>
                  <a:lnTo>
                    <a:pt x="31" y="31"/>
                  </a:lnTo>
                  <a:lnTo>
                    <a:pt x="42" y="21"/>
                  </a:lnTo>
                  <a:lnTo>
                    <a:pt x="42" y="1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69"/>
            <p:cNvSpPr/>
            <p:nvPr/>
          </p:nvSpPr>
          <p:spPr>
            <a:xfrm flipH="1" flipV="1">
              <a:off x="7667640" y="6069960"/>
              <a:ext cx="702720" cy="1446120"/>
            </a:xfrm>
            <a:custGeom>
              <a:avLst/>
              <a:gdLst>
                <a:gd name="textAreaLeft" fmla="*/ 360 w 702720"/>
                <a:gd name="textAreaRight" fmla="*/ 703440 w 702720"/>
                <a:gd name="textAreaTop" fmla="*/ -360 h 1446120"/>
                <a:gd name="textAreaBottom" fmla="*/ 1446120 h 1446120"/>
              </a:gdLst>
              <a:ahLst/>
              <a:rect l="textAreaLeft" t="textAreaTop" r="textAreaRight" b="textAreaBottom"/>
              <a:pathLst>
                <a:path w="932" h="2091">
                  <a:moveTo>
                    <a:pt x="921" y="870"/>
                  </a:moveTo>
                  <a:lnTo>
                    <a:pt x="921" y="756"/>
                  </a:lnTo>
                  <a:lnTo>
                    <a:pt x="901" y="683"/>
                  </a:lnTo>
                  <a:lnTo>
                    <a:pt x="901" y="590"/>
                  </a:lnTo>
                  <a:lnTo>
                    <a:pt x="890" y="487"/>
                  </a:lnTo>
                  <a:lnTo>
                    <a:pt x="880" y="435"/>
                  </a:lnTo>
                  <a:lnTo>
                    <a:pt x="870" y="425"/>
                  </a:lnTo>
                  <a:lnTo>
                    <a:pt x="849" y="414"/>
                  </a:lnTo>
                  <a:lnTo>
                    <a:pt x="745" y="363"/>
                  </a:lnTo>
                  <a:lnTo>
                    <a:pt x="735" y="332"/>
                  </a:lnTo>
                  <a:lnTo>
                    <a:pt x="756" y="311"/>
                  </a:lnTo>
                  <a:lnTo>
                    <a:pt x="776" y="270"/>
                  </a:lnTo>
                  <a:lnTo>
                    <a:pt x="776" y="187"/>
                  </a:lnTo>
                  <a:lnTo>
                    <a:pt x="787" y="156"/>
                  </a:lnTo>
                  <a:lnTo>
                    <a:pt x="776" y="135"/>
                  </a:lnTo>
                  <a:lnTo>
                    <a:pt x="756" y="104"/>
                  </a:lnTo>
                  <a:lnTo>
                    <a:pt x="735" y="94"/>
                  </a:lnTo>
                  <a:lnTo>
                    <a:pt x="714" y="83"/>
                  </a:lnTo>
                  <a:lnTo>
                    <a:pt x="683" y="94"/>
                  </a:lnTo>
                  <a:lnTo>
                    <a:pt x="642" y="125"/>
                  </a:lnTo>
                  <a:lnTo>
                    <a:pt x="642" y="145"/>
                  </a:lnTo>
                  <a:lnTo>
                    <a:pt x="632" y="187"/>
                  </a:lnTo>
                  <a:lnTo>
                    <a:pt x="621" y="187"/>
                  </a:lnTo>
                  <a:lnTo>
                    <a:pt x="611" y="197"/>
                  </a:lnTo>
                  <a:lnTo>
                    <a:pt x="611" y="218"/>
                  </a:lnTo>
                  <a:lnTo>
                    <a:pt x="611" y="238"/>
                  </a:lnTo>
                  <a:lnTo>
                    <a:pt x="621" y="249"/>
                  </a:lnTo>
                  <a:lnTo>
                    <a:pt x="632" y="238"/>
                  </a:lnTo>
                  <a:lnTo>
                    <a:pt x="632" y="290"/>
                  </a:lnTo>
                  <a:lnTo>
                    <a:pt x="621" y="311"/>
                  </a:lnTo>
                  <a:lnTo>
                    <a:pt x="611" y="332"/>
                  </a:lnTo>
                  <a:lnTo>
                    <a:pt x="580" y="363"/>
                  </a:lnTo>
                  <a:lnTo>
                    <a:pt x="507" y="383"/>
                  </a:lnTo>
                  <a:lnTo>
                    <a:pt x="435" y="342"/>
                  </a:lnTo>
                  <a:lnTo>
                    <a:pt x="373" y="321"/>
                  </a:lnTo>
                  <a:lnTo>
                    <a:pt x="331" y="311"/>
                  </a:lnTo>
                  <a:lnTo>
                    <a:pt x="311" y="270"/>
                  </a:lnTo>
                  <a:lnTo>
                    <a:pt x="300" y="197"/>
                  </a:lnTo>
                  <a:lnTo>
                    <a:pt x="321" y="166"/>
                  </a:lnTo>
                  <a:lnTo>
                    <a:pt x="321" y="135"/>
                  </a:lnTo>
                  <a:lnTo>
                    <a:pt x="311" y="125"/>
                  </a:lnTo>
                  <a:lnTo>
                    <a:pt x="300" y="83"/>
                  </a:lnTo>
                  <a:lnTo>
                    <a:pt x="290" y="52"/>
                  </a:lnTo>
                  <a:lnTo>
                    <a:pt x="269" y="32"/>
                  </a:lnTo>
                  <a:lnTo>
                    <a:pt x="259" y="21"/>
                  </a:lnTo>
                  <a:lnTo>
                    <a:pt x="228" y="0"/>
                  </a:lnTo>
                  <a:lnTo>
                    <a:pt x="197" y="0"/>
                  </a:lnTo>
                  <a:lnTo>
                    <a:pt x="156" y="21"/>
                  </a:lnTo>
                  <a:lnTo>
                    <a:pt x="135" y="42"/>
                  </a:lnTo>
                  <a:lnTo>
                    <a:pt x="125" y="63"/>
                  </a:lnTo>
                  <a:lnTo>
                    <a:pt x="114" y="83"/>
                  </a:lnTo>
                  <a:lnTo>
                    <a:pt x="114" y="104"/>
                  </a:lnTo>
                  <a:lnTo>
                    <a:pt x="125" y="156"/>
                  </a:lnTo>
                  <a:lnTo>
                    <a:pt x="125" y="187"/>
                  </a:lnTo>
                  <a:lnTo>
                    <a:pt x="125" y="207"/>
                  </a:lnTo>
                  <a:lnTo>
                    <a:pt x="145" y="228"/>
                  </a:lnTo>
                  <a:lnTo>
                    <a:pt x="166" y="280"/>
                  </a:lnTo>
                  <a:lnTo>
                    <a:pt x="176" y="321"/>
                  </a:lnTo>
                  <a:lnTo>
                    <a:pt x="166" y="352"/>
                  </a:lnTo>
                  <a:lnTo>
                    <a:pt x="104" y="373"/>
                  </a:lnTo>
                  <a:lnTo>
                    <a:pt x="93" y="383"/>
                  </a:lnTo>
                  <a:lnTo>
                    <a:pt x="73" y="404"/>
                  </a:lnTo>
                  <a:lnTo>
                    <a:pt x="42" y="425"/>
                  </a:lnTo>
                  <a:lnTo>
                    <a:pt x="31" y="445"/>
                  </a:lnTo>
                  <a:lnTo>
                    <a:pt x="31" y="466"/>
                  </a:lnTo>
                  <a:lnTo>
                    <a:pt x="31" y="508"/>
                  </a:lnTo>
                  <a:lnTo>
                    <a:pt x="42" y="601"/>
                  </a:lnTo>
                  <a:lnTo>
                    <a:pt x="31" y="694"/>
                  </a:lnTo>
                  <a:lnTo>
                    <a:pt x="11" y="839"/>
                  </a:lnTo>
                  <a:lnTo>
                    <a:pt x="0" y="901"/>
                  </a:lnTo>
                  <a:lnTo>
                    <a:pt x="11" y="932"/>
                  </a:lnTo>
                  <a:lnTo>
                    <a:pt x="31" y="952"/>
                  </a:lnTo>
                  <a:lnTo>
                    <a:pt x="52" y="994"/>
                  </a:lnTo>
                  <a:lnTo>
                    <a:pt x="52" y="1025"/>
                  </a:lnTo>
                  <a:lnTo>
                    <a:pt x="62" y="1118"/>
                  </a:lnTo>
                  <a:lnTo>
                    <a:pt x="73" y="1190"/>
                  </a:lnTo>
                  <a:lnTo>
                    <a:pt x="73" y="1232"/>
                  </a:lnTo>
                  <a:lnTo>
                    <a:pt x="73" y="1273"/>
                  </a:lnTo>
                  <a:lnTo>
                    <a:pt x="73" y="1294"/>
                  </a:lnTo>
                  <a:lnTo>
                    <a:pt x="93" y="1397"/>
                  </a:lnTo>
                  <a:lnTo>
                    <a:pt x="104" y="1491"/>
                  </a:lnTo>
                  <a:lnTo>
                    <a:pt x="104" y="1635"/>
                  </a:lnTo>
                  <a:lnTo>
                    <a:pt x="145" y="1749"/>
                  </a:lnTo>
                  <a:lnTo>
                    <a:pt x="125" y="1801"/>
                  </a:lnTo>
                  <a:lnTo>
                    <a:pt x="93" y="1832"/>
                  </a:lnTo>
                  <a:lnTo>
                    <a:pt x="93" y="1904"/>
                  </a:lnTo>
                  <a:lnTo>
                    <a:pt x="145" y="1904"/>
                  </a:lnTo>
                  <a:lnTo>
                    <a:pt x="187" y="1873"/>
                  </a:lnTo>
                  <a:lnTo>
                    <a:pt x="197" y="1863"/>
                  </a:lnTo>
                  <a:lnTo>
                    <a:pt x="207" y="1853"/>
                  </a:lnTo>
                  <a:lnTo>
                    <a:pt x="207" y="1822"/>
                  </a:lnTo>
                  <a:lnTo>
                    <a:pt x="207" y="1801"/>
                  </a:lnTo>
                  <a:lnTo>
                    <a:pt x="218" y="1801"/>
                  </a:lnTo>
                  <a:lnTo>
                    <a:pt x="238" y="1780"/>
                  </a:lnTo>
                  <a:lnTo>
                    <a:pt x="238" y="1749"/>
                  </a:lnTo>
                  <a:lnTo>
                    <a:pt x="228" y="1718"/>
                  </a:lnTo>
                  <a:lnTo>
                    <a:pt x="238" y="1656"/>
                  </a:lnTo>
                  <a:lnTo>
                    <a:pt x="238" y="1625"/>
                  </a:lnTo>
                  <a:lnTo>
                    <a:pt x="218" y="1563"/>
                  </a:lnTo>
                  <a:lnTo>
                    <a:pt x="218" y="1491"/>
                  </a:lnTo>
                  <a:lnTo>
                    <a:pt x="207" y="1387"/>
                  </a:lnTo>
                  <a:lnTo>
                    <a:pt x="228" y="1304"/>
                  </a:lnTo>
                  <a:lnTo>
                    <a:pt x="228" y="1222"/>
                  </a:lnTo>
                  <a:lnTo>
                    <a:pt x="228" y="1190"/>
                  </a:lnTo>
                  <a:lnTo>
                    <a:pt x="238" y="1170"/>
                  </a:lnTo>
                  <a:lnTo>
                    <a:pt x="238" y="1190"/>
                  </a:lnTo>
                  <a:lnTo>
                    <a:pt x="269" y="1294"/>
                  </a:lnTo>
                  <a:lnTo>
                    <a:pt x="280" y="1346"/>
                  </a:lnTo>
                  <a:lnTo>
                    <a:pt x="269" y="1356"/>
                  </a:lnTo>
                  <a:lnTo>
                    <a:pt x="269" y="1584"/>
                  </a:lnTo>
                  <a:lnTo>
                    <a:pt x="280" y="1677"/>
                  </a:lnTo>
                  <a:lnTo>
                    <a:pt x="290" y="1801"/>
                  </a:lnTo>
                  <a:lnTo>
                    <a:pt x="300" y="1842"/>
                  </a:lnTo>
                  <a:lnTo>
                    <a:pt x="311" y="1863"/>
                  </a:lnTo>
                  <a:lnTo>
                    <a:pt x="311" y="1873"/>
                  </a:lnTo>
                  <a:lnTo>
                    <a:pt x="311" y="1884"/>
                  </a:lnTo>
                  <a:lnTo>
                    <a:pt x="300" y="1904"/>
                  </a:lnTo>
                  <a:lnTo>
                    <a:pt x="300" y="1925"/>
                  </a:lnTo>
                  <a:lnTo>
                    <a:pt x="300" y="1935"/>
                  </a:lnTo>
                  <a:lnTo>
                    <a:pt x="321" y="1967"/>
                  </a:lnTo>
                  <a:lnTo>
                    <a:pt x="342" y="1967"/>
                  </a:lnTo>
                  <a:lnTo>
                    <a:pt x="342" y="1998"/>
                  </a:lnTo>
                  <a:lnTo>
                    <a:pt x="342" y="2018"/>
                  </a:lnTo>
                  <a:lnTo>
                    <a:pt x="352" y="2039"/>
                  </a:lnTo>
                  <a:lnTo>
                    <a:pt x="363" y="2060"/>
                  </a:lnTo>
                  <a:lnTo>
                    <a:pt x="394" y="2091"/>
                  </a:lnTo>
                  <a:lnTo>
                    <a:pt x="404" y="2091"/>
                  </a:lnTo>
                  <a:lnTo>
                    <a:pt x="466" y="2091"/>
                  </a:lnTo>
                  <a:lnTo>
                    <a:pt x="466" y="2018"/>
                  </a:lnTo>
                  <a:lnTo>
                    <a:pt x="456" y="1998"/>
                  </a:lnTo>
                  <a:lnTo>
                    <a:pt x="425" y="1925"/>
                  </a:lnTo>
                  <a:lnTo>
                    <a:pt x="414" y="1904"/>
                  </a:lnTo>
                  <a:lnTo>
                    <a:pt x="425" y="1853"/>
                  </a:lnTo>
                  <a:lnTo>
                    <a:pt x="425" y="1760"/>
                  </a:lnTo>
                  <a:lnTo>
                    <a:pt x="435" y="1656"/>
                  </a:lnTo>
                  <a:lnTo>
                    <a:pt x="425" y="1563"/>
                  </a:lnTo>
                  <a:lnTo>
                    <a:pt x="425" y="1480"/>
                  </a:lnTo>
                  <a:lnTo>
                    <a:pt x="414" y="1377"/>
                  </a:lnTo>
                  <a:lnTo>
                    <a:pt x="425" y="1315"/>
                  </a:lnTo>
                  <a:lnTo>
                    <a:pt x="425" y="1253"/>
                  </a:lnTo>
                  <a:lnTo>
                    <a:pt x="425" y="1139"/>
                  </a:lnTo>
                  <a:lnTo>
                    <a:pt x="414" y="1066"/>
                  </a:lnTo>
                  <a:lnTo>
                    <a:pt x="404" y="1015"/>
                  </a:lnTo>
                  <a:lnTo>
                    <a:pt x="404" y="1004"/>
                  </a:lnTo>
                  <a:lnTo>
                    <a:pt x="414" y="994"/>
                  </a:lnTo>
                  <a:lnTo>
                    <a:pt x="435" y="1004"/>
                  </a:lnTo>
                  <a:lnTo>
                    <a:pt x="445" y="984"/>
                  </a:lnTo>
                  <a:lnTo>
                    <a:pt x="456" y="973"/>
                  </a:lnTo>
                  <a:lnTo>
                    <a:pt x="487" y="1015"/>
                  </a:lnTo>
                  <a:lnTo>
                    <a:pt x="497" y="1015"/>
                  </a:lnTo>
                  <a:lnTo>
                    <a:pt x="497" y="1046"/>
                  </a:lnTo>
                  <a:lnTo>
                    <a:pt x="507" y="1077"/>
                  </a:lnTo>
                  <a:lnTo>
                    <a:pt x="507" y="1273"/>
                  </a:lnTo>
                  <a:lnTo>
                    <a:pt x="487" y="1335"/>
                  </a:lnTo>
                  <a:lnTo>
                    <a:pt x="476" y="1387"/>
                  </a:lnTo>
                  <a:lnTo>
                    <a:pt x="476" y="1449"/>
                  </a:lnTo>
                  <a:lnTo>
                    <a:pt x="456" y="1522"/>
                  </a:lnTo>
                  <a:lnTo>
                    <a:pt x="445" y="1584"/>
                  </a:lnTo>
                  <a:lnTo>
                    <a:pt x="445" y="1677"/>
                  </a:lnTo>
                  <a:lnTo>
                    <a:pt x="456" y="1687"/>
                  </a:lnTo>
                  <a:lnTo>
                    <a:pt x="445" y="1718"/>
                  </a:lnTo>
                  <a:lnTo>
                    <a:pt x="466" y="1749"/>
                  </a:lnTo>
                  <a:lnTo>
                    <a:pt x="466" y="1853"/>
                  </a:lnTo>
                  <a:lnTo>
                    <a:pt x="476" y="1884"/>
                  </a:lnTo>
                  <a:lnTo>
                    <a:pt x="497" y="1894"/>
                  </a:lnTo>
                  <a:lnTo>
                    <a:pt x="528" y="1894"/>
                  </a:lnTo>
                  <a:lnTo>
                    <a:pt x="549" y="1894"/>
                  </a:lnTo>
                  <a:lnTo>
                    <a:pt x="559" y="1884"/>
                  </a:lnTo>
                  <a:lnTo>
                    <a:pt x="569" y="1863"/>
                  </a:lnTo>
                  <a:lnTo>
                    <a:pt x="569" y="1832"/>
                  </a:lnTo>
                  <a:lnTo>
                    <a:pt x="549" y="1801"/>
                  </a:lnTo>
                  <a:lnTo>
                    <a:pt x="538" y="1760"/>
                  </a:lnTo>
                  <a:lnTo>
                    <a:pt x="559" y="1718"/>
                  </a:lnTo>
                  <a:lnTo>
                    <a:pt x="559" y="1697"/>
                  </a:lnTo>
                  <a:lnTo>
                    <a:pt x="580" y="1646"/>
                  </a:lnTo>
                  <a:lnTo>
                    <a:pt x="611" y="1511"/>
                  </a:lnTo>
                  <a:lnTo>
                    <a:pt x="632" y="1366"/>
                  </a:lnTo>
                  <a:lnTo>
                    <a:pt x="652" y="1273"/>
                  </a:lnTo>
                  <a:lnTo>
                    <a:pt x="673" y="1201"/>
                  </a:lnTo>
                  <a:lnTo>
                    <a:pt x="683" y="1211"/>
                  </a:lnTo>
                  <a:lnTo>
                    <a:pt x="683" y="1284"/>
                  </a:lnTo>
                  <a:lnTo>
                    <a:pt x="683" y="1315"/>
                  </a:lnTo>
                  <a:lnTo>
                    <a:pt x="673" y="1356"/>
                  </a:lnTo>
                  <a:lnTo>
                    <a:pt x="673" y="1397"/>
                  </a:lnTo>
                  <a:lnTo>
                    <a:pt x="673" y="1449"/>
                  </a:lnTo>
                  <a:lnTo>
                    <a:pt x="663" y="1532"/>
                  </a:lnTo>
                  <a:lnTo>
                    <a:pt x="663" y="1594"/>
                  </a:lnTo>
                  <a:lnTo>
                    <a:pt x="642" y="1615"/>
                  </a:lnTo>
                  <a:lnTo>
                    <a:pt x="642" y="1646"/>
                  </a:lnTo>
                  <a:lnTo>
                    <a:pt x="652" y="1677"/>
                  </a:lnTo>
                  <a:lnTo>
                    <a:pt x="652" y="1729"/>
                  </a:lnTo>
                  <a:lnTo>
                    <a:pt x="683" y="1749"/>
                  </a:lnTo>
                  <a:lnTo>
                    <a:pt x="694" y="1749"/>
                  </a:lnTo>
                  <a:lnTo>
                    <a:pt x="714" y="1780"/>
                  </a:lnTo>
                  <a:lnTo>
                    <a:pt x="725" y="1801"/>
                  </a:lnTo>
                  <a:lnTo>
                    <a:pt x="756" y="1811"/>
                  </a:lnTo>
                  <a:lnTo>
                    <a:pt x="787" y="1811"/>
                  </a:lnTo>
                  <a:lnTo>
                    <a:pt x="818" y="1801"/>
                  </a:lnTo>
                  <a:lnTo>
                    <a:pt x="828" y="1780"/>
                  </a:lnTo>
                  <a:lnTo>
                    <a:pt x="797" y="1749"/>
                  </a:lnTo>
                  <a:lnTo>
                    <a:pt x="776" y="1718"/>
                  </a:lnTo>
                  <a:lnTo>
                    <a:pt x="756" y="1687"/>
                  </a:lnTo>
                  <a:lnTo>
                    <a:pt x="756" y="1656"/>
                  </a:lnTo>
                  <a:lnTo>
                    <a:pt x="787" y="1635"/>
                  </a:lnTo>
                  <a:lnTo>
                    <a:pt x="776" y="1615"/>
                  </a:lnTo>
                  <a:lnTo>
                    <a:pt x="787" y="1542"/>
                  </a:lnTo>
                  <a:lnTo>
                    <a:pt x="797" y="1491"/>
                  </a:lnTo>
                  <a:lnTo>
                    <a:pt x="807" y="1408"/>
                  </a:lnTo>
                  <a:lnTo>
                    <a:pt x="839" y="1294"/>
                  </a:lnTo>
                  <a:lnTo>
                    <a:pt x="859" y="1190"/>
                  </a:lnTo>
                  <a:lnTo>
                    <a:pt x="880" y="1087"/>
                  </a:lnTo>
                  <a:lnTo>
                    <a:pt x="880" y="1056"/>
                  </a:lnTo>
                  <a:lnTo>
                    <a:pt x="921" y="1004"/>
                  </a:lnTo>
                  <a:lnTo>
                    <a:pt x="932" y="952"/>
                  </a:lnTo>
                  <a:lnTo>
                    <a:pt x="921" y="870"/>
                  </a:lnTo>
                  <a:close/>
                  <a:moveTo>
                    <a:pt x="93" y="373"/>
                  </a:moveTo>
                  <a:lnTo>
                    <a:pt x="93" y="373"/>
                  </a:lnTo>
                  <a:lnTo>
                    <a:pt x="93" y="383"/>
                  </a:lnTo>
                  <a:lnTo>
                    <a:pt x="104" y="373"/>
                  </a:lnTo>
                  <a:lnTo>
                    <a:pt x="93" y="37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cc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69"/>
            <p:cNvSpPr/>
            <p:nvPr/>
          </p:nvSpPr>
          <p:spPr>
            <a:xfrm flipH="1">
              <a:off x="7686720" y="4903200"/>
              <a:ext cx="696240" cy="1568520"/>
            </a:xfrm>
            <a:custGeom>
              <a:avLst/>
              <a:gdLst>
                <a:gd name="textAreaLeft" fmla="*/ 360 w 696240"/>
                <a:gd name="textAreaRight" fmla="*/ 696960 w 69624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932" h="2091">
                  <a:moveTo>
                    <a:pt x="921" y="870"/>
                  </a:moveTo>
                  <a:lnTo>
                    <a:pt x="921" y="756"/>
                  </a:lnTo>
                  <a:lnTo>
                    <a:pt x="901" y="683"/>
                  </a:lnTo>
                  <a:lnTo>
                    <a:pt x="901" y="590"/>
                  </a:lnTo>
                  <a:lnTo>
                    <a:pt x="890" y="487"/>
                  </a:lnTo>
                  <a:lnTo>
                    <a:pt x="880" y="435"/>
                  </a:lnTo>
                  <a:lnTo>
                    <a:pt x="870" y="425"/>
                  </a:lnTo>
                  <a:lnTo>
                    <a:pt x="849" y="414"/>
                  </a:lnTo>
                  <a:lnTo>
                    <a:pt x="745" y="363"/>
                  </a:lnTo>
                  <a:lnTo>
                    <a:pt x="735" y="332"/>
                  </a:lnTo>
                  <a:lnTo>
                    <a:pt x="756" y="311"/>
                  </a:lnTo>
                  <a:lnTo>
                    <a:pt x="776" y="270"/>
                  </a:lnTo>
                  <a:lnTo>
                    <a:pt x="776" y="187"/>
                  </a:lnTo>
                  <a:lnTo>
                    <a:pt x="787" y="156"/>
                  </a:lnTo>
                  <a:lnTo>
                    <a:pt x="776" y="135"/>
                  </a:lnTo>
                  <a:lnTo>
                    <a:pt x="756" y="104"/>
                  </a:lnTo>
                  <a:lnTo>
                    <a:pt x="735" y="94"/>
                  </a:lnTo>
                  <a:lnTo>
                    <a:pt x="714" y="83"/>
                  </a:lnTo>
                  <a:lnTo>
                    <a:pt x="683" y="94"/>
                  </a:lnTo>
                  <a:lnTo>
                    <a:pt x="642" y="125"/>
                  </a:lnTo>
                  <a:lnTo>
                    <a:pt x="642" y="145"/>
                  </a:lnTo>
                  <a:lnTo>
                    <a:pt x="632" y="187"/>
                  </a:lnTo>
                  <a:lnTo>
                    <a:pt x="621" y="187"/>
                  </a:lnTo>
                  <a:lnTo>
                    <a:pt x="611" y="197"/>
                  </a:lnTo>
                  <a:lnTo>
                    <a:pt x="611" y="218"/>
                  </a:lnTo>
                  <a:lnTo>
                    <a:pt x="611" y="238"/>
                  </a:lnTo>
                  <a:lnTo>
                    <a:pt x="621" y="249"/>
                  </a:lnTo>
                  <a:lnTo>
                    <a:pt x="632" y="238"/>
                  </a:lnTo>
                  <a:lnTo>
                    <a:pt x="632" y="290"/>
                  </a:lnTo>
                  <a:lnTo>
                    <a:pt x="621" y="311"/>
                  </a:lnTo>
                  <a:lnTo>
                    <a:pt x="611" y="332"/>
                  </a:lnTo>
                  <a:lnTo>
                    <a:pt x="580" y="363"/>
                  </a:lnTo>
                  <a:lnTo>
                    <a:pt x="507" y="383"/>
                  </a:lnTo>
                  <a:lnTo>
                    <a:pt x="435" y="342"/>
                  </a:lnTo>
                  <a:lnTo>
                    <a:pt x="373" y="321"/>
                  </a:lnTo>
                  <a:lnTo>
                    <a:pt x="331" y="311"/>
                  </a:lnTo>
                  <a:lnTo>
                    <a:pt x="311" y="270"/>
                  </a:lnTo>
                  <a:lnTo>
                    <a:pt x="300" y="197"/>
                  </a:lnTo>
                  <a:lnTo>
                    <a:pt x="321" y="166"/>
                  </a:lnTo>
                  <a:lnTo>
                    <a:pt x="321" y="135"/>
                  </a:lnTo>
                  <a:lnTo>
                    <a:pt x="311" y="125"/>
                  </a:lnTo>
                  <a:lnTo>
                    <a:pt x="300" y="83"/>
                  </a:lnTo>
                  <a:lnTo>
                    <a:pt x="290" y="52"/>
                  </a:lnTo>
                  <a:lnTo>
                    <a:pt x="269" y="32"/>
                  </a:lnTo>
                  <a:lnTo>
                    <a:pt x="259" y="21"/>
                  </a:lnTo>
                  <a:lnTo>
                    <a:pt x="228" y="0"/>
                  </a:lnTo>
                  <a:lnTo>
                    <a:pt x="197" y="0"/>
                  </a:lnTo>
                  <a:lnTo>
                    <a:pt x="156" y="21"/>
                  </a:lnTo>
                  <a:lnTo>
                    <a:pt x="135" y="42"/>
                  </a:lnTo>
                  <a:lnTo>
                    <a:pt x="125" y="63"/>
                  </a:lnTo>
                  <a:lnTo>
                    <a:pt x="114" y="83"/>
                  </a:lnTo>
                  <a:lnTo>
                    <a:pt x="114" y="104"/>
                  </a:lnTo>
                  <a:lnTo>
                    <a:pt x="125" y="156"/>
                  </a:lnTo>
                  <a:lnTo>
                    <a:pt x="125" y="187"/>
                  </a:lnTo>
                  <a:lnTo>
                    <a:pt x="125" y="207"/>
                  </a:lnTo>
                  <a:lnTo>
                    <a:pt x="145" y="228"/>
                  </a:lnTo>
                  <a:lnTo>
                    <a:pt x="166" y="280"/>
                  </a:lnTo>
                  <a:lnTo>
                    <a:pt x="176" y="321"/>
                  </a:lnTo>
                  <a:lnTo>
                    <a:pt x="166" y="352"/>
                  </a:lnTo>
                  <a:lnTo>
                    <a:pt x="104" y="373"/>
                  </a:lnTo>
                  <a:lnTo>
                    <a:pt x="93" y="383"/>
                  </a:lnTo>
                  <a:lnTo>
                    <a:pt x="73" y="404"/>
                  </a:lnTo>
                  <a:lnTo>
                    <a:pt x="42" y="425"/>
                  </a:lnTo>
                  <a:lnTo>
                    <a:pt x="31" y="445"/>
                  </a:lnTo>
                  <a:lnTo>
                    <a:pt x="31" y="466"/>
                  </a:lnTo>
                  <a:lnTo>
                    <a:pt x="31" y="508"/>
                  </a:lnTo>
                  <a:lnTo>
                    <a:pt x="42" y="601"/>
                  </a:lnTo>
                  <a:lnTo>
                    <a:pt x="31" y="694"/>
                  </a:lnTo>
                  <a:lnTo>
                    <a:pt x="11" y="839"/>
                  </a:lnTo>
                  <a:lnTo>
                    <a:pt x="0" y="901"/>
                  </a:lnTo>
                  <a:lnTo>
                    <a:pt x="11" y="932"/>
                  </a:lnTo>
                  <a:lnTo>
                    <a:pt x="31" y="952"/>
                  </a:lnTo>
                  <a:lnTo>
                    <a:pt x="52" y="994"/>
                  </a:lnTo>
                  <a:lnTo>
                    <a:pt x="52" y="1025"/>
                  </a:lnTo>
                  <a:lnTo>
                    <a:pt x="62" y="1118"/>
                  </a:lnTo>
                  <a:lnTo>
                    <a:pt x="73" y="1190"/>
                  </a:lnTo>
                  <a:lnTo>
                    <a:pt x="73" y="1232"/>
                  </a:lnTo>
                  <a:lnTo>
                    <a:pt x="73" y="1273"/>
                  </a:lnTo>
                  <a:lnTo>
                    <a:pt x="73" y="1294"/>
                  </a:lnTo>
                  <a:lnTo>
                    <a:pt x="93" y="1397"/>
                  </a:lnTo>
                  <a:lnTo>
                    <a:pt x="104" y="1491"/>
                  </a:lnTo>
                  <a:lnTo>
                    <a:pt x="104" y="1635"/>
                  </a:lnTo>
                  <a:lnTo>
                    <a:pt x="145" y="1749"/>
                  </a:lnTo>
                  <a:lnTo>
                    <a:pt x="125" y="1801"/>
                  </a:lnTo>
                  <a:lnTo>
                    <a:pt x="93" y="1832"/>
                  </a:lnTo>
                  <a:lnTo>
                    <a:pt x="93" y="1904"/>
                  </a:lnTo>
                  <a:lnTo>
                    <a:pt x="145" y="1904"/>
                  </a:lnTo>
                  <a:lnTo>
                    <a:pt x="187" y="1873"/>
                  </a:lnTo>
                  <a:lnTo>
                    <a:pt x="197" y="1863"/>
                  </a:lnTo>
                  <a:lnTo>
                    <a:pt x="207" y="1853"/>
                  </a:lnTo>
                  <a:lnTo>
                    <a:pt x="207" y="1822"/>
                  </a:lnTo>
                  <a:lnTo>
                    <a:pt x="207" y="1801"/>
                  </a:lnTo>
                  <a:lnTo>
                    <a:pt x="218" y="1801"/>
                  </a:lnTo>
                  <a:lnTo>
                    <a:pt x="238" y="1780"/>
                  </a:lnTo>
                  <a:lnTo>
                    <a:pt x="238" y="1749"/>
                  </a:lnTo>
                  <a:lnTo>
                    <a:pt x="228" y="1718"/>
                  </a:lnTo>
                  <a:lnTo>
                    <a:pt x="238" y="1656"/>
                  </a:lnTo>
                  <a:lnTo>
                    <a:pt x="238" y="1625"/>
                  </a:lnTo>
                  <a:lnTo>
                    <a:pt x="218" y="1563"/>
                  </a:lnTo>
                  <a:lnTo>
                    <a:pt x="218" y="1491"/>
                  </a:lnTo>
                  <a:lnTo>
                    <a:pt x="207" y="1387"/>
                  </a:lnTo>
                  <a:lnTo>
                    <a:pt x="228" y="1304"/>
                  </a:lnTo>
                  <a:lnTo>
                    <a:pt x="228" y="1222"/>
                  </a:lnTo>
                  <a:lnTo>
                    <a:pt x="228" y="1190"/>
                  </a:lnTo>
                  <a:lnTo>
                    <a:pt x="238" y="1170"/>
                  </a:lnTo>
                  <a:lnTo>
                    <a:pt x="238" y="1190"/>
                  </a:lnTo>
                  <a:lnTo>
                    <a:pt x="269" y="1294"/>
                  </a:lnTo>
                  <a:lnTo>
                    <a:pt x="280" y="1346"/>
                  </a:lnTo>
                  <a:lnTo>
                    <a:pt x="269" y="1356"/>
                  </a:lnTo>
                  <a:lnTo>
                    <a:pt x="269" y="1584"/>
                  </a:lnTo>
                  <a:lnTo>
                    <a:pt x="280" y="1677"/>
                  </a:lnTo>
                  <a:lnTo>
                    <a:pt x="290" y="1801"/>
                  </a:lnTo>
                  <a:lnTo>
                    <a:pt x="300" y="1842"/>
                  </a:lnTo>
                  <a:lnTo>
                    <a:pt x="311" y="1863"/>
                  </a:lnTo>
                  <a:lnTo>
                    <a:pt x="311" y="1873"/>
                  </a:lnTo>
                  <a:lnTo>
                    <a:pt x="311" y="1884"/>
                  </a:lnTo>
                  <a:lnTo>
                    <a:pt x="300" y="1904"/>
                  </a:lnTo>
                  <a:lnTo>
                    <a:pt x="300" y="1925"/>
                  </a:lnTo>
                  <a:lnTo>
                    <a:pt x="300" y="1935"/>
                  </a:lnTo>
                  <a:lnTo>
                    <a:pt x="321" y="1967"/>
                  </a:lnTo>
                  <a:lnTo>
                    <a:pt x="342" y="1967"/>
                  </a:lnTo>
                  <a:lnTo>
                    <a:pt x="342" y="1998"/>
                  </a:lnTo>
                  <a:lnTo>
                    <a:pt x="342" y="2018"/>
                  </a:lnTo>
                  <a:lnTo>
                    <a:pt x="352" y="2039"/>
                  </a:lnTo>
                  <a:lnTo>
                    <a:pt x="363" y="2060"/>
                  </a:lnTo>
                  <a:lnTo>
                    <a:pt x="394" y="2091"/>
                  </a:lnTo>
                  <a:lnTo>
                    <a:pt x="404" y="2091"/>
                  </a:lnTo>
                  <a:lnTo>
                    <a:pt x="466" y="2091"/>
                  </a:lnTo>
                  <a:lnTo>
                    <a:pt x="466" y="2018"/>
                  </a:lnTo>
                  <a:lnTo>
                    <a:pt x="456" y="1998"/>
                  </a:lnTo>
                  <a:lnTo>
                    <a:pt x="425" y="1925"/>
                  </a:lnTo>
                  <a:lnTo>
                    <a:pt x="414" y="1904"/>
                  </a:lnTo>
                  <a:lnTo>
                    <a:pt x="425" y="1853"/>
                  </a:lnTo>
                  <a:lnTo>
                    <a:pt x="425" y="1760"/>
                  </a:lnTo>
                  <a:lnTo>
                    <a:pt x="435" y="1656"/>
                  </a:lnTo>
                  <a:lnTo>
                    <a:pt x="425" y="1563"/>
                  </a:lnTo>
                  <a:lnTo>
                    <a:pt x="425" y="1480"/>
                  </a:lnTo>
                  <a:lnTo>
                    <a:pt x="414" y="1377"/>
                  </a:lnTo>
                  <a:lnTo>
                    <a:pt x="425" y="1315"/>
                  </a:lnTo>
                  <a:lnTo>
                    <a:pt x="425" y="1253"/>
                  </a:lnTo>
                  <a:lnTo>
                    <a:pt x="425" y="1139"/>
                  </a:lnTo>
                  <a:lnTo>
                    <a:pt x="414" y="1066"/>
                  </a:lnTo>
                  <a:lnTo>
                    <a:pt x="404" y="1015"/>
                  </a:lnTo>
                  <a:lnTo>
                    <a:pt x="404" y="1004"/>
                  </a:lnTo>
                  <a:lnTo>
                    <a:pt x="414" y="994"/>
                  </a:lnTo>
                  <a:lnTo>
                    <a:pt x="435" y="1004"/>
                  </a:lnTo>
                  <a:lnTo>
                    <a:pt x="445" y="984"/>
                  </a:lnTo>
                  <a:lnTo>
                    <a:pt x="456" y="973"/>
                  </a:lnTo>
                  <a:lnTo>
                    <a:pt x="487" y="1015"/>
                  </a:lnTo>
                  <a:lnTo>
                    <a:pt x="497" y="1015"/>
                  </a:lnTo>
                  <a:lnTo>
                    <a:pt x="497" y="1046"/>
                  </a:lnTo>
                  <a:lnTo>
                    <a:pt x="507" y="1077"/>
                  </a:lnTo>
                  <a:lnTo>
                    <a:pt x="507" y="1273"/>
                  </a:lnTo>
                  <a:lnTo>
                    <a:pt x="487" y="1335"/>
                  </a:lnTo>
                  <a:lnTo>
                    <a:pt x="476" y="1387"/>
                  </a:lnTo>
                  <a:lnTo>
                    <a:pt x="476" y="1449"/>
                  </a:lnTo>
                  <a:lnTo>
                    <a:pt x="456" y="1522"/>
                  </a:lnTo>
                  <a:lnTo>
                    <a:pt x="445" y="1584"/>
                  </a:lnTo>
                  <a:lnTo>
                    <a:pt x="445" y="1677"/>
                  </a:lnTo>
                  <a:lnTo>
                    <a:pt x="456" y="1687"/>
                  </a:lnTo>
                  <a:lnTo>
                    <a:pt x="445" y="1718"/>
                  </a:lnTo>
                  <a:lnTo>
                    <a:pt x="466" y="1749"/>
                  </a:lnTo>
                  <a:lnTo>
                    <a:pt x="466" y="1853"/>
                  </a:lnTo>
                  <a:lnTo>
                    <a:pt x="476" y="1884"/>
                  </a:lnTo>
                  <a:lnTo>
                    <a:pt x="497" y="1894"/>
                  </a:lnTo>
                  <a:lnTo>
                    <a:pt x="528" y="1894"/>
                  </a:lnTo>
                  <a:lnTo>
                    <a:pt x="549" y="1894"/>
                  </a:lnTo>
                  <a:lnTo>
                    <a:pt x="559" y="1884"/>
                  </a:lnTo>
                  <a:lnTo>
                    <a:pt x="569" y="1863"/>
                  </a:lnTo>
                  <a:lnTo>
                    <a:pt x="569" y="1832"/>
                  </a:lnTo>
                  <a:lnTo>
                    <a:pt x="549" y="1801"/>
                  </a:lnTo>
                  <a:lnTo>
                    <a:pt x="538" y="1760"/>
                  </a:lnTo>
                  <a:lnTo>
                    <a:pt x="559" y="1718"/>
                  </a:lnTo>
                  <a:lnTo>
                    <a:pt x="559" y="1697"/>
                  </a:lnTo>
                  <a:lnTo>
                    <a:pt x="580" y="1646"/>
                  </a:lnTo>
                  <a:lnTo>
                    <a:pt x="611" y="1511"/>
                  </a:lnTo>
                  <a:lnTo>
                    <a:pt x="632" y="1366"/>
                  </a:lnTo>
                  <a:lnTo>
                    <a:pt x="652" y="1273"/>
                  </a:lnTo>
                  <a:lnTo>
                    <a:pt x="673" y="1201"/>
                  </a:lnTo>
                  <a:lnTo>
                    <a:pt x="683" y="1211"/>
                  </a:lnTo>
                  <a:lnTo>
                    <a:pt x="683" y="1284"/>
                  </a:lnTo>
                  <a:lnTo>
                    <a:pt x="683" y="1315"/>
                  </a:lnTo>
                  <a:lnTo>
                    <a:pt x="673" y="1356"/>
                  </a:lnTo>
                  <a:lnTo>
                    <a:pt x="673" y="1397"/>
                  </a:lnTo>
                  <a:lnTo>
                    <a:pt x="673" y="1449"/>
                  </a:lnTo>
                  <a:lnTo>
                    <a:pt x="663" y="1532"/>
                  </a:lnTo>
                  <a:lnTo>
                    <a:pt x="663" y="1594"/>
                  </a:lnTo>
                  <a:lnTo>
                    <a:pt x="642" y="1615"/>
                  </a:lnTo>
                  <a:lnTo>
                    <a:pt x="642" y="1646"/>
                  </a:lnTo>
                  <a:lnTo>
                    <a:pt x="652" y="1677"/>
                  </a:lnTo>
                  <a:lnTo>
                    <a:pt x="652" y="1729"/>
                  </a:lnTo>
                  <a:lnTo>
                    <a:pt x="683" y="1749"/>
                  </a:lnTo>
                  <a:lnTo>
                    <a:pt x="694" y="1749"/>
                  </a:lnTo>
                  <a:lnTo>
                    <a:pt x="714" y="1780"/>
                  </a:lnTo>
                  <a:lnTo>
                    <a:pt x="725" y="1801"/>
                  </a:lnTo>
                  <a:lnTo>
                    <a:pt x="756" y="1811"/>
                  </a:lnTo>
                  <a:lnTo>
                    <a:pt x="787" y="1811"/>
                  </a:lnTo>
                  <a:lnTo>
                    <a:pt x="818" y="1801"/>
                  </a:lnTo>
                  <a:lnTo>
                    <a:pt x="828" y="1780"/>
                  </a:lnTo>
                  <a:lnTo>
                    <a:pt x="797" y="1749"/>
                  </a:lnTo>
                  <a:lnTo>
                    <a:pt x="776" y="1718"/>
                  </a:lnTo>
                  <a:lnTo>
                    <a:pt x="756" y="1687"/>
                  </a:lnTo>
                  <a:lnTo>
                    <a:pt x="756" y="1656"/>
                  </a:lnTo>
                  <a:lnTo>
                    <a:pt x="787" y="1635"/>
                  </a:lnTo>
                  <a:lnTo>
                    <a:pt x="776" y="1615"/>
                  </a:lnTo>
                  <a:lnTo>
                    <a:pt x="787" y="1542"/>
                  </a:lnTo>
                  <a:lnTo>
                    <a:pt x="797" y="1491"/>
                  </a:lnTo>
                  <a:lnTo>
                    <a:pt x="807" y="1408"/>
                  </a:lnTo>
                  <a:lnTo>
                    <a:pt x="839" y="1294"/>
                  </a:lnTo>
                  <a:lnTo>
                    <a:pt x="859" y="1190"/>
                  </a:lnTo>
                  <a:lnTo>
                    <a:pt x="880" y="1087"/>
                  </a:lnTo>
                  <a:lnTo>
                    <a:pt x="880" y="1056"/>
                  </a:lnTo>
                  <a:lnTo>
                    <a:pt x="921" y="1004"/>
                  </a:lnTo>
                  <a:lnTo>
                    <a:pt x="932" y="952"/>
                  </a:lnTo>
                  <a:lnTo>
                    <a:pt x="921" y="870"/>
                  </a:lnTo>
                  <a:close/>
                  <a:moveTo>
                    <a:pt x="93" y="373"/>
                  </a:moveTo>
                  <a:lnTo>
                    <a:pt x="93" y="373"/>
                  </a:lnTo>
                  <a:lnTo>
                    <a:pt x="93" y="383"/>
                  </a:lnTo>
                  <a:lnTo>
                    <a:pt x="104" y="373"/>
                  </a:lnTo>
                  <a:lnTo>
                    <a:pt x="93" y="373"/>
                  </a:lnTo>
                  <a:close/>
                </a:path>
              </a:pathLst>
            </a:custGeom>
            <a:gradFill rotWithShape="0">
              <a:gsLst>
                <a:gs pos="0">
                  <a:srgbClr val="ffc000"/>
                </a:gs>
                <a:gs pos="100000">
                  <a:srgbClr val="461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70"/>
            <p:cNvSpPr/>
            <p:nvPr/>
          </p:nvSpPr>
          <p:spPr>
            <a:xfrm flipH="1">
              <a:off x="7786800" y="5136120"/>
              <a:ext cx="138960" cy="396000"/>
            </a:xfrm>
            <a:custGeom>
              <a:avLst/>
              <a:gdLst>
                <a:gd name="textAreaLeft" fmla="*/ 360 w 138960"/>
                <a:gd name="textAreaRight" fmla="*/ 139680 w 138960"/>
                <a:gd name="textAreaTop" fmla="*/ 0 h 396000"/>
                <a:gd name="textAreaBottom" fmla="*/ 396360 h 396000"/>
              </a:gdLst>
              <a:ahLst/>
              <a:rect l="textAreaLeft" t="textAreaTop" r="textAreaRight" b="textAreaBottom"/>
              <a:pathLst>
                <a:path w="186" h="528">
                  <a:moveTo>
                    <a:pt x="10" y="0"/>
                  </a:moveTo>
                  <a:lnTo>
                    <a:pt x="0" y="21"/>
                  </a:lnTo>
                  <a:lnTo>
                    <a:pt x="41" y="238"/>
                  </a:lnTo>
                  <a:lnTo>
                    <a:pt x="72" y="414"/>
                  </a:lnTo>
                  <a:lnTo>
                    <a:pt x="72" y="476"/>
                  </a:lnTo>
                  <a:lnTo>
                    <a:pt x="62" y="517"/>
                  </a:lnTo>
                  <a:lnTo>
                    <a:pt x="114" y="528"/>
                  </a:lnTo>
                  <a:lnTo>
                    <a:pt x="155" y="528"/>
                  </a:lnTo>
                  <a:lnTo>
                    <a:pt x="186" y="517"/>
                  </a:lnTo>
                  <a:lnTo>
                    <a:pt x="176" y="445"/>
                  </a:lnTo>
                  <a:lnTo>
                    <a:pt x="165" y="435"/>
                  </a:lnTo>
                  <a:lnTo>
                    <a:pt x="134" y="466"/>
                  </a:lnTo>
                  <a:lnTo>
                    <a:pt x="83" y="424"/>
                  </a:lnTo>
                  <a:lnTo>
                    <a:pt x="72" y="331"/>
                  </a:lnTo>
                  <a:lnTo>
                    <a:pt x="72" y="248"/>
                  </a:lnTo>
                  <a:lnTo>
                    <a:pt x="72" y="155"/>
                  </a:lnTo>
                  <a:lnTo>
                    <a:pt x="83" y="103"/>
                  </a:lnTo>
                  <a:lnTo>
                    <a:pt x="72" y="72"/>
                  </a:lnTo>
                  <a:lnTo>
                    <a:pt x="114" y="62"/>
                  </a:lnTo>
                  <a:lnTo>
                    <a:pt x="124" y="83"/>
                  </a:lnTo>
                  <a:lnTo>
                    <a:pt x="103" y="103"/>
                  </a:lnTo>
                  <a:lnTo>
                    <a:pt x="134" y="217"/>
                  </a:lnTo>
                  <a:lnTo>
                    <a:pt x="155" y="321"/>
                  </a:lnTo>
                  <a:lnTo>
                    <a:pt x="145" y="238"/>
                  </a:lnTo>
                  <a:lnTo>
                    <a:pt x="145" y="155"/>
                  </a:lnTo>
                  <a:lnTo>
                    <a:pt x="134" y="103"/>
                  </a:lnTo>
                  <a:lnTo>
                    <a:pt x="134" y="52"/>
                  </a:lnTo>
                  <a:lnTo>
                    <a:pt x="134" y="41"/>
                  </a:lnTo>
                  <a:lnTo>
                    <a:pt x="93" y="62"/>
                  </a:lnTo>
                  <a:lnTo>
                    <a:pt x="83" y="52"/>
                  </a:lnTo>
                  <a:lnTo>
                    <a:pt x="52" y="31"/>
                  </a:lnTo>
                  <a:lnTo>
                    <a:pt x="21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71"/>
            <p:cNvSpPr/>
            <p:nvPr/>
          </p:nvSpPr>
          <p:spPr>
            <a:xfrm flipH="1">
              <a:off x="8181360" y="5166720"/>
              <a:ext cx="92520" cy="326160"/>
            </a:xfrm>
            <a:custGeom>
              <a:avLst/>
              <a:gdLst>
                <a:gd name="textAreaLeft" fmla="*/ -360 w 92520"/>
                <a:gd name="textAreaRight" fmla="*/ 92520 w 9252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w="124" h="435">
                  <a:moveTo>
                    <a:pt x="104" y="0"/>
                  </a:moveTo>
                  <a:lnTo>
                    <a:pt x="73" y="11"/>
                  </a:lnTo>
                  <a:lnTo>
                    <a:pt x="52" y="42"/>
                  </a:lnTo>
                  <a:lnTo>
                    <a:pt x="73" y="62"/>
                  </a:lnTo>
                  <a:lnTo>
                    <a:pt x="31" y="135"/>
                  </a:lnTo>
                  <a:lnTo>
                    <a:pt x="21" y="207"/>
                  </a:lnTo>
                  <a:lnTo>
                    <a:pt x="11" y="352"/>
                  </a:lnTo>
                  <a:lnTo>
                    <a:pt x="0" y="383"/>
                  </a:lnTo>
                  <a:lnTo>
                    <a:pt x="42" y="435"/>
                  </a:lnTo>
                  <a:lnTo>
                    <a:pt x="93" y="394"/>
                  </a:lnTo>
                  <a:lnTo>
                    <a:pt x="114" y="197"/>
                  </a:lnTo>
                  <a:lnTo>
                    <a:pt x="114" y="93"/>
                  </a:lnTo>
                  <a:lnTo>
                    <a:pt x="93" y="52"/>
                  </a:lnTo>
                  <a:lnTo>
                    <a:pt x="124" y="3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75"/>
            <p:cNvGrpSpPr/>
            <p:nvPr/>
          </p:nvGrpSpPr>
          <p:grpSpPr>
            <a:xfrm>
              <a:off x="8292600" y="6454800"/>
              <a:ext cx="660960" cy="1820880"/>
              <a:chOff x="8292600" y="6454800"/>
              <a:chExt cx="660960" cy="1820880"/>
            </a:xfrm>
          </p:grpSpPr>
          <p:pic>
            <p:nvPicPr>
              <p:cNvPr id="189" name="Freeform 473" descr=""/>
              <p:cNvPicPr/>
              <p:nvPr/>
            </p:nvPicPr>
            <p:blipFill>
              <a:blip r:embed="rId1"/>
              <a:stretch/>
            </p:blipFill>
            <p:spPr>
              <a:xfrm>
                <a:off x="8292600" y="6454800"/>
                <a:ext cx="660960" cy="18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77"/>
              <p:cNvSpPr/>
              <p:nvPr/>
            </p:nvSpPr>
            <p:spPr>
              <a:xfrm rot="10800000">
                <a:off x="8296920" y="6462720"/>
                <a:ext cx="649440" cy="18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473"/>
            <p:cNvSpPr/>
            <p:nvPr/>
          </p:nvSpPr>
          <p:spPr>
            <a:xfrm flipH="1">
              <a:off x="8297280" y="4724280"/>
              <a:ext cx="649080" cy="1809000"/>
            </a:xfrm>
            <a:custGeom>
              <a:avLst/>
              <a:gdLst>
                <a:gd name="textAreaLeft" fmla="*/ -360 w 649080"/>
                <a:gd name="textAreaRight" fmla="*/ 649080 w 649080"/>
                <a:gd name="textAreaTop" fmla="*/ 0 h 1809000"/>
                <a:gd name="textAreaBottom" fmla="*/ 1809360 h 1809000"/>
              </a:gdLst>
              <a:ahLst/>
              <a:rect l="textAreaLeft" t="textAreaTop" r="textAreaRight" b="textAreaBottom"/>
              <a:pathLst>
                <a:path w="869" h="2411">
                  <a:moveTo>
                    <a:pt x="0" y="746"/>
                  </a:moveTo>
                  <a:lnTo>
                    <a:pt x="0" y="746"/>
                  </a:lnTo>
                  <a:lnTo>
                    <a:pt x="10" y="756"/>
                  </a:lnTo>
                  <a:lnTo>
                    <a:pt x="31" y="849"/>
                  </a:lnTo>
                  <a:lnTo>
                    <a:pt x="41" y="870"/>
                  </a:lnTo>
                  <a:lnTo>
                    <a:pt x="52" y="890"/>
                  </a:lnTo>
                  <a:lnTo>
                    <a:pt x="72" y="911"/>
                  </a:lnTo>
                  <a:lnTo>
                    <a:pt x="72" y="921"/>
                  </a:lnTo>
                  <a:lnTo>
                    <a:pt x="83" y="921"/>
                  </a:lnTo>
                  <a:lnTo>
                    <a:pt x="134" y="994"/>
                  </a:lnTo>
                  <a:lnTo>
                    <a:pt x="145" y="1004"/>
                  </a:lnTo>
                  <a:lnTo>
                    <a:pt x="155" y="1004"/>
                  </a:lnTo>
                  <a:lnTo>
                    <a:pt x="166" y="1015"/>
                  </a:lnTo>
                  <a:lnTo>
                    <a:pt x="197" y="1025"/>
                  </a:lnTo>
                  <a:lnTo>
                    <a:pt x="217" y="1046"/>
                  </a:lnTo>
                  <a:lnTo>
                    <a:pt x="238" y="1066"/>
                  </a:lnTo>
                  <a:lnTo>
                    <a:pt x="259" y="1077"/>
                  </a:lnTo>
                  <a:lnTo>
                    <a:pt x="248" y="1097"/>
                  </a:lnTo>
                  <a:lnTo>
                    <a:pt x="248" y="1149"/>
                  </a:lnTo>
                  <a:lnTo>
                    <a:pt x="248" y="1211"/>
                  </a:lnTo>
                  <a:lnTo>
                    <a:pt x="259" y="1315"/>
                  </a:lnTo>
                  <a:lnTo>
                    <a:pt x="259" y="1501"/>
                  </a:lnTo>
                  <a:lnTo>
                    <a:pt x="248" y="1573"/>
                  </a:lnTo>
                  <a:lnTo>
                    <a:pt x="248" y="1646"/>
                  </a:lnTo>
                  <a:lnTo>
                    <a:pt x="248" y="1708"/>
                  </a:lnTo>
                  <a:lnTo>
                    <a:pt x="259" y="1718"/>
                  </a:lnTo>
                  <a:lnTo>
                    <a:pt x="248" y="1780"/>
                  </a:lnTo>
                  <a:lnTo>
                    <a:pt x="248" y="1842"/>
                  </a:lnTo>
                  <a:lnTo>
                    <a:pt x="259" y="1904"/>
                  </a:lnTo>
                  <a:lnTo>
                    <a:pt x="279" y="1998"/>
                  </a:lnTo>
                  <a:lnTo>
                    <a:pt x="290" y="2091"/>
                  </a:lnTo>
                  <a:lnTo>
                    <a:pt x="290" y="2194"/>
                  </a:lnTo>
                  <a:lnTo>
                    <a:pt x="279" y="2287"/>
                  </a:lnTo>
                  <a:lnTo>
                    <a:pt x="259" y="2360"/>
                  </a:lnTo>
                  <a:lnTo>
                    <a:pt x="269" y="2391"/>
                  </a:lnTo>
                  <a:lnTo>
                    <a:pt x="290" y="2411"/>
                  </a:lnTo>
                  <a:lnTo>
                    <a:pt x="321" y="2411"/>
                  </a:lnTo>
                  <a:lnTo>
                    <a:pt x="352" y="2401"/>
                  </a:lnTo>
                  <a:lnTo>
                    <a:pt x="362" y="2391"/>
                  </a:lnTo>
                  <a:lnTo>
                    <a:pt x="372" y="2370"/>
                  </a:lnTo>
                  <a:lnTo>
                    <a:pt x="372" y="2246"/>
                  </a:lnTo>
                  <a:lnTo>
                    <a:pt x="383" y="2246"/>
                  </a:lnTo>
                  <a:lnTo>
                    <a:pt x="372" y="2215"/>
                  </a:lnTo>
                  <a:lnTo>
                    <a:pt x="372" y="2194"/>
                  </a:lnTo>
                  <a:lnTo>
                    <a:pt x="362" y="2184"/>
                  </a:lnTo>
                  <a:lnTo>
                    <a:pt x="352" y="2111"/>
                  </a:lnTo>
                  <a:lnTo>
                    <a:pt x="362" y="2029"/>
                  </a:lnTo>
                  <a:lnTo>
                    <a:pt x="393" y="1904"/>
                  </a:lnTo>
                  <a:lnTo>
                    <a:pt x="393" y="1853"/>
                  </a:lnTo>
                  <a:lnTo>
                    <a:pt x="393" y="1791"/>
                  </a:lnTo>
                  <a:lnTo>
                    <a:pt x="393" y="1718"/>
                  </a:lnTo>
                  <a:lnTo>
                    <a:pt x="538" y="1708"/>
                  </a:lnTo>
                  <a:lnTo>
                    <a:pt x="538" y="1729"/>
                  </a:lnTo>
                  <a:lnTo>
                    <a:pt x="528" y="1791"/>
                  </a:lnTo>
                  <a:lnTo>
                    <a:pt x="528" y="1853"/>
                  </a:lnTo>
                  <a:lnTo>
                    <a:pt x="538" y="1915"/>
                  </a:lnTo>
                  <a:lnTo>
                    <a:pt x="548" y="1956"/>
                  </a:lnTo>
                  <a:lnTo>
                    <a:pt x="559" y="2008"/>
                  </a:lnTo>
                  <a:lnTo>
                    <a:pt x="569" y="2070"/>
                  </a:lnTo>
                  <a:lnTo>
                    <a:pt x="569" y="2142"/>
                  </a:lnTo>
                  <a:lnTo>
                    <a:pt x="559" y="2153"/>
                  </a:lnTo>
                  <a:lnTo>
                    <a:pt x="548" y="2184"/>
                  </a:lnTo>
                  <a:lnTo>
                    <a:pt x="538" y="2194"/>
                  </a:lnTo>
                  <a:lnTo>
                    <a:pt x="548" y="2215"/>
                  </a:lnTo>
                  <a:lnTo>
                    <a:pt x="559" y="2256"/>
                  </a:lnTo>
                  <a:lnTo>
                    <a:pt x="559" y="2329"/>
                  </a:lnTo>
                  <a:lnTo>
                    <a:pt x="590" y="2329"/>
                  </a:lnTo>
                  <a:lnTo>
                    <a:pt x="590" y="2308"/>
                  </a:lnTo>
                  <a:lnTo>
                    <a:pt x="600" y="2318"/>
                  </a:lnTo>
                  <a:lnTo>
                    <a:pt x="600" y="2360"/>
                  </a:lnTo>
                  <a:lnTo>
                    <a:pt x="631" y="2380"/>
                  </a:lnTo>
                  <a:lnTo>
                    <a:pt x="673" y="2380"/>
                  </a:lnTo>
                  <a:lnTo>
                    <a:pt x="724" y="2380"/>
                  </a:lnTo>
                  <a:lnTo>
                    <a:pt x="724" y="2370"/>
                  </a:lnTo>
                  <a:lnTo>
                    <a:pt x="724" y="2349"/>
                  </a:lnTo>
                  <a:lnTo>
                    <a:pt x="704" y="2308"/>
                  </a:lnTo>
                  <a:lnTo>
                    <a:pt x="673" y="2277"/>
                  </a:lnTo>
                  <a:lnTo>
                    <a:pt x="652" y="2205"/>
                  </a:lnTo>
                  <a:lnTo>
                    <a:pt x="642" y="2163"/>
                  </a:lnTo>
                  <a:lnTo>
                    <a:pt x="642" y="2091"/>
                  </a:lnTo>
                  <a:lnTo>
                    <a:pt x="662" y="1956"/>
                  </a:lnTo>
                  <a:lnTo>
                    <a:pt x="673" y="1873"/>
                  </a:lnTo>
                  <a:lnTo>
                    <a:pt x="673" y="1780"/>
                  </a:lnTo>
                  <a:lnTo>
                    <a:pt x="673" y="1687"/>
                  </a:lnTo>
                  <a:lnTo>
                    <a:pt x="704" y="1687"/>
                  </a:lnTo>
                  <a:lnTo>
                    <a:pt x="714" y="1687"/>
                  </a:lnTo>
                  <a:lnTo>
                    <a:pt x="714" y="1677"/>
                  </a:lnTo>
                  <a:lnTo>
                    <a:pt x="714" y="1604"/>
                  </a:lnTo>
                  <a:lnTo>
                    <a:pt x="704" y="1449"/>
                  </a:lnTo>
                  <a:lnTo>
                    <a:pt x="704" y="1242"/>
                  </a:lnTo>
                  <a:lnTo>
                    <a:pt x="662" y="1242"/>
                  </a:lnTo>
                  <a:lnTo>
                    <a:pt x="579" y="952"/>
                  </a:lnTo>
                  <a:lnTo>
                    <a:pt x="579" y="932"/>
                  </a:lnTo>
                  <a:lnTo>
                    <a:pt x="600" y="932"/>
                  </a:lnTo>
                  <a:lnTo>
                    <a:pt x="693" y="1232"/>
                  </a:lnTo>
                  <a:lnTo>
                    <a:pt x="704" y="1232"/>
                  </a:lnTo>
                  <a:lnTo>
                    <a:pt x="745" y="1222"/>
                  </a:lnTo>
                  <a:lnTo>
                    <a:pt x="786" y="1222"/>
                  </a:lnTo>
                  <a:lnTo>
                    <a:pt x="786" y="1232"/>
                  </a:lnTo>
                  <a:lnTo>
                    <a:pt x="776" y="1232"/>
                  </a:lnTo>
                  <a:lnTo>
                    <a:pt x="724" y="1232"/>
                  </a:lnTo>
                  <a:lnTo>
                    <a:pt x="735" y="1242"/>
                  </a:lnTo>
                  <a:lnTo>
                    <a:pt x="766" y="1253"/>
                  </a:lnTo>
                  <a:lnTo>
                    <a:pt x="817" y="1253"/>
                  </a:lnTo>
                  <a:lnTo>
                    <a:pt x="828" y="1232"/>
                  </a:lnTo>
                  <a:lnTo>
                    <a:pt x="838" y="1222"/>
                  </a:lnTo>
                  <a:lnTo>
                    <a:pt x="838" y="1211"/>
                  </a:lnTo>
                  <a:lnTo>
                    <a:pt x="869" y="1201"/>
                  </a:lnTo>
                  <a:lnTo>
                    <a:pt x="838" y="1046"/>
                  </a:lnTo>
                  <a:lnTo>
                    <a:pt x="838" y="1015"/>
                  </a:lnTo>
                  <a:lnTo>
                    <a:pt x="828" y="984"/>
                  </a:lnTo>
                  <a:lnTo>
                    <a:pt x="817" y="921"/>
                  </a:lnTo>
                  <a:lnTo>
                    <a:pt x="817" y="911"/>
                  </a:lnTo>
                  <a:lnTo>
                    <a:pt x="817" y="880"/>
                  </a:lnTo>
                  <a:lnTo>
                    <a:pt x="817" y="870"/>
                  </a:lnTo>
                  <a:lnTo>
                    <a:pt x="807" y="828"/>
                  </a:lnTo>
                  <a:lnTo>
                    <a:pt x="786" y="777"/>
                  </a:lnTo>
                  <a:lnTo>
                    <a:pt x="776" y="735"/>
                  </a:lnTo>
                  <a:lnTo>
                    <a:pt x="766" y="694"/>
                  </a:lnTo>
                  <a:lnTo>
                    <a:pt x="755" y="621"/>
                  </a:lnTo>
                  <a:lnTo>
                    <a:pt x="755" y="611"/>
                  </a:lnTo>
                  <a:lnTo>
                    <a:pt x="745" y="518"/>
                  </a:lnTo>
                  <a:lnTo>
                    <a:pt x="724" y="445"/>
                  </a:lnTo>
                  <a:lnTo>
                    <a:pt x="724" y="435"/>
                  </a:lnTo>
                  <a:lnTo>
                    <a:pt x="714" y="425"/>
                  </a:lnTo>
                  <a:lnTo>
                    <a:pt x="704" y="425"/>
                  </a:lnTo>
                  <a:lnTo>
                    <a:pt x="693" y="425"/>
                  </a:lnTo>
                  <a:lnTo>
                    <a:pt x="683" y="414"/>
                  </a:lnTo>
                  <a:lnTo>
                    <a:pt x="683" y="394"/>
                  </a:lnTo>
                  <a:lnTo>
                    <a:pt x="673" y="383"/>
                  </a:lnTo>
                  <a:lnTo>
                    <a:pt x="662" y="383"/>
                  </a:lnTo>
                  <a:lnTo>
                    <a:pt x="652" y="363"/>
                  </a:lnTo>
                  <a:lnTo>
                    <a:pt x="652" y="332"/>
                  </a:lnTo>
                  <a:lnTo>
                    <a:pt x="642" y="311"/>
                  </a:lnTo>
                  <a:lnTo>
                    <a:pt x="642" y="301"/>
                  </a:lnTo>
                  <a:lnTo>
                    <a:pt x="621" y="218"/>
                  </a:lnTo>
                  <a:lnTo>
                    <a:pt x="610" y="125"/>
                  </a:lnTo>
                  <a:lnTo>
                    <a:pt x="579" y="63"/>
                  </a:lnTo>
                  <a:lnTo>
                    <a:pt x="559" y="32"/>
                  </a:lnTo>
                  <a:lnTo>
                    <a:pt x="528" y="11"/>
                  </a:lnTo>
                  <a:lnTo>
                    <a:pt x="507" y="0"/>
                  </a:lnTo>
                  <a:lnTo>
                    <a:pt x="486" y="0"/>
                  </a:lnTo>
                  <a:lnTo>
                    <a:pt x="466" y="0"/>
                  </a:lnTo>
                  <a:lnTo>
                    <a:pt x="445" y="0"/>
                  </a:lnTo>
                  <a:lnTo>
                    <a:pt x="424" y="0"/>
                  </a:lnTo>
                  <a:lnTo>
                    <a:pt x="404" y="21"/>
                  </a:lnTo>
                  <a:lnTo>
                    <a:pt x="372" y="52"/>
                  </a:lnTo>
                  <a:lnTo>
                    <a:pt x="352" y="125"/>
                  </a:lnTo>
                  <a:lnTo>
                    <a:pt x="331" y="176"/>
                  </a:lnTo>
                  <a:lnTo>
                    <a:pt x="331" y="228"/>
                  </a:lnTo>
                  <a:lnTo>
                    <a:pt x="331" y="280"/>
                  </a:lnTo>
                  <a:lnTo>
                    <a:pt x="321" y="321"/>
                  </a:lnTo>
                  <a:lnTo>
                    <a:pt x="310" y="363"/>
                  </a:lnTo>
                  <a:lnTo>
                    <a:pt x="217" y="383"/>
                  </a:lnTo>
                  <a:lnTo>
                    <a:pt x="207" y="383"/>
                  </a:lnTo>
                  <a:lnTo>
                    <a:pt x="186" y="404"/>
                  </a:lnTo>
                  <a:lnTo>
                    <a:pt x="155" y="466"/>
                  </a:lnTo>
                  <a:lnTo>
                    <a:pt x="124" y="528"/>
                  </a:lnTo>
                  <a:lnTo>
                    <a:pt x="62" y="611"/>
                  </a:lnTo>
                  <a:lnTo>
                    <a:pt x="31" y="652"/>
                  </a:lnTo>
                  <a:lnTo>
                    <a:pt x="21" y="663"/>
                  </a:lnTo>
                  <a:lnTo>
                    <a:pt x="0" y="714"/>
                  </a:lnTo>
                  <a:lnTo>
                    <a:pt x="0" y="725"/>
                  </a:lnTo>
                  <a:lnTo>
                    <a:pt x="0" y="746"/>
                  </a:lnTo>
                  <a:close/>
                  <a:moveTo>
                    <a:pt x="652" y="673"/>
                  </a:moveTo>
                  <a:lnTo>
                    <a:pt x="652" y="673"/>
                  </a:lnTo>
                  <a:lnTo>
                    <a:pt x="662" y="652"/>
                  </a:lnTo>
                  <a:lnTo>
                    <a:pt x="673" y="683"/>
                  </a:lnTo>
                  <a:lnTo>
                    <a:pt x="673" y="704"/>
                  </a:lnTo>
                  <a:lnTo>
                    <a:pt x="673" y="714"/>
                  </a:lnTo>
                  <a:lnTo>
                    <a:pt x="683" y="797"/>
                  </a:lnTo>
                  <a:lnTo>
                    <a:pt x="693" y="849"/>
                  </a:lnTo>
                  <a:lnTo>
                    <a:pt x="714" y="880"/>
                  </a:lnTo>
                  <a:lnTo>
                    <a:pt x="714" y="901"/>
                  </a:lnTo>
                  <a:lnTo>
                    <a:pt x="724" y="921"/>
                  </a:lnTo>
                  <a:lnTo>
                    <a:pt x="652" y="921"/>
                  </a:lnTo>
                  <a:lnTo>
                    <a:pt x="642" y="849"/>
                  </a:lnTo>
                  <a:lnTo>
                    <a:pt x="642" y="766"/>
                  </a:lnTo>
                  <a:lnTo>
                    <a:pt x="652" y="673"/>
                  </a:lnTo>
                  <a:close/>
                  <a:moveTo>
                    <a:pt x="93" y="735"/>
                  </a:moveTo>
                  <a:lnTo>
                    <a:pt x="93" y="735"/>
                  </a:lnTo>
                  <a:lnTo>
                    <a:pt x="145" y="683"/>
                  </a:lnTo>
                  <a:lnTo>
                    <a:pt x="186" y="632"/>
                  </a:lnTo>
                  <a:lnTo>
                    <a:pt x="217" y="580"/>
                  </a:lnTo>
                  <a:lnTo>
                    <a:pt x="238" y="570"/>
                  </a:lnTo>
                  <a:lnTo>
                    <a:pt x="248" y="580"/>
                  </a:lnTo>
                  <a:lnTo>
                    <a:pt x="259" y="590"/>
                  </a:lnTo>
                  <a:lnTo>
                    <a:pt x="279" y="611"/>
                  </a:lnTo>
                  <a:lnTo>
                    <a:pt x="290" y="642"/>
                  </a:lnTo>
                  <a:lnTo>
                    <a:pt x="300" y="714"/>
                  </a:lnTo>
                  <a:lnTo>
                    <a:pt x="300" y="777"/>
                  </a:lnTo>
                  <a:lnTo>
                    <a:pt x="300" y="828"/>
                  </a:lnTo>
                  <a:lnTo>
                    <a:pt x="290" y="880"/>
                  </a:lnTo>
                  <a:lnTo>
                    <a:pt x="279" y="911"/>
                  </a:lnTo>
                  <a:lnTo>
                    <a:pt x="279" y="921"/>
                  </a:lnTo>
                  <a:lnTo>
                    <a:pt x="269" y="963"/>
                  </a:lnTo>
                  <a:lnTo>
                    <a:pt x="259" y="973"/>
                  </a:lnTo>
                  <a:lnTo>
                    <a:pt x="248" y="973"/>
                  </a:lnTo>
                  <a:lnTo>
                    <a:pt x="197" y="973"/>
                  </a:lnTo>
                  <a:lnTo>
                    <a:pt x="197" y="963"/>
                  </a:lnTo>
                  <a:lnTo>
                    <a:pt x="207" y="952"/>
                  </a:lnTo>
                  <a:lnTo>
                    <a:pt x="155" y="880"/>
                  </a:lnTo>
                  <a:lnTo>
                    <a:pt x="155" y="870"/>
                  </a:lnTo>
                  <a:lnTo>
                    <a:pt x="134" y="808"/>
                  </a:lnTo>
                  <a:lnTo>
                    <a:pt x="93" y="735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763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utoShape 79"/>
          <p:cNvSpPr/>
          <p:nvPr/>
        </p:nvSpPr>
        <p:spPr>
          <a:xfrm>
            <a:off x="1187280" y="5661000"/>
            <a:ext cx="2016360" cy="504720"/>
          </a:xfrm>
          <a:prstGeom prst="diamond">
            <a:avLst/>
          </a:prstGeom>
          <a:solidFill>
            <a:srgbClr val="cc00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互联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771640" y="188640"/>
            <a:ext cx="5832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三、个人电脑的日常使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250920" y="3943080"/>
            <a:ext cx="936360" cy="13737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014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秋学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1763640" y="3613320"/>
            <a:ext cx="144000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教学相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31"/>
          <p:cNvCxnSpPr>
            <a:stCxn id="194" idx="3"/>
            <a:endCxn id="195" idx="1"/>
          </p:cNvCxnSpPr>
          <p:nvPr/>
        </p:nvCxnSpPr>
        <p:spPr>
          <a:xfrm flipV="1">
            <a:off x="1186920" y="3842640"/>
            <a:ext cx="577080" cy="788040"/>
          </a:xfrm>
          <a:prstGeom prst="bentConnector3">
            <a:avLst>
              <a:gd name="adj1" fmla="val 49812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197" name="Rectangle 32"/>
          <p:cNvSpPr/>
          <p:nvPr/>
        </p:nvSpPr>
        <p:spPr>
          <a:xfrm>
            <a:off x="1763640" y="4405680"/>
            <a:ext cx="144000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活相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AutoShape 33"/>
          <p:cNvCxnSpPr>
            <a:stCxn id="194" idx="3"/>
            <a:endCxn id="197" idx="1"/>
          </p:cNvCxnSpPr>
          <p:nvPr/>
        </p:nvCxnSpPr>
        <p:spPr>
          <a:xfrm>
            <a:off x="1186920" y="4630320"/>
            <a:ext cx="577080" cy="5400"/>
          </a:xfrm>
          <a:prstGeom prst="bentConnector3">
            <a:avLst>
              <a:gd name="adj1" fmla="val 49812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199" name="Rectangle 36"/>
          <p:cNvSpPr/>
          <p:nvPr/>
        </p:nvSpPr>
        <p:spPr>
          <a:xfrm>
            <a:off x="1763640" y="5232600"/>
            <a:ext cx="144000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学习培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AutoShape 37"/>
          <p:cNvCxnSpPr>
            <a:stCxn id="194" idx="3"/>
            <a:endCxn id="199" idx="1"/>
          </p:cNvCxnSpPr>
          <p:nvPr/>
        </p:nvCxnSpPr>
        <p:spPr>
          <a:xfrm>
            <a:off x="1186920" y="4630320"/>
            <a:ext cx="577080" cy="832680"/>
          </a:xfrm>
          <a:prstGeom prst="bentConnector3">
            <a:avLst>
              <a:gd name="adj1" fmla="val 49812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201" name="Rectangle 38"/>
          <p:cNvSpPr/>
          <p:nvPr/>
        </p:nvSpPr>
        <p:spPr>
          <a:xfrm>
            <a:off x="3995640" y="3503880"/>
            <a:ext cx="144000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教学反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AutoShape 39"/>
          <p:cNvCxnSpPr/>
          <p:nvPr/>
        </p:nvCxnSpPr>
        <p:spPr>
          <a:xfrm flipV="1">
            <a:off x="3203640" y="3715920"/>
            <a:ext cx="792720" cy="110160"/>
          </a:xfrm>
          <a:prstGeom prst="bentConnector3">
            <a:avLst>
              <a:gd name="adj1" fmla="val 49886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203" name="Rectangle 40"/>
          <p:cNvSpPr/>
          <p:nvPr/>
        </p:nvSpPr>
        <p:spPr>
          <a:xfrm>
            <a:off x="3995640" y="4152960"/>
            <a:ext cx="144000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管理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AutoShape 41"/>
          <p:cNvCxnSpPr>
            <a:stCxn id="195" idx="3"/>
            <a:endCxn id="203" idx="1"/>
          </p:cNvCxnSpPr>
          <p:nvPr/>
        </p:nvCxnSpPr>
        <p:spPr>
          <a:xfrm>
            <a:off x="3203640" y="3843000"/>
            <a:ext cx="792720" cy="540360"/>
          </a:xfrm>
          <a:prstGeom prst="bentConnector3">
            <a:avLst>
              <a:gd name="adj1" fmla="val 49886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205" name="Rectangle 42"/>
          <p:cNvSpPr/>
          <p:nvPr/>
        </p:nvSpPr>
        <p:spPr>
          <a:xfrm>
            <a:off x="3995640" y="4872240"/>
            <a:ext cx="144000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相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43"/>
          <p:cNvCxnSpPr>
            <a:stCxn id="199" idx="3"/>
            <a:endCxn id="205" idx="1"/>
          </p:cNvCxnSpPr>
          <p:nvPr/>
        </p:nvCxnSpPr>
        <p:spPr>
          <a:xfrm flipV="1">
            <a:off x="3203640" y="5101560"/>
            <a:ext cx="792720" cy="361080"/>
          </a:xfrm>
          <a:prstGeom prst="bentConnector3">
            <a:avLst>
              <a:gd name="adj1" fmla="val 49886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207" name="Rectangle 44"/>
          <p:cNvSpPr/>
          <p:nvPr/>
        </p:nvSpPr>
        <p:spPr>
          <a:xfrm>
            <a:off x="3995640" y="5664600"/>
            <a:ext cx="144000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笔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AutoShape 47"/>
          <p:cNvCxnSpPr>
            <a:stCxn id="199" idx="3"/>
          </p:cNvCxnSpPr>
          <p:nvPr/>
        </p:nvCxnSpPr>
        <p:spPr>
          <a:xfrm>
            <a:off x="3203640" y="5462280"/>
            <a:ext cx="792720" cy="432360"/>
          </a:xfrm>
          <a:prstGeom prst="bentConnector3">
            <a:avLst>
              <a:gd name="adj1" fmla="val 49886"/>
            </a:avLst>
          </a:prstGeom>
          <a:ln w="9360">
            <a:solidFill>
              <a:srgbClr val="000099"/>
            </a:solidFill>
            <a:miter/>
          </a:ln>
        </p:spPr>
      </p:cxnSp>
      <p:cxnSp>
        <p:nvCxnSpPr>
          <p:cNvPr id="209" name="AutoShape 48"/>
          <p:cNvCxnSpPr>
            <a:stCxn id="195" idx="2"/>
            <a:endCxn id="197" idx="0"/>
          </p:cNvCxnSpPr>
          <p:nvPr/>
        </p:nvCxnSpPr>
        <p:spPr>
          <a:xfrm>
            <a:off x="2484000" y="4076640"/>
            <a:ext cx="1080" cy="32616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210" name="AutoShape 49"/>
          <p:cNvCxnSpPr>
            <a:stCxn id="197" idx="2"/>
            <a:endCxn id="199" idx="0"/>
          </p:cNvCxnSpPr>
          <p:nvPr/>
        </p:nvCxnSpPr>
        <p:spPr>
          <a:xfrm>
            <a:off x="2484000" y="4868640"/>
            <a:ext cx="1080" cy="3610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211" name="Rectangle 50"/>
          <p:cNvSpPr/>
          <p:nvPr/>
        </p:nvSpPr>
        <p:spPr>
          <a:xfrm>
            <a:off x="971640" y="1675440"/>
            <a:ext cx="619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分类管理文件夹，实行层次化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1"/>
          <p:cNvSpPr/>
          <p:nvPr/>
        </p:nvSpPr>
        <p:spPr>
          <a:xfrm>
            <a:off x="755640" y="2205000"/>
            <a:ext cx="7561440" cy="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9" descr="未标题-7.png"/>
          <p:cNvPicPr/>
          <p:nvPr/>
        </p:nvPicPr>
        <p:blipFill>
          <a:blip r:embed="rId1"/>
          <a:stretch/>
        </p:blipFill>
        <p:spPr>
          <a:xfrm>
            <a:off x="179280" y="1484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2"/>
          <p:cNvSpPr/>
          <p:nvPr/>
        </p:nvSpPr>
        <p:spPr>
          <a:xfrm>
            <a:off x="54468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5"/>
          <p:cNvSpPr/>
          <p:nvPr/>
        </p:nvSpPr>
        <p:spPr>
          <a:xfrm>
            <a:off x="3995640" y="3000600"/>
            <a:ext cx="144000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教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AutoShape 56"/>
          <p:cNvCxnSpPr>
            <a:stCxn id="195" idx="3"/>
          </p:cNvCxnSpPr>
          <p:nvPr/>
        </p:nvCxnSpPr>
        <p:spPr>
          <a:xfrm flipV="1">
            <a:off x="3203640" y="3284640"/>
            <a:ext cx="792720" cy="559080"/>
          </a:xfrm>
          <a:prstGeom prst="bentConnector3">
            <a:avLst>
              <a:gd name="adj1" fmla="val 49886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217" name="Rectangle 58"/>
          <p:cNvSpPr/>
          <p:nvPr/>
        </p:nvSpPr>
        <p:spPr>
          <a:xfrm>
            <a:off x="3995640" y="2352960"/>
            <a:ext cx="144000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教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59"/>
          <p:cNvCxnSpPr/>
          <p:nvPr/>
        </p:nvCxnSpPr>
        <p:spPr>
          <a:xfrm flipH="1" flipV="1" rot="5400000">
            <a:off x="3464280" y="2735280"/>
            <a:ext cx="702360" cy="36108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pic>
        <p:nvPicPr>
          <p:cNvPr id="219" name="Picture 61" descr=""/>
          <p:cNvPicPr/>
          <p:nvPr/>
        </p:nvPicPr>
        <p:blipFill>
          <a:blip r:embed="rId2"/>
          <a:stretch/>
        </p:blipFill>
        <p:spPr>
          <a:xfrm>
            <a:off x="5924520" y="4581360"/>
            <a:ext cx="3219480" cy="156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771640" y="188640"/>
            <a:ext cx="5832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三、个人电脑的日常使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971640" y="1675440"/>
            <a:ext cx="619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平时使用时的文件或目录存放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1"/>
          <p:cNvSpPr/>
          <p:nvPr/>
        </p:nvSpPr>
        <p:spPr>
          <a:xfrm>
            <a:off x="755640" y="2205000"/>
            <a:ext cx="7561440" cy="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9" descr="未标题-7.png"/>
          <p:cNvPicPr/>
          <p:nvPr/>
        </p:nvPicPr>
        <p:blipFill>
          <a:blip r:embed="rId1"/>
          <a:stretch/>
        </p:blipFill>
        <p:spPr>
          <a:xfrm>
            <a:off x="179280" y="1484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3"/>
          <p:cNvSpPr/>
          <p:nvPr/>
        </p:nvSpPr>
        <p:spPr>
          <a:xfrm>
            <a:off x="54468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9"/>
          <p:cNvSpPr/>
          <p:nvPr/>
        </p:nvSpPr>
        <p:spPr>
          <a:xfrm>
            <a:off x="1869840" y="2635200"/>
            <a:ext cx="46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定不要放到系统盘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使用工具软件将桌面转移到非系统盘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桌面上的图标不要太多，太多会影响电脑运行的速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0" descr="2"/>
          <p:cNvPicPr/>
          <p:nvPr/>
        </p:nvPicPr>
        <p:blipFill>
          <a:blip r:embed="rId2"/>
          <a:stretch/>
        </p:blipFill>
        <p:spPr>
          <a:xfrm>
            <a:off x="4284720" y="3789360"/>
            <a:ext cx="3900600" cy="292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cp:keywords/>
  <dc:language>en-US</dc:language>
  <cp:lastModifiedBy>clf2015</cp:lastModifiedBy>
  <cp:lastPrinted>1899-12-30T00:00:00Z</cp:lastPrinted>
  <dcterms:modified xsi:type="dcterms:W3CDTF">2015-10-29T08:37:23Z</dcterms:modified>
  <cp:revision>2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