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907-7C17-4851-83D2-C806C6F9FE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AB84-2D17-4112-80B1-3C65012A92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5FA-05E4-4853-9C30-79657405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E7C-210B-4B81-9077-1020B16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81-DA6F-4B1E-8D12-F901520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139-8645-459A-90F0-085BB12E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6427A-9CC8-471E-8B53-CFABF293B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5E427-EF15-45EA-9BDD-6D7BB7E5B5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D00BB-3D8D-4B51-9460-EDD6654F4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6EA73-E8C4-4FA0-85E2-2A9B32DBC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5BCBE-DAF0-4D78-A9AE-DE4B3D2F9E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66672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DE71B-C325-47EF-A3B0-B56D2B581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1BD9-A137-4874-BF0F-FDF3F083B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0D4-EFB6-44A4-AE96-B913564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B03D9-FD46-4C3B-A897-8CDAFC337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C0016-62CD-4F85-BC96-1A1C2B193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C0B15-6612-4AE5-8E5F-7327B73748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58DC9-C7AB-4454-97B1-13EF6C68E4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4CAB9-17C9-4449-8701-565557AD2C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27B19-4D15-46D7-B5A2-5FBAEC17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6138E-C769-4369-8485-9A4C622A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ECC3A-6E14-49FB-A16D-3145880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C843B-AA86-45C5-A39F-B49B88C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4D5A7-6E30-4715-9137-B050B4D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685-4F7A-455B-A4FF-A5CC2B8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66672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4BFB5-BA18-4345-A576-ACE601C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12ECD-9B4F-47A8-875F-2A60DC35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EB639-69BA-47C8-8F7C-AA1C212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6812A-1DE5-4CB2-9D6F-BDB72D3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E4B75-C4F0-4D5A-8008-EC77C582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1795E-FB15-4012-BC33-C158AD50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6A8F9-C90C-4801-A118-66D9B53C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7ED0D-D03F-470E-B2B0-2197251D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36F57-5BB5-4A06-9693-0184A9AC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0A1B6-0471-40FA-BE5E-2C6D5DD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F99-5A42-4947-B8A4-8737F30B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DFFA3-E600-494F-812D-6DB3B46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154F2-8E81-4B92-BE11-5AEFC741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66320" y="66672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31210-267E-4FA4-A56B-C6B99A7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FCD06-B85C-4C9D-9E31-4310B89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C2782-A915-4484-8F19-FA6798BB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ECBDB-679B-4C61-8269-5CB87D2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57FD5-25A5-45D9-B067-FE3760E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457E7-F135-471A-9056-ED8BABD6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4AF26-907A-4977-BB3E-A09DF133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505-3156-4BE1-BDA1-179183D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6672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494-C6C2-4EA2-B86D-BC9F51A5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4B0-97E9-4B31-9358-BB22DCB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B4A-A570-4E6F-90E2-E1E1D81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1F1-C8E8-4F76-8F2D-4C914A2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6E02-3059-47B5-ABFE-D4A128E7942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85800"/>
            <a:ext cx="9144000" cy="533520"/>
          </a:xfrm>
          <a:prstGeom prst="rect">
            <a:avLst/>
          </a:prstGeom>
          <a:gradFill rotWithShape="0">
            <a:gsLst>
              <a:gs pos="0">
                <a:srgbClr val="1a76b4"/>
              </a:gs>
              <a:gs pos="100000">
                <a:srgbClr val="3bbd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5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543440" y="6476760"/>
            <a:ext cx="1066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CB3-A7ED-4E8E-8E65-8698B447F4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arrow"/>
          <p:cNvPicPr/>
          <p:nvPr/>
        </p:nvPicPr>
        <p:blipFill>
          <a:blip r:embed="rId3"/>
          <a:stretch/>
        </p:blipFill>
        <p:spPr>
          <a:xfrm>
            <a:off x="533520" y="72396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000-B995-43D1-B224-9BD9394521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ar"/>
          <p:cNvPicPr/>
          <p:nvPr/>
        </p:nvPicPr>
        <p:blipFill>
          <a:blip r:embed="rId3"/>
          <a:stretch/>
        </p:blipFill>
        <p:spPr>
          <a:xfrm>
            <a:off x="2057400" y="4648320"/>
            <a:ext cx="510552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5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2282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200040" y="65527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446-DE1F-4050-8AB5-4F5F8F0A6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657240"/>
            <a:ext cx="7239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a76b4"/>
                </a:solidFill>
                <a:latin typeface="Verdana"/>
              </a:rPr>
              <a:t>有效的职业</a:t>
            </a:r>
            <a:r>
              <a:rPr b="1" lang="zh-CN" sz="4400" spc="-1" strike="noStrike">
                <a:solidFill>
                  <a:srgbClr val="eaa54a"/>
                </a:solidFill>
                <a:latin typeface="Verdana"/>
              </a:rPr>
              <a:t>生涯规划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66320" y="4724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632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我的职业锚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BD05552_"/>
          <p:cNvPicPr/>
          <p:nvPr/>
        </p:nvPicPr>
        <p:blipFill>
          <a:blip r:embed="rId1"/>
          <a:stretch/>
        </p:blipFill>
        <p:spPr>
          <a:xfrm>
            <a:off x="3429000" y="2590920"/>
            <a:ext cx="1752480" cy="1714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3124080" y="4419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希望自己成为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838080" y="2057400"/>
            <a:ext cx="1676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1143000" y="4419720"/>
            <a:ext cx="1295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1066680" y="2133720"/>
            <a:ext cx="2362320" cy="7617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个人与组织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80880" y="1371600"/>
            <a:ext cx="160020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从组织获得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3886200" y="1295280"/>
            <a:ext cx="990720" cy="381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自律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2209680" y="1371600"/>
            <a:ext cx="1447920" cy="3808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组织中的角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14300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H="1">
            <a:off x="2437920" y="17524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5486400" y="2286000"/>
            <a:ext cx="2209680" cy="533520"/>
          </a:xfrm>
          <a:prstGeom prst="ellipse">
            <a:avLst/>
          </a:prstGeom>
          <a:solidFill>
            <a:srgbClr val="90a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本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8077320" y="2438280"/>
            <a:ext cx="1066680" cy="381240"/>
          </a:xfrm>
          <a:prstGeom prst="roundRect">
            <a:avLst>
              <a:gd name="adj" fmla="val 16667"/>
            </a:avLst>
          </a:prstGeom>
          <a:solidFill>
            <a:srgbClr val="90a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7696080" y="14479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90a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发挥的能力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技能、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6553080" y="1066680"/>
            <a:ext cx="1067040" cy="381240"/>
          </a:xfrm>
          <a:prstGeom prst="roundRect">
            <a:avLst>
              <a:gd name="adj" fmla="val 16667"/>
            </a:avLst>
          </a:prstGeom>
          <a:solidFill>
            <a:srgbClr val="90a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作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5334120" y="14479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90a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作特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5867280" y="18288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6933960" y="15238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 flipH="1">
            <a:off x="7391160" y="1752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 flipH="1">
            <a:off x="76201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5562720" y="4572000"/>
            <a:ext cx="1828800" cy="609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4"/>
          <p:cNvSpPr/>
          <p:nvPr/>
        </p:nvSpPr>
        <p:spPr>
          <a:xfrm>
            <a:off x="7238880" y="34290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所属组织的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5410080" y="5943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地点（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7238880" y="57150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作中可使用的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7"/>
          <p:cNvSpPr/>
          <p:nvPr/>
        </p:nvSpPr>
        <p:spPr>
          <a:xfrm>
            <a:off x="7620120" y="4114800"/>
            <a:ext cx="1295280" cy="3808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办公环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7848720" y="4876920"/>
            <a:ext cx="1295280" cy="3808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际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7009920" y="38098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 flipH="1">
            <a:off x="7467120" y="4495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1"/>
          <p:cNvSpPr/>
          <p:nvPr/>
        </p:nvSpPr>
        <p:spPr>
          <a:xfrm flipH="1" flipV="1">
            <a:off x="7315200" y="49528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2"/>
          <p:cNvSpPr/>
          <p:nvPr/>
        </p:nvSpPr>
        <p:spPr>
          <a:xfrm flipH="1" flipV="1">
            <a:off x="6934320" y="5181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V="1">
            <a:off x="6095880" y="51811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4"/>
          <p:cNvSpPr/>
          <p:nvPr/>
        </p:nvSpPr>
        <p:spPr>
          <a:xfrm>
            <a:off x="1371600" y="4648320"/>
            <a:ext cx="1676520" cy="457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0" y="5410080"/>
            <a:ext cx="1905120" cy="3812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人的兴趣爱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3505320" y="5562720"/>
            <a:ext cx="1218960" cy="304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家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1676520" y="5943600"/>
            <a:ext cx="1904760" cy="380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物质生活的需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>
            <a:off x="1447920" y="5029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9"/>
          <p:cNvSpPr/>
          <p:nvPr/>
        </p:nvSpPr>
        <p:spPr>
          <a:xfrm>
            <a:off x="251460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0"/>
          <p:cNvSpPr/>
          <p:nvPr/>
        </p:nvSpPr>
        <p:spPr>
          <a:xfrm>
            <a:off x="2971800" y="5029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209680" y="28954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>
            <a:off x="3581280" y="24382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3"/>
          <p:cNvSpPr/>
          <p:nvPr/>
        </p:nvSpPr>
        <p:spPr>
          <a:xfrm>
            <a:off x="6477120" y="289548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4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5076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Verdana"/>
                <a:ea typeface="隶书"/>
              </a:rPr>
              <a:t>职业生涯规划先要从认识自我开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274788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1001"/>
              </a:spcBef>
              <a:buClr>
                <a:srgbClr val="005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u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意识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5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lan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人格类型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1"/>
          <p:cNvSpPr/>
          <p:nvPr/>
        </p:nvSpPr>
        <p:spPr>
          <a:xfrm>
            <a:off x="6477120" y="2286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990720" y="3429000"/>
            <a:ext cx="6972120" cy="476280"/>
          </a:xfrm>
          <a:prstGeom prst="pie">
            <a:avLst/>
          </a:prstGeom>
          <a:solidFill>
            <a:srgbClr val="3bbda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2209680" y="762120"/>
            <a:ext cx="4799160" cy="4897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88620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3809880" y="4343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潜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971640" y="620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弗洛依德的意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/>
          <p:cNvSpPr/>
          <p:nvPr/>
        </p:nvSpPr>
        <p:spPr>
          <a:xfrm>
            <a:off x="6400800" y="1523880"/>
            <a:ext cx="914400" cy="459720"/>
          </a:xfrm>
          <a:prstGeom prst="borderCallout1">
            <a:avLst>
              <a:gd name="adj1" fmla="val 18750"/>
              <a:gd name="adj2" fmla="val -8333"/>
              <a:gd name="adj3" fmla="val 222143"/>
              <a:gd name="adj4" fmla="val -102046"/>
            </a:avLst>
          </a:prstGeom>
          <a:solidFill>
            <a:srgbClr val="005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冰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5"/>
          <p:cNvSpPr/>
          <p:nvPr/>
        </p:nvSpPr>
        <p:spPr>
          <a:xfrm>
            <a:off x="1676520" y="2971800"/>
            <a:ext cx="914400" cy="459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4898"/>
              <a:gd name="adj5" fmla="val 190296"/>
              <a:gd name="adj6" fmla="val -62490"/>
            </a:avLst>
          </a:prstGeom>
          <a:solidFill>
            <a:srgbClr val="005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水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2"/>
          <p:cNvSpPr/>
          <p:nvPr/>
        </p:nvSpPr>
        <p:spPr>
          <a:xfrm>
            <a:off x="2895480" y="2057400"/>
            <a:ext cx="3360960" cy="33606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5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042920" y="62064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Verdana"/>
                <a:ea typeface="隶书"/>
              </a:rPr>
              <a:t>Holland</a:t>
            </a: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人格类型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4382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548640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研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640080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艺术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71500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企业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16002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统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3733920" y="2057400"/>
            <a:ext cx="2514600" cy="16765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3733920" y="20574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2895480" y="3733920"/>
            <a:ext cx="2514600" cy="16761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3"/>
          <p:cNvSpPr/>
          <p:nvPr/>
        </p:nvSpPr>
        <p:spPr>
          <a:xfrm flipV="1">
            <a:off x="2895480" y="2057040"/>
            <a:ext cx="2514600" cy="16765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5410080" y="20574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3733560" y="3733920"/>
            <a:ext cx="2438280" cy="16761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3733920" y="2057400"/>
            <a:ext cx="1676160" cy="335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3733560" y="2057400"/>
            <a:ext cx="1600200" cy="3352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2895480" y="3733920"/>
            <a:ext cx="3353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Verdana"/>
                <a:ea typeface="隶书"/>
              </a:rPr>
              <a:t>Holland</a:t>
            </a:r>
            <a:r>
              <a:rPr b="0" lang="zh-CN" sz="3200" spc="-1" strike="noStrike">
                <a:solidFill>
                  <a:srgbClr val="cccc00"/>
                </a:solidFill>
                <a:latin typeface="Verdana"/>
                <a:ea typeface="隶书"/>
              </a:rPr>
              <a:t>的人格类型论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7440" cy="4876560"/>
          </a:xfrm>
          <a:prstGeom prst="rect">
            <a:avLst/>
          </a:prstGeom>
          <a:solidFill>
            <a:srgbClr val="ffff99"/>
          </a:solidFill>
          <a:ln w="9360">
            <a:solidFill>
              <a:srgbClr val="90a8b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现实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顺应的、具体的、老实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研究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分析型的、指挥的、探究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艺术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想象的、独白的、情感性的和无秩序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13040" y="1447920"/>
            <a:ext cx="3997080" cy="4876560"/>
          </a:xfrm>
          <a:prstGeom prst="rect">
            <a:avLst/>
          </a:prstGeom>
          <a:solidFill>
            <a:srgbClr val="ffff99"/>
          </a:solidFill>
          <a:ln w="9360">
            <a:solidFill>
              <a:srgbClr val="90a8b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社会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社交性的、爱帮助他人和善解人意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企业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冒险的、精力充沛的、社交性的和自信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隶书"/>
              </a:rPr>
              <a:t>常规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守规则的、慎重的、自制的、顺从的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68360" y="285192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性格类型与职业倾向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1009800" y="5788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小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职业生涯发展可以让企业</a:t>
            </a:r>
            <a:r>
              <a:rPr b="0" lang="en-US" sz="2800" spc="-1" strike="noStrike">
                <a:solidFill>
                  <a:srgbClr val="cccc00"/>
                </a:solidFill>
                <a:latin typeface="Verdana"/>
                <a:ea typeface="隶书"/>
              </a:rPr>
              <a:t>——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66ff"/>
                </a:solidFill>
                <a:latin typeface="Verdana"/>
              </a:rPr>
              <a:t>适合企业的需求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适才适岗、提高工作效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按照企业需求培养并提高员工技能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使员工能担负起更多的职责的工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留住优秀人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明确人力资本是企业最有价值的财产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3271680" y="48006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制定原则和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Object 4" descr=""/>
          <p:cNvPicPr/>
          <p:nvPr/>
        </p:nvPicPr>
        <p:blipFill>
          <a:blip r:embed="rId1"/>
          <a:stretch/>
        </p:blipFill>
        <p:spPr>
          <a:xfrm>
            <a:off x="1743120" y="2249640"/>
            <a:ext cx="5656320" cy="2357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345200" y="541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1a76b4"/>
                </a:solidFill>
                <a:latin typeface="Times New Roman"/>
              </a:rPr>
              <a:t>个人随公司的发展而发展是一个大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971640" y="333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生涯规划中公司的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342960" y="62064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Verdana"/>
                <a:ea typeface="隶书"/>
              </a:rPr>
              <a:t>1</a:t>
            </a: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、制定原则和方向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230560" cy="408168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4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4241520" cy="2193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5996880" y="5002200"/>
            <a:ext cx="19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水平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747800" y="5721480"/>
            <a:ext cx="17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垂直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872800" y="62064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Verdana"/>
                <a:ea typeface="隶书"/>
              </a:rPr>
              <a:t>2</a:t>
            </a: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、提供信息和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Object 3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2008080" cy="254016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4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452760" cy="34588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2049480" y="512604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息方面：人才需求状况（职位空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度方面：规定不同职位的学习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轮调制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门内岗位轮换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515360" cy="98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00"/>
                </a:solidFill>
                <a:latin typeface="Verdana"/>
                <a:ea typeface="隶书"/>
              </a:rPr>
              <a:t>目录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2124000" y="2060640"/>
            <a:ext cx="517536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bdaa"/>
              </a:gs>
              <a:gs pos="50000">
                <a:srgbClr val="d5f1ed"/>
              </a:gs>
              <a:gs pos="100000">
                <a:srgbClr val="3bbdaa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627280" y="220320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职业生涯规划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2133720" y="2898720"/>
            <a:ext cx="517500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76b4"/>
              </a:gs>
              <a:gs pos="50000">
                <a:srgbClr val="cfe2ef"/>
              </a:gs>
              <a:gs pos="100000">
                <a:srgbClr val="1a76b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556000" y="3069000"/>
            <a:ext cx="4084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涯发展阶段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2133720" y="3736800"/>
            <a:ext cx="5175000" cy="7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a54a"/>
              </a:gs>
              <a:gs pos="50000">
                <a:srgbClr val="fbecd9"/>
              </a:gs>
              <a:gs pos="100000">
                <a:srgbClr val="eaa54a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484360" y="3934440"/>
            <a:ext cx="4084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职业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2133720" y="4651200"/>
            <a:ext cx="5175000" cy="7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a8b0"/>
              </a:gs>
              <a:gs pos="50000">
                <a:srgbClr val="e7edee"/>
              </a:gs>
              <a:gs pos="100000">
                <a:srgbClr val="90a8b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27280" y="4869360"/>
            <a:ext cx="4084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l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人格类型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2124000" y="5553000"/>
            <a:ext cx="517536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a8b0"/>
              </a:gs>
              <a:gs pos="50000">
                <a:srgbClr val="e7edee"/>
              </a:gs>
              <a:gs pos="100000">
                <a:srgbClr val="90a8b0"/>
              </a:gs>
            </a:gsLst>
            <a:lin ang="5400000"/>
          </a:gradFill>
          <a:ln w="12600">
            <a:solidFill>
              <a:srgbClr val="333399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556000" y="5734440"/>
            <a:ext cx="40845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职业生涯与企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666720"/>
            <a:ext cx="72392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一日资企业职业生涯发展 </a:t>
            </a:r>
            <a:r>
              <a:rPr b="0" lang="en-US" sz="2800" spc="-1" strike="noStrike">
                <a:solidFill>
                  <a:srgbClr val="cccc00"/>
                </a:solidFill>
                <a:latin typeface="Verdana"/>
                <a:ea typeface="隶书"/>
              </a:rPr>
              <a:t>(</a:t>
            </a: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职位升迁</a:t>
            </a:r>
            <a:r>
              <a:rPr b="0" lang="en-US" sz="2800" spc="-1" strike="noStrike">
                <a:solidFill>
                  <a:srgbClr val="cccc00"/>
                </a:solidFill>
                <a:latin typeface="Verdana"/>
                <a:ea typeface="隶书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755280" y="6657840"/>
            <a:ext cx="180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755280" y="5487840"/>
            <a:ext cx="26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H="1">
            <a:off x="755640" y="4329000"/>
            <a:ext cx="364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 flipH="1">
            <a:off x="755640" y="3171960"/>
            <a:ext cx="453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"/>
          <p:cNvSpPr/>
          <p:nvPr/>
        </p:nvSpPr>
        <p:spPr>
          <a:xfrm flipH="1">
            <a:off x="755640" y="1998720"/>
            <a:ext cx="547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920880" y="19890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920880" y="3205080"/>
            <a:ext cx="0" cy="114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920880" y="434664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920880" y="5487840"/>
            <a:ext cx="0" cy="11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139760" y="2565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~201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1112040" y="3546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~20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1112040" y="47372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~20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109160" y="58626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~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624040" y="2001960"/>
            <a:ext cx="6339960" cy="4666680"/>
            <a:chOff x="2624040" y="2001960"/>
            <a:chExt cx="6339960" cy="4666680"/>
          </a:xfrm>
        </p:grpSpPr>
        <p:sp>
          <p:nvSpPr>
            <p:cNvPr id="377" name="Freeform 18"/>
            <p:cNvSpPr/>
            <p:nvPr/>
          </p:nvSpPr>
          <p:spPr>
            <a:xfrm>
              <a:off x="8330760" y="2001960"/>
              <a:ext cx="626760" cy="1181160"/>
            </a:xfrm>
            <a:prstGeom prst="pie">
              <a:avLst/>
            </a:prstGeom>
            <a:gradFill rotWithShape="0">
              <a:gsLst>
                <a:gs pos="0">
                  <a:srgbClr val="1b574f"/>
                </a:gs>
                <a:gs pos="50000">
                  <a:srgbClr val="3bbdaa"/>
                </a:gs>
                <a:gs pos="100000">
                  <a:srgbClr val="1b57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25840" y="2001960"/>
              <a:ext cx="3638160" cy="755640"/>
            </a:xfrm>
            <a:prstGeom prst="pie">
              <a:avLst/>
            </a:prstGeom>
            <a:solidFill>
              <a:srgbClr val="3bb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699680" y="3162960"/>
              <a:ext cx="627120" cy="1174320"/>
            </a:xfrm>
            <a:prstGeom prst="pie">
              <a:avLst/>
            </a:prstGeom>
            <a:gradFill rotWithShape="0">
              <a:gsLst>
                <a:gs pos="0">
                  <a:srgbClr val="6c4c22"/>
                </a:gs>
                <a:gs pos="50000">
                  <a:srgbClr val="eaa54a"/>
                </a:gs>
                <a:gs pos="100000">
                  <a:srgbClr val="6c4c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4422600" y="3162960"/>
              <a:ext cx="3911040" cy="753120"/>
            </a:xfrm>
            <a:prstGeom prst="pie">
              <a:avLst/>
            </a:prstGeom>
            <a:solidFill>
              <a:srgbClr val="eaa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067520" y="4324320"/>
              <a:ext cx="623520" cy="1178640"/>
            </a:xfrm>
            <a:prstGeom prst="pie">
              <a:avLst/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6438600" y="5487840"/>
              <a:ext cx="628560" cy="1180800"/>
            </a:xfrm>
            <a:prstGeom prst="pie">
              <a:avLst/>
            </a:prstGeom>
            <a:gradFill rotWithShape="0">
              <a:gsLst>
                <a:gs pos="0">
                  <a:srgbClr val="00274e"/>
                </a:gs>
                <a:gs pos="50000">
                  <a:srgbClr val="0054a8"/>
                </a:gs>
                <a:gs pos="100000">
                  <a:srgbClr val="0027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2625840" y="5494320"/>
              <a:ext cx="4441320" cy="753120"/>
            </a:xfrm>
            <a:prstGeom prst="pie">
              <a:avLst/>
            </a:prstGeom>
            <a:solidFill>
              <a:srgbClr val="005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3270240" y="2216880"/>
              <a:ext cx="2000160" cy="380052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5333040" y="2757600"/>
              <a:ext cx="3011040" cy="425520"/>
            </a:xfrm>
            <a:prstGeom prst="rect">
              <a:avLst/>
            </a:prstGeom>
            <a:gradFill rotWithShape="0">
              <a:gsLst>
                <a:gs pos="0">
                  <a:srgbClr val="2b897b"/>
                </a:gs>
                <a:gs pos="50000">
                  <a:srgbClr val="3bbdaa"/>
                </a:gs>
                <a:gs pos="100000">
                  <a:srgbClr val="2b89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努力成为港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4424040" y="3916440"/>
              <a:ext cx="3282480" cy="416520"/>
            </a:xfrm>
            <a:prstGeom prst="rect">
              <a:avLst/>
            </a:prstGeom>
            <a:gradFill rotWithShape="0">
              <a:gsLst>
                <a:gs pos="0">
                  <a:srgbClr val="aa7836"/>
                </a:gs>
                <a:gs pos="50000">
                  <a:srgbClr val="eaa54a"/>
                </a:gs>
                <a:gs pos="100000">
                  <a:srgbClr val="aa783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从副科长到科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3525840" y="4324320"/>
              <a:ext cx="4172400" cy="759600"/>
            </a:xfrm>
            <a:prstGeom prst="pie">
              <a:avLst/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9"/>
            <p:cNvSpPr/>
            <p:nvPr/>
          </p:nvSpPr>
          <p:spPr>
            <a:xfrm>
              <a:off x="3529440" y="5082120"/>
              <a:ext cx="3551760" cy="41652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从主任成为副科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0"/>
            <p:cNvSpPr/>
            <p:nvPr/>
          </p:nvSpPr>
          <p:spPr>
            <a:xfrm>
              <a:off x="2624040" y="6249960"/>
              <a:ext cx="3823200" cy="414360"/>
            </a:xfrm>
            <a:prstGeom prst="rect">
              <a:avLst/>
            </a:prstGeom>
            <a:gradFill rotWithShape="0">
              <a:gsLst>
                <a:gs pos="0">
                  <a:srgbClr val="003d7a"/>
                </a:gs>
                <a:gs pos="50000">
                  <a:srgbClr val="0054a8"/>
                </a:gs>
                <a:gs pos="100000">
                  <a:srgbClr val="003d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从见习主任成为主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31"/>
          <p:cNvSpPr/>
          <p:nvPr/>
        </p:nvSpPr>
        <p:spPr>
          <a:xfrm>
            <a:off x="826920" y="198900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~20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5796000" y="206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终极目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部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Organization Chart 5"/>
          <p:cNvGrpSpPr/>
          <p:nvPr/>
        </p:nvGrpSpPr>
        <p:grpSpPr>
          <a:xfrm>
            <a:off x="971640" y="2349360"/>
            <a:ext cx="7489440" cy="3121200"/>
            <a:chOff x="971640" y="2349360"/>
            <a:chExt cx="7489440" cy="3121200"/>
          </a:xfrm>
        </p:grpSpPr>
        <p:cxnSp>
          <p:nvCxnSpPr>
            <p:cNvPr id="393" name="_s4100"/>
            <p:cNvCxnSpPr>
              <a:stCxn id="394" idx="0"/>
              <a:endCxn id="395" idx="2"/>
            </p:cNvCxnSpPr>
            <p:nvPr/>
          </p:nvCxnSpPr>
          <p:spPr>
            <a:xfrm flipV="1" rot="16200000">
              <a:off x="5714280" y="2598840"/>
              <a:ext cx="624960" cy="262188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6" name="_s4101"/>
            <p:cNvCxnSpPr>
              <a:stCxn id="397" idx="0"/>
              <a:endCxn id="395" idx="2"/>
            </p:cNvCxnSpPr>
            <p:nvPr/>
          </p:nvCxnSpPr>
          <p:spPr>
            <a:xfrm flipV="1">
              <a:off x="4716360" y="3597480"/>
              <a:ext cx="2880" cy="62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8" name="_s4102"/>
            <p:cNvCxnSpPr>
              <a:stCxn id="399" idx="0"/>
              <a:endCxn id="395" idx="2"/>
            </p:cNvCxnSpPr>
            <p:nvPr/>
          </p:nvCxnSpPr>
          <p:spPr>
            <a:xfrm flipH="1" flipV="1" rot="5400000">
              <a:off x="3092760" y="2598840"/>
              <a:ext cx="624960" cy="262188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5" name="_s4103"/>
            <p:cNvSpPr/>
            <p:nvPr/>
          </p:nvSpPr>
          <p:spPr>
            <a:xfrm>
              <a:off x="3592800" y="2349360"/>
              <a:ext cx="2246760" cy="12484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4104"/>
            <p:cNvSpPr/>
            <p:nvPr/>
          </p:nvSpPr>
          <p:spPr>
            <a:xfrm>
              <a:off x="971640" y="4222080"/>
              <a:ext cx="2246760" cy="12484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员工培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4105"/>
            <p:cNvSpPr/>
            <p:nvPr/>
          </p:nvSpPr>
          <p:spPr>
            <a:xfrm>
              <a:off x="3592800" y="4222080"/>
              <a:ext cx="2246760" cy="12484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管理培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4106"/>
            <p:cNvSpPr/>
            <p:nvPr/>
          </p:nvSpPr>
          <p:spPr>
            <a:xfrm>
              <a:off x="6214320" y="4222080"/>
              <a:ext cx="2246760" cy="12484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部事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13"/>
          <p:cNvSpPr/>
          <p:nvPr/>
        </p:nvSpPr>
        <p:spPr>
          <a:xfrm>
            <a:off x="900000" y="62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隶书"/>
                <a:ea typeface="隶书"/>
              </a:rPr>
              <a:t>职业生涯发展 </a:t>
            </a:r>
            <a:r>
              <a:rPr b="0" lang="en-US" sz="3600" spc="-1" strike="noStrike">
                <a:solidFill>
                  <a:srgbClr val="cccc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cccc00"/>
                </a:solidFill>
                <a:latin typeface="隶书"/>
                <a:ea typeface="隶书"/>
              </a:rPr>
              <a:t>岗位轮换</a:t>
            </a:r>
            <a:r>
              <a:rPr b="0" lang="en-US" sz="3600" spc="-1" strike="noStrike">
                <a:solidFill>
                  <a:srgbClr val="cc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财富增长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644760" y="991080"/>
            <a:ext cx="7743600" cy="5859000"/>
            <a:chOff x="644760" y="991080"/>
            <a:chExt cx="7743600" cy="5859000"/>
          </a:xfrm>
        </p:grpSpPr>
        <p:sp>
          <p:nvSpPr>
            <p:cNvPr id="403" name="Oval 4"/>
            <p:cNvSpPr/>
            <p:nvPr/>
          </p:nvSpPr>
          <p:spPr>
            <a:xfrm>
              <a:off x="1873080" y="4802040"/>
              <a:ext cx="6515280" cy="1722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 rot="20601600">
              <a:off x="1066680" y="2057400"/>
              <a:ext cx="6659640" cy="392112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 rot="20601600">
              <a:off x="1088640" y="1844640"/>
              <a:ext cx="6516720" cy="37990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7"/>
            <p:cNvSpPr/>
            <p:nvPr/>
          </p:nvSpPr>
          <p:spPr>
            <a:xfrm rot="20601600">
              <a:off x="4200480" y="1699920"/>
              <a:ext cx="3338640" cy="2555640"/>
            </a:xfrm>
            <a:prstGeom prst="pie">
              <a:avLst/>
            </a:prstGeom>
            <a:gradFill rotWithShape="0">
              <a:gsLst>
                <a:gs pos="0">
                  <a:srgbClr val="eaa54a"/>
                </a:gs>
                <a:gs pos="100000">
                  <a:srgbClr val="f1c3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rc 8"/>
            <p:cNvSpPr/>
            <p:nvPr/>
          </p:nvSpPr>
          <p:spPr>
            <a:xfrm flipH="1" rot="20602200">
              <a:off x="1375560" y="4137120"/>
              <a:ext cx="3843000" cy="1919160"/>
            </a:xfrm>
            <a:prstGeom prst="pie">
              <a:avLst/>
            </a:prstGeom>
            <a:gradFill rotWithShape="0">
              <a:gsLst>
                <a:gs pos="0">
                  <a:srgbClr val="0054a8"/>
                </a:gs>
                <a:gs pos="100000">
                  <a:srgbClr val="00336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9"/>
            <p:cNvSpPr/>
            <p:nvPr/>
          </p:nvSpPr>
          <p:spPr>
            <a:xfrm rot="20601600">
              <a:off x="2472840" y="1808280"/>
              <a:ext cx="3670560" cy="1841400"/>
            </a:xfrm>
            <a:prstGeom prst="pie">
              <a:avLst/>
            </a:prstGeom>
            <a:gradFill rotWithShape="0">
              <a:gsLst>
                <a:gs pos="0">
                  <a:srgbClr val="1a76b4"/>
                </a:gs>
                <a:gs pos="100000">
                  <a:srgbClr val="569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10"/>
            <p:cNvSpPr/>
            <p:nvPr/>
          </p:nvSpPr>
          <p:spPr>
            <a:xfrm flipH="1" rot="20602200">
              <a:off x="971640" y="2491920"/>
              <a:ext cx="3336840" cy="2745000"/>
            </a:xfrm>
            <a:prstGeom prst="pie">
              <a:avLst/>
            </a:prstGeom>
            <a:gradFill rotWithShape="0">
              <a:gsLst>
                <a:gs pos="0">
                  <a:srgbClr val="3bbdaa"/>
                </a:gs>
                <a:gs pos="100000">
                  <a:srgbClr val="20675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 rot="20601600">
              <a:off x="2800080" y="2773080"/>
              <a:ext cx="3157560" cy="1741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2001960" y="366228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3262680" y="2025720"/>
              <a:ext cx="21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月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MB5,00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6369120" y="25606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5746680" y="3705120"/>
              <a:ext cx="2076480" cy="2309760"/>
            </a:xfrm>
            <a:prstGeom prst="pie">
              <a:avLst/>
            </a:prstGeom>
            <a:gradFill rotWithShape="0">
              <a:gsLst>
                <a:gs pos="0">
                  <a:srgbClr val="58666b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rc 17"/>
            <p:cNvSpPr/>
            <p:nvPr/>
          </p:nvSpPr>
          <p:spPr>
            <a:xfrm rot="20539200">
              <a:off x="4649400" y="2910960"/>
              <a:ext cx="3195720" cy="241632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434e5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734000" y="4324320"/>
              <a:ext cx="1081080" cy="170496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9"/>
            <p:cNvSpPr/>
            <p:nvPr/>
          </p:nvSpPr>
          <p:spPr>
            <a:xfrm>
              <a:off x="5383080" y="4221000"/>
              <a:ext cx="20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月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MB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0"/>
            <p:cNvSpPr/>
            <p:nvPr/>
          </p:nvSpPr>
          <p:spPr>
            <a:xfrm>
              <a:off x="2482560" y="4900680"/>
              <a:ext cx="20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月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MB3,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4551480" y="4411800"/>
              <a:ext cx="981000" cy="1439640"/>
            </a:xfrm>
            <a:prstGeom prst="pie">
              <a:avLst/>
            </a:pr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22"/>
            <p:cNvSpPr/>
            <p:nvPr/>
          </p:nvSpPr>
          <p:spPr>
            <a:xfrm rot="20601600">
              <a:off x="2922120" y="3098520"/>
              <a:ext cx="303048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1403280" y="3645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月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,00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5435640" y="256536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月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MB4,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我们怎样获得成功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95280" y="1557360"/>
            <a:ext cx="838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发展性的工作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: (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极少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可以在短时间内获取升迁或发展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95280" y="3068640"/>
            <a:ext cx="874872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维持性的工作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: (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大多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在维持中寻找亮点</a:t>
            </a:r>
            <a:r>
              <a:rPr b="0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永不放弃的心态与坚持不懈的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在工作中培养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勇于承担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培养解决实际问题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5"/>
          <p:cNvSpPr/>
          <p:nvPr/>
        </p:nvSpPr>
        <p:spPr>
          <a:xfrm>
            <a:off x="858960" y="2011320"/>
            <a:ext cx="7848360" cy="463248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979560" y="2025720"/>
            <a:ext cx="7611840" cy="4543200"/>
          </a:xfrm>
          <a:prstGeom prst="roundRect">
            <a:avLst>
              <a:gd name="adj" fmla="val 16667"/>
            </a:avLst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042920" y="5369040"/>
            <a:ext cx="7508880" cy="1150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1042920" y="2060640"/>
            <a:ext cx="7508880" cy="114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9"/>
          <p:cNvGrpSpPr/>
          <p:nvPr/>
        </p:nvGrpSpPr>
        <p:grpSpPr>
          <a:xfrm>
            <a:off x="3456000" y="1689120"/>
            <a:ext cx="2331360" cy="731880"/>
            <a:chOff x="3456000" y="1689120"/>
            <a:chExt cx="2331360" cy="731880"/>
          </a:xfrm>
        </p:grpSpPr>
        <p:sp>
          <p:nvSpPr>
            <p:cNvPr id="431" name="Oval 10"/>
            <p:cNvSpPr/>
            <p:nvPr/>
          </p:nvSpPr>
          <p:spPr>
            <a:xfrm>
              <a:off x="3456000" y="1689120"/>
              <a:ext cx="2331360" cy="731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"/>
            <p:cNvSpPr/>
            <p:nvPr/>
          </p:nvSpPr>
          <p:spPr>
            <a:xfrm>
              <a:off x="3480480" y="1694520"/>
              <a:ext cx="2254680" cy="708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2"/>
            <p:cNvSpPr/>
            <p:nvPr/>
          </p:nvSpPr>
          <p:spPr>
            <a:xfrm>
              <a:off x="3508200" y="1698840"/>
              <a:ext cx="2202480" cy="691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>
              <a:off x="3532680" y="1705680"/>
              <a:ext cx="2094120" cy="645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4"/>
            <p:cNvSpPr/>
            <p:nvPr/>
          </p:nvSpPr>
          <p:spPr>
            <a:xfrm>
              <a:off x="3654360" y="1722960"/>
              <a:ext cx="1860480" cy="52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15"/>
          <p:cNvSpPr/>
          <p:nvPr/>
        </p:nvSpPr>
        <p:spPr>
          <a:xfrm>
            <a:off x="4359600" y="177336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建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1042920" y="2924280"/>
            <a:ext cx="7462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不要轻易进行工作流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扎根于专项基层工作至少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一定要培养自己解决实际问题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给企业创造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处理好与同事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在专项的基础上考虑横向发展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博闻广识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找个导师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少走弯路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对个人职业生涯的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1"/>
          <p:cNvSpPr/>
          <p:nvPr/>
        </p:nvSpPr>
        <p:spPr>
          <a:xfrm>
            <a:off x="6477120" y="2286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4"/>
          <p:cNvSpPr txBox="1"/>
          <p:nvPr/>
        </p:nvSpPr>
        <p:spPr>
          <a:xfrm>
            <a:off x="2133720" y="3733920"/>
            <a:ext cx="4876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54a8"/>
                    </a:gs>
                    <a:gs pos="100000">
                      <a:srgbClr val="74a2d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54a8"/>
                  </a:gs>
                  <a:gs pos="100000">
                    <a:srgbClr val="74a2d0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00240" y="696600"/>
            <a:ext cx="6837120" cy="4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职业生涯发展的基本概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职业生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生命工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work (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有偿或无偿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a76b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职业生涯发展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为了做更有意义的工作而不断发现并提高自我能力的成长过程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eer Development--- Growth toward your potential to do meaningful wor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85800" y="5410080"/>
            <a:ext cx="8062920" cy="762120"/>
          </a:xfrm>
          <a:prstGeom prst="rightArrow">
            <a:avLst>
              <a:gd name="adj1" fmla="val 56667"/>
              <a:gd name="adj2" fmla="val 7826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职业生涯发展贯穿人的一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219320" y="4876920"/>
            <a:ext cx="160020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2895480" y="4800600"/>
            <a:ext cx="152424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172200" y="4876920"/>
            <a:ext cx="144792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娱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572000" y="4800600"/>
            <a:ext cx="144792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1"/>
          <p:cNvGrpSpPr/>
          <p:nvPr/>
        </p:nvGrpSpPr>
        <p:grpSpPr>
          <a:xfrm>
            <a:off x="838080" y="6095880"/>
            <a:ext cx="7262280" cy="357480"/>
            <a:chOff x="838080" y="6095880"/>
            <a:chExt cx="7262280" cy="357480"/>
          </a:xfrm>
        </p:grpSpPr>
        <p:grpSp>
          <p:nvGrpSpPr>
            <p:cNvPr id="194" name="Group 2"/>
            <p:cNvGrpSpPr/>
            <p:nvPr/>
          </p:nvGrpSpPr>
          <p:grpSpPr>
            <a:xfrm>
              <a:off x="5528880" y="6095880"/>
              <a:ext cx="2571480" cy="357480"/>
              <a:chOff x="5528880" y="6095880"/>
              <a:chExt cx="2571480" cy="357480"/>
            </a:xfrm>
          </p:grpSpPr>
          <p:sp>
            <p:nvSpPr>
              <p:cNvPr id="195" name="AutoShape 3"/>
              <p:cNvSpPr/>
              <p:nvPr/>
            </p:nvSpPr>
            <p:spPr>
              <a:xfrm>
                <a:off x="552888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4"/>
              <p:cNvSpPr/>
              <p:nvPr/>
            </p:nvSpPr>
            <p:spPr>
              <a:xfrm>
                <a:off x="6358320" y="6095880"/>
                <a:ext cx="912240" cy="357480"/>
              </a:xfrm>
              <a:custGeom>
                <a:avLst/>
                <a:gdLst>
                  <a:gd name="textAreaLeft" fmla="*/ 0 w 912240"/>
                  <a:gd name="textAreaRight" fmla="*/ 912600 w 91224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提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>
                <a:off x="710496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成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3153240" y="6095880"/>
              <a:ext cx="2571480" cy="357480"/>
              <a:chOff x="3153240" y="6095880"/>
              <a:chExt cx="2571480" cy="357480"/>
            </a:xfrm>
          </p:grpSpPr>
          <p:sp>
            <p:nvSpPr>
              <p:cNvPr id="199" name="AutoShape 14"/>
              <p:cNvSpPr/>
              <p:nvPr/>
            </p:nvSpPr>
            <p:spPr>
              <a:xfrm>
                <a:off x="315324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15"/>
              <p:cNvSpPr/>
              <p:nvPr/>
            </p:nvSpPr>
            <p:spPr>
              <a:xfrm>
                <a:off x="3982680" y="6095880"/>
                <a:ext cx="912240" cy="357480"/>
              </a:xfrm>
              <a:custGeom>
                <a:avLst/>
                <a:gdLst>
                  <a:gd name="textAreaLeft" fmla="*/ 0 w 912240"/>
                  <a:gd name="textAreaRight" fmla="*/ 912600 w 91224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提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16"/>
              <p:cNvSpPr/>
              <p:nvPr/>
            </p:nvSpPr>
            <p:spPr>
              <a:xfrm>
                <a:off x="472932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成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838080" y="6095880"/>
              <a:ext cx="2571480" cy="357480"/>
              <a:chOff x="838080" y="6095880"/>
              <a:chExt cx="2571480" cy="357480"/>
            </a:xfrm>
          </p:grpSpPr>
          <p:sp>
            <p:nvSpPr>
              <p:cNvPr id="203" name="AutoShape 18"/>
              <p:cNvSpPr/>
              <p:nvPr/>
            </p:nvSpPr>
            <p:spPr>
              <a:xfrm>
                <a:off x="83808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发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19"/>
              <p:cNvSpPr/>
              <p:nvPr/>
            </p:nvSpPr>
            <p:spPr>
              <a:xfrm>
                <a:off x="1667520" y="6095880"/>
                <a:ext cx="912240" cy="357480"/>
              </a:xfrm>
              <a:custGeom>
                <a:avLst/>
                <a:gdLst>
                  <a:gd name="textAreaLeft" fmla="*/ 0 w 912240"/>
                  <a:gd name="textAreaRight" fmla="*/ 912600 w 91224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提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20"/>
              <p:cNvSpPr/>
              <p:nvPr/>
            </p:nvSpPr>
            <p:spPr>
              <a:xfrm>
                <a:off x="2414160" y="6095880"/>
                <a:ext cx="995400" cy="357480"/>
              </a:xfrm>
              <a:custGeom>
                <a:avLst/>
                <a:gdLst>
                  <a:gd name="textAreaLeft" fmla="*/ 0 w 995400"/>
                  <a:gd name="textAreaRight" fmla="*/ 995760 w 99540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成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360" y="285192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你处于何种生涯状态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09800" y="5788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小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1042920" y="62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生涯发展阶段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1042920" y="5013360"/>
            <a:ext cx="756144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00720" y="2781360"/>
            <a:ext cx="266364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7164360" y="2781360"/>
            <a:ext cx="1584360" cy="143964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2195640" y="1628640"/>
            <a:ext cx="0" cy="33847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348000" y="1628640"/>
            <a:ext cx="3240" cy="339264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4500720" y="1628640"/>
            <a:ext cx="55440" cy="34131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7164360" y="1557360"/>
            <a:ext cx="0" cy="34131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V="1">
            <a:off x="3059280" y="2276280"/>
            <a:ext cx="2376360" cy="115236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4500720" y="2781360"/>
            <a:ext cx="863280" cy="57636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292720" y="220500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292720" y="292428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1187280" y="1700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长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341440" y="1700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探索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900000" y="522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1835280" y="522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987640" y="522936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508720" y="522936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6804000" y="522936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8317080" y="5229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042920" y="3429000"/>
            <a:ext cx="2016360" cy="0"/>
          </a:xfrm>
          <a:prstGeom prst="line">
            <a:avLst/>
          </a:prstGeom>
          <a:ln w="316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84360" y="17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611280" y="47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61128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业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349236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5940360" y="1628640"/>
            <a:ext cx="55800" cy="34131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4211640" y="522936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464328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业中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594036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业晚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7236000" y="17002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退出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11600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如何做好大学</a:t>
            </a:r>
            <a:r>
              <a:rPr b="0" lang="en-US" sz="3600" spc="-1" strike="noStrike">
                <a:solidFill>
                  <a:srgbClr val="cccc00"/>
                </a:solidFill>
                <a:latin typeface="Verdana"/>
                <a:ea typeface="隶书"/>
              </a:rPr>
              <a:t>--</a:t>
            </a:r>
            <a:r>
              <a:rPr b="0" lang="zh-CN" sz="3600" spc="-1" strike="noStrike">
                <a:solidFill>
                  <a:srgbClr val="cccc00"/>
                </a:solidFill>
                <a:latin typeface="Verdana"/>
                <a:ea typeface="隶书"/>
              </a:rPr>
              <a:t>企业的角色转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58920" y="1940040"/>
            <a:ext cx="7634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角色转换一</a:t>
            </a:r>
            <a:r>
              <a:rPr b="0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从模糊到清晰   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a54a"/>
                </a:solidFill>
                <a:latin typeface="隶书"/>
                <a:ea typeface="隶书"/>
              </a:rPr>
              <a:t>角色转换二</a:t>
            </a:r>
            <a:r>
              <a:rPr b="0" lang="en-US" sz="3600" spc="-1" strike="noStrike">
                <a:solidFill>
                  <a:srgbClr val="eaa54a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eaa54a"/>
                </a:solidFill>
                <a:latin typeface="隶书"/>
                <a:ea typeface="隶书"/>
              </a:rPr>
              <a:t>从被动到主动   机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76b4"/>
                </a:solidFill>
                <a:latin typeface="隶书"/>
                <a:ea typeface="隶书"/>
              </a:rPr>
              <a:t>角色转换三</a:t>
            </a:r>
            <a:r>
              <a:rPr b="0" lang="en-US" sz="3600" spc="-1" strike="noStrike">
                <a:solidFill>
                  <a:srgbClr val="1a76b4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1a76b4"/>
                </a:solidFill>
                <a:latin typeface="隶书"/>
                <a:ea typeface="隶书"/>
              </a:rPr>
              <a:t>从消极到积极   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隶书"/>
                <a:ea typeface="隶书"/>
              </a:rPr>
              <a:t>角色转换四</a:t>
            </a:r>
            <a:r>
              <a:rPr b="0" lang="en-US" sz="3600" spc="-1" strike="noStrike">
                <a:solidFill>
                  <a:srgbClr val="cc00cc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cc00cc"/>
                </a:solidFill>
                <a:latin typeface="隶书"/>
                <a:ea typeface="隶书"/>
              </a:rPr>
              <a:t>从封闭到开放   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角色转换五</a:t>
            </a:r>
            <a:r>
              <a:rPr b="0" lang="en-US" sz="3600" spc="-1" strike="noStrike">
                <a:solidFill>
                  <a:srgbClr val="006600"/>
                </a:solidFill>
                <a:latin typeface="隶书"/>
                <a:ea typeface="隶书"/>
              </a:rPr>
              <a:t>:</a:t>
            </a:r>
            <a:r>
              <a:rPr b="0" lang="zh-CN" sz="3600" spc="-1" strike="noStrike">
                <a:solidFill>
                  <a:srgbClr val="006600"/>
                </a:solidFill>
                <a:latin typeface="隶书"/>
                <a:ea typeface="隶书"/>
              </a:rPr>
              <a:t>从社会到企业   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7740720" y="476280"/>
            <a:ext cx="51444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职业生涯自我意识</a:t>
            </a:r>
            <a:r>
              <a:rPr b="0" lang="en-US" sz="2800" spc="-1" strike="noStrike">
                <a:solidFill>
                  <a:srgbClr val="cccc00"/>
                </a:solidFill>
                <a:latin typeface="Verdana"/>
                <a:ea typeface="隶书"/>
              </a:rPr>
              <a:t>---</a:t>
            </a: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职业锚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685800" y="1676520"/>
            <a:ext cx="5257800" cy="4419000"/>
            <a:chOff x="685800" y="1676520"/>
            <a:chExt cx="5257800" cy="4419000"/>
          </a:xfrm>
        </p:grpSpPr>
        <p:sp>
          <p:nvSpPr>
            <p:cNvPr id="243" name="Oval 4"/>
            <p:cNvSpPr/>
            <p:nvPr/>
          </p:nvSpPr>
          <p:spPr>
            <a:xfrm>
              <a:off x="685800" y="1676520"/>
              <a:ext cx="2971800" cy="2666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2971800" y="1676520"/>
              <a:ext cx="2971800" cy="2666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990720" y="2286000"/>
              <a:ext cx="1981080" cy="12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黑体"/>
                </a:rPr>
                <a:t>我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能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3353040" y="2286000"/>
              <a:ext cx="2590560" cy="12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00"/>
                  </a:solidFill>
                  <a:latin typeface="Times New Roman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黑体"/>
                </a:rPr>
                <a:t>我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动机、理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52840" y="3429000"/>
              <a:ext cx="2971800" cy="266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9"/>
            <p:cNvSpPr/>
            <p:nvPr/>
          </p:nvSpPr>
          <p:spPr>
            <a:xfrm>
              <a:off x="1752840" y="449568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9900"/>
                  </a:solidFill>
                  <a:latin typeface="Times New Roman"/>
                  <a:ea typeface="黑体"/>
                </a:rPr>
                <a:t>我喜欢，有价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2667240" y="53337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价值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11"/>
          <p:cNvSpPr/>
          <p:nvPr/>
        </p:nvSpPr>
        <p:spPr>
          <a:xfrm>
            <a:off x="5715000" y="3886200"/>
            <a:ext cx="1066680" cy="1371600"/>
          </a:xfrm>
          <a:prstGeom prst="pie">
            <a:avLst/>
          </a:prstGeom>
          <a:solidFill>
            <a:srgbClr val="005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6934320" y="3429000"/>
            <a:ext cx="1981080" cy="2590920"/>
          </a:xfrm>
          <a:prstGeom prst="flowChartMagneticDisk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职业生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Verdana"/>
                <a:ea typeface="隶书"/>
              </a:rPr>
              <a:t>职业锚</a:t>
            </a:r>
            <a:r>
              <a:rPr b="0" lang="en-US" sz="3200" spc="-1" strike="noStrike">
                <a:solidFill>
                  <a:srgbClr val="cccc00"/>
                </a:solidFill>
                <a:latin typeface="Verdana"/>
                <a:ea typeface="隶书"/>
              </a:rPr>
              <a:t>—</a:t>
            </a:r>
            <a:r>
              <a:rPr b="0" lang="zh-CN" sz="3200" spc="-1" strike="noStrike">
                <a:solidFill>
                  <a:srgbClr val="cccc00"/>
                </a:solidFill>
                <a:latin typeface="Verdana"/>
                <a:ea typeface="隶书"/>
              </a:rPr>
              <a:t>职业人工作价值观的体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28600" y="2362320"/>
            <a:ext cx="8610120" cy="2590200"/>
            <a:chOff x="228600" y="2362320"/>
            <a:chExt cx="8610120" cy="2590200"/>
          </a:xfrm>
        </p:grpSpPr>
        <p:sp>
          <p:nvSpPr>
            <p:cNvPr id="254" name="AutoShape 4"/>
            <p:cNvSpPr/>
            <p:nvPr/>
          </p:nvSpPr>
          <p:spPr>
            <a:xfrm>
              <a:off x="228600" y="2362320"/>
              <a:ext cx="1674000" cy="259020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Times New Roman"/>
                  <a:ea typeface="黑体"/>
                </a:rPr>
                <a:t>经营管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>
              <a:off x="7084800" y="2362320"/>
              <a:ext cx="1753920" cy="2590200"/>
            </a:xfrm>
            <a:prstGeom prst="flowChartMagneticDisk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生活稳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6"/>
            <p:cNvSpPr/>
            <p:nvPr/>
          </p:nvSpPr>
          <p:spPr>
            <a:xfrm>
              <a:off x="1902600" y="2362320"/>
              <a:ext cx="1674000" cy="2590200"/>
            </a:xfrm>
            <a:prstGeom prst="flowChartMagneticDisk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ff33"/>
                  </a:solidFill>
                  <a:latin typeface="Times New Roman"/>
                  <a:ea typeface="黑体"/>
                </a:rPr>
                <a:t>专业技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7"/>
            <p:cNvSpPr/>
            <p:nvPr/>
          </p:nvSpPr>
          <p:spPr>
            <a:xfrm>
              <a:off x="3576960" y="2362320"/>
              <a:ext cx="1753920" cy="259020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企业家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创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"/>
            <p:cNvSpPr/>
            <p:nvPr/>
          </p:nvSpPr>
          <p:spPr>
            <a:xfrm>
              <a:off x="5330880" y="2362320"/>
              <a:ext cx="1753560" cy="2590200"/>
            </a:xfrm>
            <a:prstGeom prst="flowChartMagneticDisk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自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5981760" cy="43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00"/>
                </a:solidFill>
                <a:latin typeface="Verdana"/>
                <a:ea typeface="隶书"/>
              </a:rPr>
              <a:t>工作价值观的形成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453600" y="1600200"/>
            <a:ext cx="5797800" cy="4737240"/>
            <a:chOff x="453600" y="1600200"/>
            <a:chExt cx="5797800" cy="4737240"/>
          </a:xfrm>
        </p:grpSpPr>
        <p:sp>
          <p:nvSpPr>
            <p:cNvPr id="261" name="AutoShape 4"/>
            <p:cNvSpPr/>
            <p:nvPr/>
          </p:nvSpPr>
          <p:spPr>
            <a:xfrm>
              <a:off x="457200" y="1600200"/>
              <a:ext cx="5791320" cy="4724280"/>
            </a:xfrm>
            <a:prstGeom prst="triangle">
              <a:avLst>
                <a:gd name="adj" fmla="val 50000"/>
              </a:avLst>
            </a:prstGeom>
            <a:solidFill>
              <a:srgbClr val="005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 rot="10816200">
              <a:off x="456840" y="4952520"/>
              <a:ext cx="5791320" cy="137124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Times New Roman"/>
                </a:rPr>
                <a:t>模糊的自我价值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 rot="10816200">
              <a:off x="1370880" y="3504600"/>
              <a:ext cx="3963960" cy="12949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逐渐成型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自我价值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1981440" y="2514240"/>
              <a:ext cx="1218960" cy="838080"/>
            </a:xfrm>
            <a:prstGeom prst="ellipse">
              <a:avLst/>
            </a:prstGeom>
            <a:solidFill>
              <a:srgbClr val="3bbd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a54a"/>
                  </a:solidFill>
                  <a:latin typeface="Times New Roman"/>
                </a:rPr>
                <a:t>能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8"/>
            <p:cNvSpPr/>
            <p:nvPr/>
          </p:nvSpPr>
          <p:spPr>
            <a:xfrm>
              <a:off x="2667240" y="1828440"/>
              <a:ext cx="1218960" cy="838080"/>
            </a:xfrm>
            <a:prstGeom prst="ellipse">
              <a:avLst/>
            </a:prstGeom>
            <a:solidFill>
              <a:srgbClr val="1a76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价值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9"/>
            <p:cNvSpPr/>
            <p:nvPr/>
          </p:nvSpPr>
          <p:spPr>
            <a:xfrm>
              <a:off x="3200400" y="2514240"/>
              <a:ext cx="1219320" cy="8380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Times New Roman"/>
                </a:rPr>
                <a:t>动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70866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业初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34340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工作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5791320" y="2743200"/>
            <a:ext cx="33526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作的成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失败体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围对自己的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换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升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各种充电培训等通过各种各样的经验逐渐形成自我的工作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 rot="14523600">
            <a:off x="7086600" y="510480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5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 rot="14523600">
            <a:off x="5333400" y="228564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5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1:07:54Z</dcterms:created>
  <dc:creator>Ulysses R. Gotera</dc:creator>
  <dc:description/>
  <dc:language>en-US</dc:language>
  <cp:lastModifiedBy>番茄花园</cp:lastModifiedBy>
  <cp:lastPrinted>2001-10-03T02:14:00Z</cp:lastPrinted>
  <dcterms:modified xsi:type="dcterms:W3CDTF">2010-10-12T14:16:21Z</dcterms:modified>
  <cp:revision>272</cp:revision>
  <dc:subject/>
  <dc:title>有效的职业生涯规划</dc:title>
</cp:coreProperties>
</file>