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41BA4-E530-481E-9A37-F8F0FB13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56D19-5BB2-4644-84EC-FDC508F3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17643-6442-4CCC-AC6F-8AE7B507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65E35-1817-4572-8B2E-4389BE79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E963-1536-4CAF-AE8B-E279A8E1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F5DD-6F85-4756-A1B8-A93CBB96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AA22-5CA3-4F1C-831A-92637E99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F9F3-B962-4C5D-97EA-10D9E4AD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817A-CFE6-45AB-8C3D-54CEB5F6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DC77-43E6-441B-BC3F-D2CC58DE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0529-34C4-43BB-BCD0-D5319B66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65D38-C46F-4BB2-BA05-3A5C0463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D2F8-6D44-4579-BF2F-A52FC49D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90FB-0A2B-482B-AA9E-72D8EBA3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9F33-64F0-4458-9D6F-BCC852C4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B7C6-C8A1-40F4-BF1D-751D16BD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CFCE-CCBB-48BB-9CD7-A5326B5C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99EC4-C89F-4137-BB63-73B2001B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48E39-7EB7-42F4-A439-2D138EA7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79F29-3F88-4F9E-B686-AC2EE1D4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FBDF0-BC36-46BA-A2EC-ACF4870B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0FFF7-EB47-423D-B006-A049DC21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C9469-1605-43E0-86B8-B456B60F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D483E-99E1-47CB-9EC4-5643E2B1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06A3-AEF3-405F-9892-38EC31DAD5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048120" y="63244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立志敬业 求实创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2540-95B4-429E-BE94-08AEFB106D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5934240"/>
            <a:ext cx="1676160" cy="923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职业生涯规划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191120" y="5181480"/>
            <a:ext cx="4952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楷体"/>
              </a:rPr>
              <a:t>201X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楷体"/>
              </a:rPr>
              <a:t>届新闻系编导四班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楷体"/>
              </a:rPr>
              <a:t>刘坤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4419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讲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4495680"/>
            <a:ext cx="1447920" cy="890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600200" y="5029200"/>
            <a:ext cx="1828800" cy="1085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3049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xxx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学系第二届大学生职业规划大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色地完成学年论文，并初步确定自己毕业论文的方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争取在毕业后就有一份稳定的工作。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把大学这个句号划的更圆满，不使自己留下遗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685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7d"/>
                </a:solidFill>
                <a:latin typeface="Arial"/>
                <a:ea typeface="楷体"/>
              </a:rPr>
              <a:t>大学四年级为分化期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结束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  <a:ea typeface="楷体_GB2312"/>
              </a:rPr>
              <a:t>不积跬步无以至千里，不积小流无以成江海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计划固然好，但更重要的，在于其具体实践并取得成效。给自己一个理想，我将沿着梦想前进；给自己一个规划，我将把生命拓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76520" y="2286000"/>
            <a:ext cx="670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楷体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我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201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届新闻系编导专业四班学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性格爱好： 我的性格有点内向。我喜欢听音乐、看书、看电影和上网。我比较喜欢计算机类书籍，很乐意创新，动手能力较强。做事干练、认真、投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就业现状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目前大学生就业现状的总体形势相当严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，全国普通高校毕业生总数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人。截至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统计，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高校毕业生无法落实自己的去向，高校毕业生的就业率只达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左右，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学生无法就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学就业压力仍旧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495680" cy="407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职业规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038480" cy="29685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生也正如这阶梯一样，从初级，经历成熟，然后经过自己的努力达到人生的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的理想就是要当一名教师，小的时候觉得老师是最神圣的职业，所以就选择了师范类学院。希望自己有朝一日也能真正的成为一位教师，能站在三尺讲台上向我的学生传授知识，也向他们讲述人生之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990720" y="2362320"/>
          <a:ext cx="7391160" cy="3276360"/>
        </p:xfrm>
        <a:graphic>
          <a:graphicData uri="http://schemas.openxmlformats.org/drawingml/2006/table">
            <a:tbl>
              <a:tblPr/>
              <a:tblGrid>
                <a:gridCol w="1477440"/>
                <a:gridCol w="1474920"/>
                <a:gridCol w="1542960"/>
                <a:gridCol w="1417680"/>
                <a:gridCol w="147816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现实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探索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艺术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兴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我统计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我评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上表自我分析中我更加地了解自己，我个人是比较现实的，而且我也喜欢研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从小对教师就很有兴趣，而且立志要当一名人民教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自己也是很热爱学习，一直都是在不断的学习中充实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梦想的实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2819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初步了解职业，特别是自己未来所想从事的职业或自己所学专业对口的职业，提高人际沟通能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划自己的学习计划；做好自己的本职工作 ；在社团中认真实践广交朋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备在今年暑假的时候出去找工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2138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920" y="19810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7d"/>
                </a:solidFill>
                <a:latin typeface="Arial"/>
                <a:ea typeface="楷体"/>
              </a:rPr>
              <a:t>大学一年级为试探期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争取通过普通话等级考试。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计算机三级等级证书考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份的时候参加英语四级考试。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有选择地辅修其他专业的知识充实自己。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7d"/>
                </a:solidFill>
                <a:latin typeface="Arial"/>
                <a:ea typeface="楷体"/>
              </a:rPr>
              <a:t>大学二年级为定向期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高求职技能、搜集教育信息、并确定自己的方向要在考研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锻炼自己的独立解决问题的能力和创造性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加和专业有关的暑期工作，和同学交流求职工作心得体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9907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7d"/>
                </a:solidFill>
                <a:latin typeface="Arial"/>
                <a:ea typeface="楷体"/>
              </a:rPr>
              <a:t>大学三年级为冲刺期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0:52:20Z</dcterms:created>
  <dc:creator>原青宝</dc:creator>
  <dc:description/>
  <dc:language>en-US</dc:language>
  <cp:lastModifiedBy>微软用户</cp:lastModifiedBy>
  <dcterms:modified xsi:type="dcterms:W3CDTF">2015-11-19T03:53:1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  <property fmtid="{D5CDD505-2E9C-101B-9397-08002B2CF9AE}" pid="3" name="Version">
    <vt:r8>1</vt:r8>
  </property>
</Properties>
</file>