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233C-D384-4D97-AE41-02581F763A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851-2FFA-457F-A4CF-34F93922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848-2327-4B0E-80E3-BD515071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7A6-8CE1-42E5-8449-9F71FAC2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095-69CB-4F19-9DA1-F6EB2A78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5AD-E511-4B63-B35F-675228ED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0F5-FA2E-4F02-87C7-E8D921AA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EB8-832D-4A01-8F1C-99E22EB4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905-1320-4935-9D87-03025038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DE9-BB84-4460-8C89-77FB078B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8AD-B956-453C-8C09-05895B6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7CF-9B40-4FD1-A098-32EC7770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332-5308-4A9D-A88D-506893A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3200-B21B-4406-8098-8D6C09A073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0805_223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556000" y="1773360"/>
            <a:ext cx="68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回自己的祖国去</a:t>
            </a: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396440" y="289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北师大版三年级语文上册第三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33360"/>
            <a:ext cx="8964720" cy="79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liàng       qì          lu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辆           汽          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一辆  车辆  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汽车   汽油  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张罗 罗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qī     yì         fù       w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妻       异        妇         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夫妻 妻子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惊异 奇异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夫妇 妇女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台湾  海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9280" y="333360"/>
            <a:ext cx="8964720" cy="79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mǎ         wò         pè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码            握          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码头  号码  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握手   握住  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佩服  敬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pāo       pín        gu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抛           贫           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抛开   抛弃 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贫穷   贫困    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回归  归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189000"/>
            <a:ext cx="9144000" cy="83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夫             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夫妇  夫人  大夫 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城市  市场   市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价           值             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价值  价格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值班 值得  价值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城市 城楼 城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华               穷              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华山  华罗庚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穷苦  穷人  贫穷   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客厅  大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3480" y="243000"/>
            <a:ext cx="771840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52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夫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4360" y="134136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f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夫妇  夫人  大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69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市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4000" y="134136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城市  市场  市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86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126828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ji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价值  价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03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值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134136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zh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值班  值得  价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20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城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137160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ché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城市  城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37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华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137160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hu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华山   华罗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54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137160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qió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穷苦  贫穷  穷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71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厅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19640" y="137160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tī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客厅  大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5:06:30Z</dcterms:created>
  <dc:creator>dell</dc:creator>
  <dc:description/>
  <dc:language>en-US</dc:language>
  <cp:lastModifiedBy>dell</cp:lastModifiedBy>
  <dcterms:modified xsi:type="dcterms:W3CDTF">2013-05-02T08:20:19Z</dcterms:modified>
  <cp:revision>12</cp:revision>
  <dc:subject/>
  <dc:title>幻灯片 1</dc:title>
</cp:coreProperties>
</file>