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AB8-01AE-4B41-B7FB-613D8FFF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34D-E7D6-4D18-9844-B9A6EAB3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8EA-4406-4F37-8A26-7FC013A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8B5-86C3-4C15-9D81-A09E0CB1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A5A8-DFF3-4E6F-9BCD-1809E604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DFC-1DD4-4999-BDD2-261B2DED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4012-6855-4F70-8654-73F3A04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51E-66AB-4297-9E88-F33BACA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73C4-0167-4161-8D40-B0D2AF70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563-52B9-4C4A-BEF8-4C4050B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7596-8082-4729-8B0E-3210967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F75-97B7-48A5-B7BB-38340498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6EB-83FE-4C71-B43E-1D680B9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F58B-92CE-4948-B445-EEA47C3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41C-6A13-4B87-AAD2-9E236AD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3E3-08E8-43C7-8566-B720302B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758C-6F07-4EDB-BDEA-0B964AC1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D35-0316-4952-B0C6-47F4F3A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B6B-3C88-4EE8-8B24-D57B0D4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5D9-7A8A-4BDD-A4F8-4B8A82C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CE3-D652-4374-A421-353B73A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007-5937-4C49-A443-0B81F2D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DF1-FCCE-4DEA-A71A-4200CB9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E5F-B9E9-4BBC-8DE8-9D789EC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31A-21EC-4A49-B3B0-69C3477DE2B3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3932-668A-4E8A-AFEB-C574CD3FA1FA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4720" y="4365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新兴街小学一、一班新生家长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01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1486080"/>
            <a:ext cx="6842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培养好习惯成就好人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风的色彩" descr=""/>
          <p:cNvPicPr/>
          <p:nvPr/>
        </p:nvPicPr>
        <p:blipFill>
          <a:blip r:embed="rId2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9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小学后，孩子上课和完成作业很大程度上需要较强的坚持性。家长可以有意识地延长孩子注意力集中的时间。孩子做功课的时候，尽量在旁边辅导，可以及时帮助，提高学习效率。等到孩子养成独立完成功课的习惯后，家长再由辅导转到督促和检查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语文书课文要求背诵，多数在课堂上已经会背，回家只是巩固，所花时间不会太多。如果你的孩子回家连读都不会读，要么是上课没听，要么是接受能力差，不管何种情况，家长在家不管的话，这类孩子肯定会成为班里的差生。如果上课不听的孩子家长一定要孩子背，如果接受能力差的，只要求读流利就行了。这项工作得要家长配合，如果你没有签名，老师不知你的孩子是否背得过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充：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孩子创造一个安静的学习环境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天气变化，及时给孩子添加衣服，帮孩子带好纸巾、手纸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带玩具及其他尖锐、易吞食的危险物品，不提倡孩子将零食和零钱带到学校，吃零食影响课堂纪律、破坏教室卫生、就餐好习惯难以养成，孩子因此受任课老师、班主任多重批评，更会影响其情绪。应教育孩子养成节俭的好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格控制孩子在家看电视的时间，督促孩子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不玩电脑游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休日要求：孩子在家不能一整天看电视或是玩，要安排好一定的时间学习。在家和在校的要求要一样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留下家长多个联系方式，如日后有变更及时通知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秋季校服，量身填表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费及时，提前写上名字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扫地。在家教孩子怎么扫地，免得轮到你的孩子做值日生时不会做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己收拾书包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包好新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"/>
          <p:cNvSpPr/>
          <p:nvPr/>
        </p:nvSpPr>
        <p:spPr>
          <a:xfrm>
            <a:off x="261072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5801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低年级教育的重点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培养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2349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低年级教育的重的浓缩起来就是四个字——培养习惯，或者说是养成教育。孔子说：少成若天性，习惯成自然。  教育归根结底是培养习惯，行为养成了习惯，习惯形成品质，品质决定命运。这句话动说明了习惯的重要性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习惯的力量是一种顽强而巨大的力量，习惯一旦形成之后，没有十倍百倍力量，很难加以改变。 所以，我们应该给孩子养成各种良好的习惯。专家研究认为：良好行为习惯培养的关键期是幼儿阶段和小学阶段，初中为辅助，关键之关键是小学一、二年级。它是建立常规、培养良好学习习惯的最关键时期。这就是三岁看大，七岁看老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227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一年级新生应该重点培养的行为习惯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良好的生活习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的独立意识 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生活自理能力。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会孩子整理书包，坚持让孩子自己整理，培养责任意识——只能指导，不要替代。整理书包是学生的事，是培养孩子责任意识的有效途径，整理书包的过程是一个思（反）考的过程，也是一个心理准备的过程（今天有那些学习活动，所有的准备做好了没有），也是培养良好习惯的过程。当家长的，要投入点时间，督促孩子认真执行。一旦形成习惯，孩子受益，大人也省心。）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学习方面的动手操作能力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服务性劳动的能力。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（在家教孩子怎么扫地，免得轮到你的孩子做值日生时不会做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560" y="14860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）培养孩子的时间观念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我们必须在孩子刚上小学就树立这样的观念：现在我是小学生了，每天放学回家必须先完成作业才能玩，养成按时完成家庭作业的习惯，就算老师没有安排回家学习的内容，家长也应该主动安排，否则一旦孩子养成到家后先玩，置学习于不顾的习惯，那到了中高年级，孩子拖拉作业的坏习惯将会使你很头疼。到时后悔也没用了。特别要提醒家长：低年级的作业中有许多是口头作业，如：读书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、动手摆一摆等，家长们千万不要觉得只有写的才叫作业，要记住听、读、预习、复习，都是作业，现在如果没有这个观念那以后孩子的学习就相当困难。）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树立孩子的安全意识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孩子在学校内有一定的时间可以自由支配。他可以去操场玩，可以和其它小伙伴玩，而孩子好奇心强、行动易冲动、缺乏必要的安全经验的特点可能会导致一些危险。比如孩子课间会追逐奔跑，容易发生碰撞等危险。家长要引导孩子注意保护自己，知道自己身体的哪些部位特别要保护好，知道在楼道里不追跑打闹、不做危险动作，不乱扔东西，树立安全意识和自我保护意识。）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540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良好的学习习惯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严格遵守作息时间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保证充沛的精力，提高学习效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制定合理的作息时间，严格督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 上课认真听（教师、同学）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轻松、优质的学习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询问孩子的学习内容聆听孩子的讲述及时给与帮助和鼓励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家长的关心会促使孩子更加认真的听课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爱想、爱问和积极回答问题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举手的频率反映了孩子参与学习的程度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应做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教育孩子积极举手回答问题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当孩子没有得到发言权而灰心时，应及时引导孩子正确认识举手的作用：让老师知道我会了，我是一个聪明的孩子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因积极参与学习而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2360" y="1485720"/>
            <a:ext cx="853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专心写作业的习惯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重要性：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问题：边写边玩，边吃边玩，作业费时费力错误百出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家长：教育，限定作业时间，通过做其他事情培养专心做事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正确地握笔写字、看书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重要性：影响身体（视力、身姿），影响读书写字的   速度和质量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问题：趴着读书、躺着看书；执笔姿势不正确，身体姿势不正确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家长：多观察，勤督促，持之以恒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197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584360"/>
            <a:ext cx="7128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各位家长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你们好！ 欢迎你们在百忙中抽出时间参加孩子的家长会，我们表示非常感谢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年级的小学生入学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是孩子人生旅途中的一次重大转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学习生活发生了很大的变化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了能让孩子们尽快地适应校园的新生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今天我同各位家长们共同探讨如何根据低年级学生的特点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高家庭教育的效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720" y="1412640"/>
            <a:ext cx="853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）读书的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重要性：著名语言学家、语文教育家吕书湘先生曾讲：语文学习的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得益于课外阅读。小学语文教学大纲中也明确规定了小学生的课外阅读量：六年制不少于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万字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家长：尊重孩子的读书喜好，买适合孩子的课外读物。忌独断、强迫，正确引导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360" y="693360"/>
            <a:ext cx="853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培养阅读习惯的最佳期是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7---9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岁。儿童阅读的故事、童话、诗歌、散文，当然是最自然的精神陶冶和最有效的思想品德教育，真是“随风潜入夜，润物细无声”。而且孩子从小爱书，就终生好学，一生与好书为伴，这也是高素质人才最重要的基本素质和美德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阅读的厚度决定人的高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一位教育学家说过：“储备童年精神的途径，有接触大自然，听长辈讲故事，与同伴玩游戏等等，除此之外，最好最长效的途径就是阅读。”而英国的培根在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论读书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一文中也说：“读书使人充实，讨论使人机智，笔记使人准确。读史使人明智，读诗使人灵秀，数学使人周密，科学使人深刻，伦理学使人庄重，逻辑修辞之学使人善辩：凡有所学，皆成性格。”这些都说明了阅读的重要性。正所谓阅读的厚度决定人的高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6360" y="333000"/>
            <a:ext cx="85392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--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年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必读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猜猜我有多爱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逃家小兔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我爱我爸爸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红鞋子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爷爷一定有办法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安徒生童话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拼音读物或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林童话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选读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哪吒传奇故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童趣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王一梅童话系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梅  华东师范大学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企鹅心灵成长故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汤素兰等    明天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晚上的浩浩荡荡童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梅子涵著    江苏少年儿童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可爱的鼠小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中江嘉美、上野纪子著  赵静、文纪子 南海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你看起来好像很好吃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宫西达也著 杨文译 蒲蒲兰绘本馆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丁丁历险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英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迈克法尔著  邹晓平译  中国少年儿童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了不起的狐狸爸爸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英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罗尔德达尔  代维译 明天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胡萝卜种子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精灵的秋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猪唏哩呼噜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孙幼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大个子老鼠小个子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周锐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豆蔻镇的居民和强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挪威）  埃格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兔子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美国 ） 罗伯特 罗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稻草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叶圣陶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6360" y="693360"/>
            <a:ext cx="853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爱护书本及学习用品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形成细心、整洁的习惯，初步形成节俭意识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：经常检查孩子的文具、书本，教育孩子保护好自己的文具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培养孩良好的行为习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先学做人，后学做事。教育以德为先，人品决定事业的发展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要求孩子在集体生活中，在活动与交往中学会使用 礼貌用语（您好、再见、谢谢、对不起、请等）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要求孩子正直善良，具有无私宽容的品德。在学校尊敬师长，团结同学，与人友好相处，平等相处，平等待人，不逞强、不霸道，要控制自己的行为，不能打架骂人。（家长理智处理孩子间的小矛盾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:\湛欢\图片\e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1120" y="188640"/>
            <a:ext cx="91407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28640"/>
            <a:ext cx="813744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 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让孩子爱上读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2703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8120" y="1450440"/>
            <a:ext cx="793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第一次参加家长会，幼儿园的老师说：“你的儿子有多动症，在板凳上连三分钟都坐不了，你最好带他去医院看一看。”回家的路上，儿子问她老师都说了些什么，她鼻子一酸，差点流下泪来。因为全班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位小朋友，惟有他表现最差；惟有对他，老师表现出不屑。然而她还是告诉她的儿子：“老师表扬你了，说宝宝原来在板凳上坐不了一分钟，现在能坐三分钟。其他妈妈都非常羡慕妈妈，因为全班只有宝宝进步了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2414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7200" y="1422000"/>
            <a:ext cx="7775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那天晚上，她儿子破天荒吃了两碗米饭，并且没让她喂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儿子上小学了。家长会上，老师说：“这次数学考试全班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同学，你儿子排第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，我们怀疑他智力上有些障碍，您最好能带他去医院查一查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回去的路上，她流下了泪。然而，当她回到家里，却对坐在桌前的儿子说：“老师对你充满信心。他说了，你并不是个笨孩子，只要能细心些，会超过你的同桌，这次你的同桌排在第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360" y="765000"/>
            <a:ext cx="248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说这话时，她发现儿子黯淡的眼神一下子充满了光，沮丧的脸也一下子舒展开来。她甚至发现，儿子温顺得让她吃惊，好象长大了许多。第二天上学，去得比平时都要早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孩子上了初中，又一次家长会。她坐在儿子的座位上，等着老师点她儿子的名字，因为每次家长会，她儿子的名字在差生的行列中总是被点到。然而，这次却出乎她的预料——直到结束，都没有听到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2776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有些不习惯，临别去问老师，老师告诉她：“按你儿子现在的成绩，考重点高中有点危险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怀着惊喜的心情走出校门，此时她发现儿子在等她。路上她扶着儿子的肩膀，心里有一种说不出的甜蜜，她告诉儿子：“班主任对你非常满意，他说了，只要你努力，很有希望考上重点高中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高中毕业了。第一批大学录取通知书下达时，学校打电话让她儿子到学校去一趟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2847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有一种预感，她儿子被清华录取了，因为在报考时，她给儿子说过，她相信他能考取这所大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儿子从学校回来，把一封印有清华大学招生办公室的特快专递交到她的手里，突然转身跑到自己的房间里大哭起来，边哭边说：“妈妈，我知道我不是个聪明的孩子，可是，这个世界上只有你能欣赏我……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这时，她悲喜交加，再也按捺不住十几年来凝聚在心中的泪水，任它打在手中的信封上……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华文细黑"/>
              </a:rPr>
              <a:t>作 息 时 间</a:t>
            </a: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41781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85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所以，请好好欣赏你的孩子吧！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308240" y="533520"/>
            <a:ext cx="661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孩子是我们的希望</a:t>
            </a:r>
            <a:r>
              <a:rPr b="0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198108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教育孩子是我们共同的责任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82560" y="3429000"/>
            <a:ext cx="7332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携起手来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69960" y="4648320"/>
            <a:ext cx="7421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一起为孩子的健康成长而努力吧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!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23880" y="106668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家长的理解和支持</a:t>
            </a:r>
            <a:r>
              <a:rPr b="0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34290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是我们教师前进的动力</a:t>
            </a:r>
            <a:r>
              <a:rPr b="1" lang="en-US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.</a:t>
            </a:r>
            <a:endParaRPr b="1" lang="en-US" sz="66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7280" y="270828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9200" cy="110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3457080" y="2095560"/>
            <a:ext cx="53992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孩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共同教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1736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上午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----1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（上四节课）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:3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开始晨读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下午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到校，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开始上课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下午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放学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细黑"/>
              </a:rPr>
              <a:t>注意事项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每天上学都不可以迟到，也不能早到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中午午休一小时。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因病、因事不能到校上课者，及时请假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在接送学生时要严格遵守学校规定的时间、地点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、学习用品的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书包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建议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大小适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（能放进课桌抽屉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双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为佳，不宜过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铅笔盒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建议使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塑料笔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尽量简洁、实用，不宜太花俏，大小适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每天在笔袋里应该准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支左右削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２Ｈ或Ｈ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绘图铅笔。（中午回家再削好，不准使用自动铅笔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橡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定要擦得干净，质量保证。（白色绘图橡皮为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92280"/>
            <a:ext cx="914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直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5CM——20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均可，塑料的，刻度清晰，能放进铅笔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水彩笔和彩铅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拼音本、生字本各两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包书皮（纸质，写清学校、班级、姓名）注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以上的所有用具都要写上或贴上孩子的名字，以免丢失找不到或是无人认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、所有学习用品要安全、简单，太花哨或功能太多的文具会影响孩子上课专心听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0280"/>
            <a:ext cx="93250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会以短信形式告诉家长当天的作业，家长要认真对待。（给孩子准备记作业本，自己也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晚上都要检查孩子的作业并签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都要帮孩子听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在家做作业的时候，要求家长关注孩子的写字姿势，并让孩子认真对待每天的家庭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孩子的书写要严格要求，要求做到工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题要用尺子来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养成良好的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作业前要求孩子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学过的内容，然后再做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让孩子养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预习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惯。（大声读课文，正确、通顺；数学准备学具，其他学科准备相关物品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39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做作业时要求家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定要读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听，必要的情况下要解释题目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管有没有作业，都要要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读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尤其是在拼音方面一定要让孩子多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重古诗词的积累，多读课外书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孩子每次单元测试的成绩，并根据老师的信息对照班级成绩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卷要签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长说话时孩子必须认真听，必要的话要看着你的眼睛或是你指着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注孩子作业的订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认真对待口头作业。（朗读、背诵作业认真检查过关后再签字，每天保证至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阅读时间：课内、背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课外亲子阅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1268280"/>
            <a:ext cx="691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本学期语文教学的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——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中旬重点是汉语拼音教学。要求学生会拼读，会正确书写，并能用汉语拼音写简单的句子。也是本学期的教学重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中旬——期末， 生字、词语、课文教学。生字教学是重点。要求认识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356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个汉字，会读、会写、会用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9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个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教学内容还是比较多的，如果没有家长的积极配合，教学是很难达到满意的效果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2:51:57Z</dcterms:created>
  <dc:creator>xhqqhm</dc:creator>
  <dc:description/>
  <cp:keywords/>
  <dc:language>en-US</dc:language>
  <cp:lastModifiedBy>未知用户</cp:lastModifiedBy>
  <cp:lastPrinted>1899-12-30T00:00:00Z</cp:lastPrinted>
  <dcterms:modified xsi:type="dcterms:W3CDTF">2015-11-24T00:44:4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