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476F-2185-4A51-85A1-D72F50BC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342F-56CB-42FF-BBC4-C78D557E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66A2-E6D6-4A4C-AF2A-7F6BCFB0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727F-67DD-4098-93A4-EB926710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1FC7-D882-4C61-922B-13511332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DC50-C793-49BF-A317-DD76C1E6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5F47-F6BA-4EB2-942A-F0F246E5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9FF1-9049-4BD3-B790-D6EAE748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FE29-BCD4-4425-A823-CDAC4E02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3940-4514-424E-A678-958B12E2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8586-DB9D-4C70-B412-733A5E09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64BF-B3D2-49FE-A267-2FE68042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0720-8FD4-4815-9778-24613B29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8F5E-1E1E-4B22-8F80-CD42C97B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4EA4-0372-4B38-9FA7-848EE54C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07B6-18A9-4020-A710-6D1F6E14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0EE3-0A62-4E29-844C-542D1A93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F3E-E41B-476C-B63A-0AA3153A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021E-F60A-429A-98DA-2DEE7BBA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093-1BBB-4975-97BB-4E8DB632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5B2E-D044-486C-801A-D59F5964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7740-A881-431F-8918-D6058B32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19F7-ED86-4690-BC33-18C6A5DD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3423-5661-4E0F-BD96-00C18F12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9CDA-E842-4211-A6B2-A5A5FD9C4AC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FBDB-4F57-4CA6-BB04-75ACE24EB315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56.com/u26/v_NDc5MjQzODI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56.com/u26/v_NDc5MjQzODI.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743200" y="3886200"/>
            <a:ext cx="38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</a:t>
            </a: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42</a:t>
            </a:r>
            <a:r>
              <a:rPr b="1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班主题班会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    </a:t>
            </a:r>
            <a:r>
              <a:rPr b="1" lang="zh-CN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制作人：喻一石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04800" y="1038240"/>
            <a:ext cx="60962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好习惯，伴我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9480" y="1447920"/>
            <a:ext cx="7620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33520"/>
            <a:ext cx="7239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学而时习之，不亦说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良好的习惯乃是人在其神经系统中存放的道德资本，这个资本在不断地增值，而在人整个一生中就享受着它的利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同样的事重复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72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次就可形成定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只要有意识地锻炼，我们每个人都会养成良好的习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09480" y="1828800"/>
            <a:ext cx="7620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53352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怎样培养良好的学习习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1828800"/>
            <a:ext cx="5867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一、心中要有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二、克服与养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三、培养学习的毅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四、培养创新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09480" y="1828800"/>
            <a:ext cx="7620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6858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养成五种良好的学习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752480"/>
            <a:ext cx="7772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一心向学的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专心致志的学习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严格执行学习计划定时定量的学习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认真思考的学习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5.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讲究学习卫生的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8600" y="1143000"/>
            <a:ext cx="9144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457200"/>
            <a:ext cx="7772400" cy="60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ff"/>
                </a:solidFill>
                <a:latin typeface="Dotum"/>
              </a:rPr>
              <a:t>想一想   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ff"/>
                </a:solidFill>
                <a:latin typeface="Dotum"/>
              </a:rPr>
              <a:t>好习惯给你带来了什么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ff"/>
                </a:solidFill>
                <a:latin typeface="Dotum"/>
              </a:rPr>
              <a:t>给班级带来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ff"/>
                </a:solidFill>
                <a:latin typeface="Dotum"/>
              </a:rPr>
              <a:t>坏习惯又给你带来了什么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ff"/>
                </a:solidFill>
                <a:latin typeface="Dotum"/>
              </a:rPr>
              <a:t>给班级造成什么影响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8600" y="1143000"/>
            <a:ext cx="9144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572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6666"/>
                </a:solidFill>
                <a:latin typeface="Tahoma"/>
              </a:rPr>
              <a:t>良好的习惯，是一个人学习进步的起点， 是一个人立足社会的条件。通过这次主题班会会帮助我们改掉一些不良习惯。一次主题班会就像一盏灯，灯光亮一些，我们身边的黑暗就会少一些。而我们每个同学的心灵就像一扇窗，窗户打开，光亮就会进来。只要我们每个同学迈出一小步，班级就能前进一大步，每个同学迈出一小步，我们小</a:t>
            </a:r>
            <a:r>
              <a:rPr b="1" lang="zh-CN" sz="2400" spc="-1" strike="noStrike">
                <a:solidFill>
                  <a:srgbClr val="006666"/>
                </a:solidFill>
                <a:latin typeface="Tahoma"/>
              </a:rPr>
              <a:t>42</a:t>
            </a:r>
            <a:r>
              <a:rPr b="1" lang="zh-CN" sz="2400" spc="-1" strike="noStrike">
                <a:solidFill>
                  <a:srgbClr val="006666"/>
                </a:solidFill>
                <a:latin typeface="Tahoma"/>
              </a:rPr>
              <a:t>班就能进步一大步。我们班上的每一个同学，在做每一件事时，都会更多地为我们的集体着想，成为真正的拥有良好习惯的文明小学生！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0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1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609480" y="1600200"/>
            <a:ext cx="67820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让“好习惯”伴我们快乐成长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上课时，必要的学习用品都带齐了。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预备铃响，趁老师还没到，抓紧时间多说几句话。 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经常将作业漏在家里。 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课常上能积极提问或回答问题。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上课时，在笔记本上乱写乱画。  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总是在规定的时间和地方学习。  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学习时有小朋友来找我就跟他去玩。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057400" y="457200"/>
            <a:ext cx="4648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好习惯我判断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成绩好的试卷就给家长看，考差了就不给家长看。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老师没布置预习不用了。 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不明白的问题就算了，老师会说的。  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有一边学习，一边看电视或听收音机的习惯。 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玩和学习的时间划分得很清楚。  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班主任在与不在教室时，表现一样。  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每学期开始，能明确提出新的努力目标。  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在学习上表现出竞争意识。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ff"/>
                </a:solidFill>
                <a:latin typeface="Tahoma"/>
              </a:rPr>
              <a:t>猜猜看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4960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不是你的影子，但我与你亲密无间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不是机器，但我全心全意听命于你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对成功的人来说，－－我是功臣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对失败的人来说，－－我是罪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培训我，－－我会为你赢得整个人生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放纵我，－－我会毁掉你的终身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到底是谁？－－我平凡得让你惊奇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-30492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99"/>
                </a:solidFill>
                <a:latin typeface="Tahoma"/>
              </a:rPr>
              <a:t>判断这些习惯的好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219320"/>
            <a:ext cx="739152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1. 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你讲脏话、粗话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上下楼时，你是否跑着上下，大声说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你经常乱扔纸屑、垃圾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你想借同桌学习用品，而同桌又不在，你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先用吗？还是等他回来再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上课回答问题，边举手边说或不举手就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6.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晨诵和午读都需要老师和班长监督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7.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自习课时，你是安静看书，写作业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8.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课间是否经常哄闹，说话举止不文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rId2"/>
          </p:cNvPr>
          <p:cNvSpPr/>
          <p:nvPr/>
        </p:nvSpPr>
        <p:spPr>
          <a:xfrm>
            <a:off x="807732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5844" y="10800"/>
                </a:moveTo>
                <a:lnTo>
                  <a:pt x="5338" y="17806"/>
                </a:lnTo>
                <a:lnTo>
                  <a:pt x="5338" y="3794"/>
                </a:lnTo>
                <a:close/>
              </a:path>
              <a:path fill="darken" w="24690" h="21600">
                <a:moveTo>
                  <a:pt x="17689" y="3794"/>
                </a:moveTo>
                <a:lnTo>
                  <a:pt x="17689" y="17806"/>
                </a:lnTo>
                <a:lnTo>
                  <a:pt x="19351" y="17806"/>
                </a:lnTo>
                <a:lnTo>
                  <a:pt x="19351" y="3794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905120"/>
            <a:ext cx="7620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遇见老师是不是主动停下来向老师问好？ </a:t>
            </a:r>
            <a:br>
              <a:rPr sz="2800"/>
            </a:b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⒑是不是等教师进教室后才安静下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⒒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是不是等老师讲课了再拿出课本用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⒓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是不是经常忘带作业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⒔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是不是没写作业，撒谎说丢在家里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⒕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家长或老师不在身边时能不能自觉学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⒖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能做到珍惜别人的劳动成果？不去破坏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⒗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自己的书桌座位是不是经常干净整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9907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99"/>
                </a:solidFill>
                <a:latin typeface="Tahoma"/>
              </a:rPr>
              <a:t>判断这些习惯的好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rId2"/>
          </p:cNvPr>
          <p:cNvSpPr/>
          <p:nvPr/>
        </p:nvSpPr>
        <p:spPr>
          <a:xfrm>
            <a:off x="807732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5844" y="10800"/>
                </a:moveTo>
                <a:lnTo>
                  <a:pt x="5338" y="17806"/>
                </a:lnTo>
                <a:lnTo>
                  <a:pt x="5338" y="3794"/>
                </a:lnTo>
                <a:close/>
              </a:path>
              <a:path fill="darken" w="24690" h="21600">
                <a:moveTo>
                  <a:pt x="17689" y="3794"/>
                </a:moveTo>
                <a:lnTo>
                  <a:pt x="17689" y="17806"/>
                </a:lnTo>
                <a:lnTo>
                  <a:pt x="19351" y="17806"/>
                </a:lnTo>
                <a:lnTo>
                  <a:pt x="19351" y="3794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905120"/>
            <a:ext cx="7620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676520"/>
            <a:ext cx="7791480" cy="20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6480">
                  <a:solidFill>
                    <a:srgbClr val="cc99ff"/>
                  </a:solidFill>
                  <a:miter/>
                </a:ln>
                <a:solidFill>
                  <a:srgbClr val="dc2431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养成良好的学习习惯 </a:t>
            </a:r>
            <a:endParaRPr b="1" i="1" lang="en-US" sz="6000" spc="1" strike="noStrike">
              <a:ln w="6480">
                <a:solidFill>
                  <a:srgbClr val="cc99ff"/>
                </a:solidFill>
                <a:miter/>
              </a:ln>
              <a:solidFill>
                <a:srgbClr val="dc2431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6880" y="304920"/>
            <a:ext cx="464832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清晨到校先念书，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课堂纪律要遵守，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积极发言先举手，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课间休息讲文明，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教室卫生人人管，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写完作业先检查，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收拾学具有顺序，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阅读天天要坚持，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预习复习别忘记，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养成习惯很重要，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努力争做好少年。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 rot="5735400">
            <a:off x="-1104840" y="2585880"/>
            <a:ext cx="5333760" cy="1600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4347"/>
                <a:gd name="adj2" fmla="val 1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好习惯从我做起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09480" y="1828800"/>
            <a:ext cx="7620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990720"/>
            <a:ext cx="6095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小学生，爱学习，养成习惯终受益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入鸿波要牢记“三人成行是校纪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勤洗衣，勤洗澡，健康卫生身体好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见同学，问声好，团结友爱讲礼貌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见老师，行个礼，尊师重教讲礼仪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上下楼，要安静，轻声慢步靠右行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课堂上，专心听， 作业工整要记牢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课桌上，物品齐，座位卫生我管理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多阅读，勤思考， 我校因我而的骄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 rot="5735400">
            <a:off x="-1447560" y="2666880"/>
            <a:ext cx="533412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4347"/>
                <a:gd name="adj2" fmla="val 1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好习惯从我做起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9-23T11:55:1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