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57D-4C57-487B-AD2C-C748FA30C2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9FF2-6046-49DE-B1A2-3F4A76BA70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031-1ACF-4E19-B262-14A16C27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1D9-6585-4C53-9F6A-2CAE84B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7CB-D07D-4846-8287-FD810574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C7F-03AF-4349-81A2-339D2542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30E-BE70-401C-8EEC-04C67297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695-3831-4295-B8CB-96AB3C71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2B6-CFB8-4589-98F6-4B495AB6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7A1-117B-41AF-9576-4938928B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9F5-EDFE-4497-9B23-157E6785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F13-CE7B-49D6-857D-2AB5D31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5C1-6873-4F02-B8DD-DA3BD628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A1D-E7DD-4C1C-B100-02658A79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5DA5-D937-4512-A3A4-3CDAB39BCA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uzzf\图片\001VrYTvzy6VW5Hql2Y4c&amp;690.jpg"/>
          <p:cNvPicPr/>
          <p:nvPr/>
        </p:nvPicPr>
        <p:blipFill>
          <a:blip r:embed="rId1"/>
          <a:stretch/>
        </p:blipFill>
        <p:spPr>
          <a:xfrm>
            <a:off x="1523880" y="1071720"/>
            <a:ext cx="6096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uzzf\图片\001VrYTvzy6VW5HWk8Jad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uzzf\图片\001VrYTvzy6VW5HJHVy44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uzzf\图片\001VrYTvzy6VW5I0cJN67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uzzf\图片\001VrYTvzy6VW5I32SD4b&amp;690.jpg"/>
          <p:cNvPicPr/>
          <p:nvPr/>
        </p:nvPicPr>
        <p:blipFill>
          <a:blip r:embed="rId1"/>
          <a:stretch/>
        </p:blipFill>
        <p:spPr>
          <a:xfrm>
            <a:off x="1523880" y="1709640"/>
            <a:ext cx="60962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uzzf\图片\001VrYTvzy6VW5HRUNJ53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uzzf\图片\001VrYTvzy6VW5HVAH84a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uzzf\图片\001VrYTvzy6VW5Ih5ZTa9&amp;690.jpg"/>
          <p:cNvPicPr/>
          <p:nvPr/>
        </p:nvPicPr>
        <p:blipFill>
          <a:blip r:embed="rId1"/>
          <a:stretch/>
        </p:blipFill>
        <p:spPr>
          <a:xfrm>
            <a:off x="1523880" y="1709640"/>
            <a:ext cx="6096240" cy="343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uzzf\图片\001VrYTvzy6VW5IsWj1c3&amp;690.jpg"/>
          <p:cNvPicPr/>
          <p:nvPr/>
        </p:nvPicPr>
        <p:blipFill>
          <a:blip r:embed="rId2"/>
          <a:stretch/>
        </p:blipFill>
        <p:spPr>
          <a:xfrm>
            <a:off x="1523880" y="1709640"/>
            <a:ext cx="6096240" cy="343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uzzf\图片\001VrYTvzy6VW5Ixphba5&amp;690.jpg"/>
          <p:cNvPicPr/>
          <p:nvPr/>
        </p:nvPicPr>
        <p:blipFill>
          <a:blip r:embed="rId3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:\uzzf\图片\001VrYTvzy6VW5PNeCj87&amp;690.jpg"/>
          <p:cNvPicPr/>
          <p:nvPr/>
        </p:nvPicPr>
        <p:blipFill>
          <a:blip r:embed="rId4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uzzf\图片\001VrYTvzy6VW5Q5bCAfc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uzzf\图片\001VrYTvzy6VW5PRaW31f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uzzf\图片\001VrYTvzy6VW5Q8hjd4b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uzzf\图片\001VrYTvzy6VW5PVCGb97&amp;690.jpg"/>
          <p:cNvPicPr/>
          <p:nvPr/>
        </p:nvPicPr>
        <p:blipFill>
          <a:blip r:embed="rId2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uzzf\图片\001VrYTvzy6VW5HI2K6e2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:\uzzf\图片\001VrYTvzy6VW5PXsGK82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uzzf\图片\001VrYTvzy6VW5PZe1y40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uzzf\图片\001VrYTvzy6VW5QhJXD3d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uzzf\图片\001VrYTvzy6VW5QidlJ87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uzzf\图片\001VrYTvzy6VW5QlvbO50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uzzf\图片\001VrYTvzy6VW5QmBL5eb&amp;690.jpg"/>
          <p:cNvPicPr/>
          <p:nvPr/>
        </p:nvPicPr>
        <p:blipFill>
          <a:blip r:embed="rId1"/>
          <a:stretch/>
        </p:blipFill>
        <p:spPr>
          <a:xfrm>
            <a:off x="1523880" y="1709640"/>
            <a:ext cx="60962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uzzf\图片\001VrYTvzy6VW5Qa6qTeb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uzzf\图片\001VrYTvzy6VW5QrSrv49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uzzf\图片\001VrYTvzy6VW5QupJw1a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uzzf\图片\001VrYTvzy6VW5Qwb5f11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uzzf\图片\001VrYTvzy6VW5HKLubab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uzzf\图片\001VrYTvzy6VW5Qwb5f11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uzzf\图片\001VrYTvzy6VW5Qk7yw78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:\uzzf\图片\001VrYTvzy6VW5QATWQ9c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uzzf\图片\001VrYTvzy6VW5VWzyN19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uzzf\图片\001VrYTvzy6VW5VYxUw44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uzzf\图片\001VrYTvzy6VW5W1LWDe7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uzzf\图片\001VrYTvzy6VW5W1LWDe7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uzzf\图片\001VrYTvzy6VW5VOZm2aa&amp;690 (1).jpg"/>
          <p:cNvPicPr/>
          <p:nvPr/>
        </p:nvPicPr>
        <p:blipFill>
          <a:blip r:embed="rId2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uzzf\图片\001VrYTvzy6VW5W1LWDe7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uzzf\图片\001VrYTvzy6VW5W6b72b0&amp;690.jpg"/>
          <p:cNvPicPr/>
          <p:nvPr/>
        </p:nvPicPr>
        <p:blipFill>
          <a:blip r:embed="rId2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uzzf\图片\001VrYTvzy6VW5VSGuz4f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uzzf\图片\001VrYTvzy6VW5WaubAf6&amp;690.jpg"/>
          <p:cNvPicPr/>
          <p:nvPr/>
        </p:nvPicPr>
        <p:blipFill>
          <a:blip r:embed="rId1"/>
          <a:stretch/>
        </p:blipFill>
        <p:spPr>
          <a:xfrm>
            <a:off x="1523880" y="1709640"/>
            <a:ext cx="60962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uzzf\图片\001VrYTvzy6VW5HwJRlaf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uzzf\图片\001VrYTvzy6VW5VXfEq1e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uzzf\图片\001VrYTvzy6VW5VZ2cs14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:\uzzf\图片\001VrYTvzy6VW5W11qT7f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uzzf\图片\001VrYTvzy6VW5W39xu28&amp;690.jpg"/>
          <p:cNvPicPr/>
          <p:nvPr/>
        </p:nvPicPr>
        <p:blipFill>
          <a:blip r:embed="rId1"/>
          <a:stretch/>
        </p:blipFill>
        <p:spPr>
          <a:xfrm>
            <a:off x="1523880" y="1638360"/>
            <a:ext cx="6096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uzzf\图片\001VrYTvzy6VW5HOtBw0a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uzzf\图片\001VrYTvzy6VW5HA6pR4b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uzzf\图片\001VrYTvzy6VW5HRQ3I1e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uzzf\图片\001VrYTvzy6VW5HDJvy30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uzzf\图片\001VrYTvzy6VW5HFCMM30&amp;690.jpg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03:18:11Z</dcterms:created>
  <dc:creator>clf2015</dc:creator>
  <dc:description/>
  <dc:language>en-US</dc:language>
  <cp:lastModifiedBy>clf2015</cp:lastModifiedBy>
  <dcterms:modified xsi:type="dcterms:W3CDTF">2015-10-15T03:37:47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