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487-9D97-45B9-B442-BA4A1349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498-3663-4AC4-9963-B7720770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A8E-9DCD-425E-A9C5-10793C00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E92-D06F-4058-89EC-25FCAD19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A27E-029D-4FB2-9FD4-C91B161A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4130-E2A6-4580-AB73-F5790B47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8EFC-F95E-4B43-8F2D-706F2998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9A99-B044-4CB0-BB44-58EEAE0D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616C-7CBB-44B6-BDE1-5DF5C0A0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F2E-0AD6-474A-9FF8-EDF4A5A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EECA-C95C-4F25-843C-3F3493F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617-601B-4969-A1C8-1AF89876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81A4-5CB4-4D71-809A-07927C63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889C-6894-40B0-970D-D8125EB1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3025-B79C-442E-B0F8-452EE525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3975-497B-40E0-BEA0-A251D586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AA6E-E2E8-47D0-BF41-4A4DF3A7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A1A-6B02-43AE-BBD0-844D75FC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7BF-055D-4447-96C5-23997D53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75A-429B-4CBE-874F-C1F6AD5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07D-6F3A-45FC-8794-78F0DA4C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527-4E54-4ABB-B544-C1AC663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026-F0D4-48D2-AB1F-C3A0CB91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7F9-DCE7-4DA2-84AA-6E6C0648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EFE7-4758-4D6D-BBF3-FAA70DE989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F660-83A5-40C1-9D63-0C417FAF18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03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omic Sans MS"/>
              </a:rPr>
              <a:t>登陆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933880" cy="1133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24382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23880" y="3581280"/>
            <a:ext cx="6000840" cy="590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16858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580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设置单位基本信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5715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mic Sans MS"/>
              </a:rPr>
              <a:t>双击发票图标进入，点击“单位信息设置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2481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580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设置单位基本信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4117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905120" y="525780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257800"/>
            <a:ext cx="6477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输入微机管理编码（为企业地税税务登记证副本右上的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位微机管理编码）保存后不可修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密码提示问题：设置成与密码相关的问题，是为了帮助想起密码，密码忘记将不能找回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基本信息设置完毕，点击“保存”，输入密码重新进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580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主界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分为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371600"/>
            <a:ext cx="6705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387080"/>
            <a:ext cx="601992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发票开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发票查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发票作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领用存报表生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查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常用信息设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打印设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数据库备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9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口令设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帮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发票开具前先设置常用信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开票单位信息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领购信息录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当前使用发票设置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图片设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以上常用的只有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124080"/>
            <a:ext cx="7483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点击“发票领购信息录入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输入电子认证密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次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位）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显示电子认证内容”按钮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核对管理编码、发票代码、数量、发票号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核对无误点击“导入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退出”按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点击“当前使用发票设置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单击“已导入的电子认证密码记录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添加到当前等开具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启用”（发票信息就导入完毕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4437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开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开具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通用格式发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“付款人名称”、“经营项目”、“单位”（可不录）、“数量”、“单价”、“金额”自动生成，核对无误，点击“保存”（未打印，点击下一张，此张发票将无法打印，只能作废），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打印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773680"/>
            <a:ext cx="647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Comic Sans MS"/>
              </a:rPr>
              <a:t>注：先查看电脑日期，核对发票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作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通用格式发票作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要作废的发票代码和发票号码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查询”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核对是要作废的发票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作废”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确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作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查询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开具查询（根据日期查询发票开具情况）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区间日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查询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查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0240" y="322596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查询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领用存报表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根据日期查询未打印出来领用存报表）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区间日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查询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购买发票用所需操作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领用存报表生成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领用存报表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查询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保存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打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领用存报表生成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明细上报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生成数据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保存（自己能找到的路径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明细表上传到哈尔滨地方税务局网站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网上办税服务大厅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地税发票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发票数据采集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输入用户名（管理编码前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位），输入密码（用户名后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位）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发票票上报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浏览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上传（显示上传成功）就完成上传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上报查询一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购买发票用所需资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发票领购簿、领用存报表、发票明细表、企业地税营业执照复印件、发票存根联和作废发票要三联（装订成册，标明发票号码起止号断、公司名称，开具发票的起止日期、标明发票份数）（所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纸加盖公章）去哈尔宾地税局（中宣街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号）购买发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1685880" cy="552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553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041480"/>
            <a:ext cx="67816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015920"/>
            <a:ext cx="6782040" cy="4645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1154160"/>
            <a:ext cx="7391520" cy="4503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248160" cy="4908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162920" cy="432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162920" y="5562720"/>
            <a:ext cx="7142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1:38:32Z</dcterms:created>
  <dc:creator/>
  <dc:description/>
  <dc:language>en-US</dc:language>
  <cp:lastModifiedBy>USER</cp:lastModifiedBy>
  <dcterms:modified xsi:type="dcterms:W3CDTF">2014-03-31T01:40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  <property fmtid="{D5CDD505-2E9C-101B-9397-08002B2CF9AE}" pid="3" name="Version">
    <vt:r8>1</vt:r8>
  </property>
</Properties>
</file>