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96F-A5A2-413E-BCEB-31045D24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C80-F5A7-4629-B109-05F41EC7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9C5-83AC-4D2A-A2A6-BA1FA9D5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B19-B765-4E86-984E-3FA6E9DC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96D-EF9E-4F34-9D72-4DD3CE36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CA4-2829-4CD0-8C3C-7FB427F4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636-96AB-4F8E-B8AF-236A8778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405-B7B6-4E4D-BE26-DA53C41A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A30-630D-424C-B1EE-C5C154A7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09B-D3F8-4094-B814-F118CEFF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128-534D-4425-8267-81D05300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FB2-9305-42DA-A207-731DBDB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63F5-322F-43DC-B218-6024EC9988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reamkidland.com/sfhk/2005-12/moon/000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reamkidland.com/sfhk/2005-12/moon/001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eamkidland.com/sfhk/2005-12/moon/002.htm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reamkidland.com/sfhk/2005-12/moon/003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reamkidland.com/sfhk/2005-12/moon/004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41480" y="0"/>
            <a:ext cx="602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2760" y="0"/>
            <a:ext cx="53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6440" y="685800"/>
            <a:ext cx="4932360" cy="561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21120" y="696960"/>
            <a:ext cx="4932360" cy="561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24280" y="335268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亮哭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680" y="609480"/>
            <a:ext cx="4943520" cy="562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09960" y="609480"/>
            <a:ext cx="4943520" cy="562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10680" y="4876920"/>
            <a:ext cx="223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她哭得那样响，让过路的云也停止了飘荡，问道：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哦，月亮，你在哭什么呀？”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我在大海里看不到自己的脸了。”月亮抽泣着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啊，就为这个呀，”云说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你只是太苍白了。你怎么不试着变成金黄色呢。那时你就会在海里看见自己的脸了。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680" y="620640"/>
            <a:ext cx="4943520" cy="5627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781520" y="620640"/>
            <a:ext cx="4943520" cy="5627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7000" y="4724280"/>
            <a:ext cx="67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于是，月亮就改变了颜色，从银白变成金黄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然后，她飘过天空，朝下看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可她还是没有在海中看到自己的脸。月亮又哭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2000" y="609480"/>
            <a:ext cx="4943520" cy="5627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09960" y="609480"/>
            <a:ext cx="4943520" cy="562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0920" y="4800600"/>
            <a:ext cx="232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她哭得那样响，让过路的雨也不再往下落了，问道：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哦，月亮，你在哭什么呀？”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我在大海里看不到自己的脸了。”月亮抽泣着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啊，就为这个呀。”雨说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“你只是太小啦。你怎么不试着变得大一点、圆一点呢。那时你就会在海里看见自己的脸了。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875480" cy="5551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4875120" cy="5551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27120" y="4910040"/>
            <a:ext cx="67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于是，月亮等了许多天，直到她变得又大又圆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然后，她飘过天空，朝下看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可她还是没有在海中看到自己的脸。月亮又哭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4080" y="685800"/>
            <a:ext cx="4875120" cy="5551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78360" y="685800"/>
            <a:ext cx="48751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875120" cy="555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4875120" cy="5551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16160" y="5105520"/>
            <a:ext cx="67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于是，月亮换上她最皎洁的衣裳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然后，她飘过天空，朝下看。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可她还是没有在海中看到自己的脸。月亮又哭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2006-12-31T08:58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