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media/image8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D362-9928-49BE-B1B7-EEA88CDE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58CC-6A26-4419-A4F6-E19A4318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DED9-F9C0-4240-A06C-1B8FC841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3189-8848-4B1C-BDF5-FC507F22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313B-7553-4F8C-9778-69E6D188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AA0A-04D4-4DFB-BACF-E89D3352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F992-9A6C-4A8D-B620-2A07965C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CCAA-B30E-4970-BC7A-E75903F9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BE88-4FD6-4160-83FE-99AD8402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1394-8980-461B-A6E0-68382DBC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DF44-5CC7-4033-9370-839CA280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7E00-0310-4CD0-B578-0C85930B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CC95-B88F-4F72-BAE2-8A7E6DD5B1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765000"/>
            <a:ext cx="698328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 </a:t>
            </a: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欢迎光临指导！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71640" y="907920"/>
            <a:ext cx="6337080" cy="33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我诚信，我交作业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中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79640" y="1700280"/>
            <a:ext cx="583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欣赏小品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《欠交作业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447920" y="6130800"/>
            <a:ext cx="6019560" cy="720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249408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他不仅骗了妈妈，而且还欺骗了老师，这是一种不诚实的行为。现在老师特别想知道你们平时没交作业的原因是什么呢？记住要做一个诚实的孩子，</a:t>
            </a:r>
            <a:r>
              <a:rPr b="0" lang="zh-CN" sz="8000" spc="-1" strike="noStrike">
                <a:solidFill>
                  <a:srgbClr val="ff3300"/>
                </a:solidFill>
                <a:latin typeface="Arial"/>
              </a:rPr>
              <a:t>实话实说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80" y="620640"/>
            <a:ext cx="89647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在四人小组讨论交流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把你收集到同学们不交作业的原因或者自己不交作业的原因说一说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9280" y="-100440"/>
            <a:ext cx="8507520" cy="59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平时贪玩、看电视等错过了做作业的时间，累了，就不想做作业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故意不写作业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9280" y="-27000"/>
            <a:ext cx="85075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完了作业，忘记带了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忘记把作业本带回家，没办法写作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知道做什么作业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3167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些作业不会做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写完了作业，但不懂在哪里丢了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115920"/>
            <a:ext cx="756144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0000ff"/>
                </a:solidFill>
                <a:latin typeface="Arial"/>
                <a:ea typeface="楷体_GB2312"/>
              </a:rPr>
              <a:t>情境一：</a:t>
            </a:r>
            <a:r>
              <a:rPr b="0" lang="zh-CN" sz="7000" spc="-1" strike="noStrike">
                <a:solidFill>
                  <a:srgbClr val="000000"/>
                </a:solidFill>
                <a:latin typeface="Arial"/>
                <a:ea typeface="楷体_GB2312"/>
              </a:rPr>
              <a:t>今天小明没有交作业，他告诉老师他写完了但忘记带来，老师没有批评他。第二天小明又说自己忘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95280" y="260280"/>
            <a:ext cx="8569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000000"/>
                </a:solidFill>
                <a:latin typeface="Arial"/>
              </a:rPr>
              <a:t>带作业了。第三天小明又没有交作业，他还是说自己写完了忘记带了。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119700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同学们你认为小明这是一种什么样的行为？老师还可以相信他吗？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79280" y="476280"/>
            <a:ext cx="4114800" cy="19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欣赏：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        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       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8000" y="1773360"/>
            <a:ext cx="583272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好孩子要诚实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9280" y="476280"/>
            <a:ext cx="4114800" cy="19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欣赏：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        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       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63640" y="2133720"/>
            <a:ext cx="540072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《狼来了》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68360" y="549360"/>
            <a:ext cx="5184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这个故事说明了一个什么道理？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4000" y="0"/>
            <a:ext cx="842472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不诚实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结果：没有人再相信他们说的话。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我们应该做个诚实的孩子。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0" y="1700280"/>
            <a:ext cx="8229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请欣赏</a:t>
            </a:r>
            <a:endParaRPr b="0" lang="en-US" sz="5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《手捧空花瓶的孩子》的故事</a:t>
            </a:r>
            <a:endParaRPr b="0" lang="en-US" sz="5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4000" y="1916280"/>
            <a:ext cx="75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听了这个故事，你想说些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4360" y="1916280"/>
            <a:ext cx="80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诚实的孩会得到别人的信任和爱戴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59280" y="404640"/>
            <a:ext cx="388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诚实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2592720"/>
            <a:ext cx="86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情境二：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丽今天早上没有交作业，老师找到她，她告诉老师，下午一定交。可是下午老师再找到她时，她的作业还是没有做完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68280" y="114480"/>
            <a:ext cx="36478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ff3300"/>
                </a:solidFill>
                <a:latin typeface="Arial"/>
                <a:ea typeface="楷体_GB2312"/>
              </a:rPr>
              <a:t>有关守信的成语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576440"/>
            <a:ext cx="853272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言而有信  金口玉言  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言九鼎 一诺千金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君子一言，驷马难追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《宋庆龄的承诺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宋庆龄信守诺言。宋庆龄要去看望幼儿园的孩子，幼儿园的小朋友听了都很高兴，都等着宋奶奶到来。突然，原来晴朗的天空突然刮起了大风，霎时间，飞沙走石，路上的行人都睁不开眼，大家议论，宋奶奶可能不会来。正在这个时候，宋奶奶不顾漫天风沙，满脸笑容地走下汽车，来到孩子们中间，一位老师感动地说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天气不好，您就改天再来吧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宋奶奶说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，我不能失信，应当遵守诺言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198900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每天能够按时完成作业的有谁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没有完成作业，承认错识的有谁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404640"/>
            <a:ext cx="388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小调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2920" y="71280"/>
            <a:ext cx="88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小花猫喵喵叫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喵喵叫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是谁把花瓶打碎了？爸爸没看见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妈妈不知道。小花猫对我叫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喵喵喵。小花猫你别叫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你别叫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是我把花瓶打碎了。好孩子要诚实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有错要改掉，小花猫对我笑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喵喵喵（妙妙妙）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451640" y="595008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66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333360"/>
            <a:ext cx="849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听了这些故事，同学们我们应该明白一个道理，不交作业，骗老师说：作业写完了忘记在家里了。这是一种不诚实的行为。可是有些同学确实有这些毛病，我们应该怎样去帮助他呢？现在就让我们来做一名冶病的医生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55160"/>
            <a:ext cx="9144000" cy="59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时贪玩：玩电脑游戏、和小朋友们玩等等。没有完成作业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电视错过了做作业的时间，等想写的时候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间很晚了，累了，就不想做作业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知道做什么作业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，我不会做，所以没交作业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完了作业，忘记带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忘记把作业本带回家，没办法写作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完了作业，但不懂在哪里丢了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59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时贪玩：玩电脑游戏、和小朋友们玩等等。没有完成作业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[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点评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贪玩耽误了写作业的时间，这是一种小懒虫的行为。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做一个勤奋好学的孩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电视错过了做作业的时间，等想写的时候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间很晚了，累了，就不想做作业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[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点评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没有合理的安排自己的时间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合理安排自己的作息时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95280" y="-27000"/>
          <a:ext cx="5689440" cy="6029280"/>
        </p:xfrm>
        <a:graphic>
          <a:graphicData uri="http://schemas.openxmlformats.org/drawingml/2006/table">
            <a:tbl>
              <a:tblPr/>
              <a:tblGrid>
                <a:gridCol w="1527120"/>
                <a:gridCol w="890640"/>
                <a:gridCol w="3271680"/>
              </a:tblGrid>
              <a:tr h="3373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我的作息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 间：</a:t>
                      </a:r>
                      <a:r>
                        <a:rPr b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</a:rPr>
                        <a:t>  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 </a:t>
                      </a:r>
                      <a:r>
                        <a:rPr b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午到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午在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吃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休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其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下午到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晚上在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吃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其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五晚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95280" y="-27000"/>
          <a:ext cx="6121440" cy="6267600"/>
        </p:xfrm>
        <a:graphic>
          <a:graphicData uri="http://schemas.openxmlformats.org/drawingml/2006/table">
            <a:tbl>
              <a:tblPr/>
              <a:tblGrid>
                <a:gridCol w="1643040"/>
                <a:gridCol w="959040"/>
                <a:gridCol w="3519360"/>
              </a:tblGrid>
              <a:tr h="4291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丁的作息时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 间：</a:t>
                      </a:r>
                      <a:r>
                        <a:rPr b="1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</a:rPr>
                        <a:t> </a:t>
                      </a:r>
                      <a:r>
                        <a:rPr b="1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</a:rPr>
                        <a:t>3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 </a:t>
                      </a:r>
                      <a:r>
                        <a:rPr b="1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</a:rPr>
                        <a:t>  </a:t>
                      </a:r>
                      <a:r>
                        <a:rPr b="1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</a:rPr>
                        <a:t>15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午到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:0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午在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吃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:00——12:3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休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——1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——1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其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下午到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:3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晚上在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吃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0——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0——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——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其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五晚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写作业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上午写作业，下午自由安排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上午写作业，下午自由安排　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知道做什么作业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［点评：自欺欺人。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自己的事要谨记在心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424720" cy="59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，我不会做，所以没交作业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［点评：诚实的孩子，遇到问题为什么不想办法解决呢？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会做的，可以请教家长，老师。或借助工具书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完了作业，忘记带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忘记把作业本带回家，没办法写作业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完了作业，但不懂在哪里丢了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［点评：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坏习惯会让自己自食恶果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.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整理好自己的学习用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同学们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,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听完了这首歌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,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你觉得我们应该做一个怎样的孩子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565360"/>
            <a:ext cx="87138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做人要诚实，犯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就要敢于承认的道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19280" y="1916280"/>
            <a:ext cx="8424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学生我们的主要任务是什么呢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476280"/>
            <a:ext cx="439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确目的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学生我们的主要任务是学习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学习的任务是必须。也就是说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布置的作业你一定要完成。按时完成作业是一种诚实守信的行为。如果没有完成，你就是一个不诚实的孩子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-181440" y="0"/>
            <a:ext cx="9325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小结：只要合理地安排自己的作息时间，不偷懒，不贪玩，作业是可以按时完成，我们应该成为一个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诚实守信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的好孩子，时时刻刻以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诚实守信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来约束自己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5280" y="0"/>
            <a:ext cx="8317080" cy="68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我宣誓：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言必行，行必果。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以诚信换取诚信，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以诚信收获成功。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用诚信开启知识之窗，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用诚信鼓起上进之帆。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我诚信，我光荣；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我诚信，我自尊；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按时完成作业，我必行。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55640" y="549360"/>
            <a:ext cx="727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课后，让我们一起收集有关诚信的故事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00" name=""/>
          <p:cNvSpPr/>
          <p:nvPr/>
        </p:nvSpPr>
        <p:spPr>
          <a:xfrm>
            <a:off x="1361520" y="2492280"/>
            <a:ext cx="578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Arial"/>
                <a:ea typeface="楷体_GB2312"/>
              </a:rPr>
              <a:t>小提示：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代的、现代的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知道的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39640" y="765000"/>
            <a:ext cx="73454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47640" y="191628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什么是诚信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447920" y="6130800"/>
            <a:ext cx="6019560" cy="720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16000" y="981000"/>
            <a:ext cx="54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692280"/>
            <a:ext cx="77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对于诚信相信每个人都有自己的理解。那么，同学们又是怎么理解的呢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29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诚信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12536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诚实：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简单地说就是不说慌，不作假，不做不可告人的事和欺瞒别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守信：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就是讲信用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答应了别人的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一定要尽能力去做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10232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诚信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是答应别人做的事要按时做到，做不到时要表示歉意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单地说：“言出必行，一诺千金”。</a:t>
            </a:r>
            <a:r>
              <a:rPr b="0" lang="zh-CN" sz="60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05:07:56Z</dcterms:created>
  <dc:creator>微软用户</dc:creator>
  <dc:description/>
  <dc:language>en-US</dc:language>
  <cp:lastModifiedBy>雨林木风</cp:lastModifiedBy>
  <dcterms:modified xsi:type="dcterms:W3CDTF">2000-08-01T11:29:55Z</dcterms:modified>
  <cp:revision>139</cp:revision>
  <dc:subject/>
  <dc:title>幻灯片 1</dc:title>
</cp:coreProperties>
</file>