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FEA1-1F82-4BB9-A630-79F1D93DE88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72A1-84BA-4C80-BF17-F4C2ECF0FD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E7F8E-91AE-4C18-A7EE-832DBE4A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41C93-30BB-4DDA-A06E-674C5107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8B4C9-8767-4A1E-ABCC-1C208C78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E3BC7-59A8-4941-819C-180D1CB2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7FD55-0DBB-4AA8-ACDF-9E07931F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0ADFD-4797-4C16-9887-8854602A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8D9F1-B898-411D-972A-05FD9AAD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47F7E-DE40-493E-9B13-417BDB4D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21601-F4A1-437D-9CAF-5DA0A599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3E392-A1FF-4D46-8A06-8CDC9F33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6DBF7-FE31-457E-9DC5-5C402C36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38F9A-A2BA-4D1E-814D-5D06307D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132DC-4289-4D04-97D4-E8292111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8D905-B020-4E14-BA72-34D58350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5047C-98B0-41FC-BE45-A2BEC1BE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99D51-FD94-437A-AA17-87A47F55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61918-F92C-4705-8DDF-0BD6B14D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89D9B-40C2-4835-9FAB-23CD75A6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55113-A6B9-427A-A306-EC2AA368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CE353-E0E0-4A01-B173-A6791A75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3455F-07EB-40D9-A43A-FDEA9F6C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4F997-F1CB-40B5-B7FE-BA548A95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EF599-D1E2-4C6F-B8DE-B51305C5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837F1-169D-4A97-8D33-665D6B8F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E3930-94F1-4B2E-8E14-2829CA41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724E3-3F62-46EC-BFB1-2D5D32E0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66AA3-E54F-4CC3-A319-F8883477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9FC04-E263-4522-BEE8-631CE618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C6AC0-6EAD-458B-8B6A-D07E321B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9793A-CED0-411C-B688-44F40A05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34C-25B3-4A4F-BF33-1A332C24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8F96C-C679-4C78-B8CD-8B563CAE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21B6C-30FA-4572-94F8-DC640C13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95AC7-6F0A-4900-97CE-B9019A85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C75A1-5176-42DF-98F4-331C8078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B7DBC-72CF-4246-9735-3F9CFA41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03D05-1DB6-4374-AE9B-48F1B409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4CB6C-727C-4BF8-9363-B65C0522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26573-C8C3-4A38-8612-1374D465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2409D-D228-459A-806C-A556ADBA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C9148-231F-400F-BD24-DAC2C2A8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C1A-5F11-49B5-9CF9-086DCF0D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A23B5-48EA-4FA5-B805-4DA53D93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7234F-BAE3-49A6-84A8-85666B36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E7824-D677-4609-9BB4-963055F5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32B8D-1D16-4920-A754-8920D3BB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906CA-1557-44F4-A28C-4FE803D7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7762A-FEDB-44BC-9B14-7A898CCD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48398-8D33-4831-ABD3-595DD64D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EBF24-9509-4DD0-9E02-DAFAE40A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BAB96-DDD6-476B-9893-1B86F408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6AD93-3E5E-4099-B259-2FAD65FD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042-BAB1-426D-B5DD-51EEECA0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C6983-A40F-4D1C-89A5-083FE7D6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E3515-4A69-42A9-B20B-832B2D67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9152B-9079-4630-9D97-46FD6F6C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F5AA5-79EF-43B5-900B-9EC568B2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16F22-876D-42C7-AC3F-66609819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4634B-5822-47C6-9639-61E01F58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64A50-2249-4109-BC5C-73306C60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6801A-5466-4000-BE6D-F88C8396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2DB49-4E71-4698-95AF-33532D29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50594-A8D7-410A-881B-098E401C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246-B68D-4932-9792-2DCFC2C0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C7AC8-5EE4-42BB-946C-0779537E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81811-F194-4F03-BE06-4A36167D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ADBEC-724B-433C-B665-2F02203E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E66AD-22D5-4843-81ED-9D29FA62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6734F-42D7-4CCC-B4A3-1446D32E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2D26D-3FDE-4E5C-B671-F72A5F78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4387D-A94F-4D8F-8983-5AE67ADB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6ADA9C-BAC9-4A37-B70B-E40E3285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0466F3-531F-4551-83BC-2CB392A3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464A6-2BAD-43F7-A78B-D0929986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AEE-5FF9-40A0-96ED-9D383986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58DFA3-5C69-4AAF-9CF5-93032756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B2981-A208-46D3-9B68-7B06D21D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8A5DC-619A-454F-B209-0F7E77D2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5CB33-CD8B-4C1B-A450-78B39ADB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9CF4F3-5883-43F5-9748-AF6D2F3D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80CB0-AC36-435C-9670-14F4D976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CCF0E-0F84-4EA2-BE63-023D38E7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B4C84-A019-4D44-9902-8B0456FB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45889-867B-4199-A3C6-CA8EB270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6BA9F5-841A-4DE4-84A8-ED456A53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707-B6B8-49E1-99AF-8E75F6FB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28B12F-324A-424E-B3B4-9CFDBE66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7213FB-57C5-4E0A-BD0C-E8471809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49000-5388-4C51-96D8-A83BFA08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6F480-94ED-4AE6-BFDD-B264CDB4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9A5A5-47C9-4785-8280-AF26D3C5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F75CD-4647-4EFC-8293-305CBAB9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EDF97-C650-49CE-9706-87AEF265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90E520-9ACB-454C-8015-00EB11EE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AADBF-B19F-4D23-967A-C595D83C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22BA67-AF8A-48FB-8A9E-69466AE1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38C-73B1-4530-BAC8-DBB1545E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C2C2E4-8229-4DD6-9ED9-6B586EFC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92C74E-0CD2-48FC-BD9A-4151DD1E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AD7104-C45A-4AE7-A852-F8070C78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6BC27D-BF7F-4FAB-BD59-AD728CD0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CD0F3C-6445-49F7-AEA3-0F717F77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8BC266-B75D-4AA1-99B2-2E4701B0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502E75-6062-44DC-A785-45A7F6FF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9202A7-376C-4FB9-8326-E613A8BB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63CA7B-5EA8-4EE7-9554-9E19F5CC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F6A4A6-C3DF-4847-A274-7BEC8375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821-A17F-47C3-9788-92232B0F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3FCD57-D8A1-4EF9-8C2F-D90E789E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5B06AA-747E-4220-A497-24ECB1D3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E19C7D-2F9E-446F-9CDB-43E1FB7C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81BC01-040C-4C4D-8F4E-8BFC49A8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89EB4F-49DA-4CB9-AF97-8E4A2CA3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8DDFFE-1905-40DB-A6E6-81455CBA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9EB853-08DE-4AFC-B920-0202FAAD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5D2C4-343C-4CCB-9E86-DA8E60B8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DE1C7A-4B9F-4694-A62C-953C65F1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A26717-CFCC-4929-BB45-7FFBD2FD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2BC-5DF9-47D8-BF33-E5173B9B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B7FA5D-518A-4D8C-8F26-F98F69E8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1DCC0B-B097-4CFE-9937-D621F7E2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FCCA42-CCDC-44CF-BD05-99C82F5C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5F531-4258-4FCF-93C6-787627CB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0D4113-C914-457F-9CCA-400B20C4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42F34-F4C8-4BA7-A902-18E784C3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9D3B9E-1C06-44A9-8B3E-52BD67A0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074944-43DA-4086-8B59-25AD914C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B97843-CD9D-4276-8D12-D7BCC519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6462E-4781-49A7-90FB-21E82942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F18-2E13-48E0-A12F-36D203B4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236636-65E4-4690-86B8-79D3DD9D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75EF9-1825-4998-A3D0-2E750BC6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EED3F-7939-4C8E-9A3E-5839E9DD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61C033-107B-4EE8-8A5D-84C25825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18D337-7EEC-4068-B90D-C432DE45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79E50-91AB-4F2E-B3F2-76818259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0B9878-367F-402C-86DB-EE88B874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EE0753-A767-4F65-A943-CC654BEF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0BDAA3-151E-4998-9480-E176D105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462F1A-9857-46EA-85DA-CCBAAE0C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8F1-6B66-42BE-854A-6A018EF0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C65C3D-C4C6-4FAF-ABCE-8CE441B0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C32436-5FCF-48D8-B7F2-9A9A2C51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68ABFA-D34B-4258-8C95-2F93AD4A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52CDD2-9DB4-4BE2-A94F-796D019B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5B285-B6D8-425B-94F8-43F1A944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3F27E9-F8A6-47C2-AA30-E2403EF7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8979E2-B1E2-4D62-AB7F-2EBCDD6B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11EFD3-72D6-4990-BC87-24085BA9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4D1F05-5A95-4B58-9159-5D64F2CD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59AB9A-8341-44BB-8395-35F81508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699-55C9-4A17-8448-E5633C99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D4FEC1-25D1-45DD-9564-35F4FA0E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24EE0F-1F5D-41E3-AD0C-B10A5A17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CC3795-0498-4DAA-B239-CA0AD529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8610D2-2C92-4C2C-B48A-CC83F48F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FC7863-66D2-4151-8E49-A5AF64C1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0DD15-5D67-4BF9-89AD-882444D9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E2A6E3-DD2B-41E8-AA9B-DBFB933F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50B7A0-AD6C-4B62-952A-5BC182EC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C974CC-FBBC-47F5-B529-55B88E98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BD4AF8-B354-4940-A03F-3C89FE5B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AF52-1B27-4161-B68A-E3D2BD40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0F31D1-014B-4E68-BCAB-45C07956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502519-052B-43F2-9635-6C4B00C3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0CEEAF-D0DE-4D05-B124-E89FEFD8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D0B24B-3A2C-482A-92A4-15A49068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C5BA44-2B4A-4A4A-B6E6-12D63288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9497CF-5EED-4556-87E9-BBC325B4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104950-9366-4D06-9A96-E4CE2F82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D86487-AAE1-4AD0-BFA4-802F5858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1A9863-9496-41E6-99C1-8BB1BD0C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0F45FE-3976-4829-955F-A6C972F4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9B15-5C03-4A4D-893A-88551902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14E6EB-EA67-4079-9C7E-4EB42BEF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A61205-D025-4944-B4D5-927215A2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41893C-3A0A-4FB3-B389-3B29F52B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A2DCBF-8BF6-4394-BA7B-54BE3B92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2A9FF3-B345-4366-94A2-BF71C704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01F679-D7D7-427E-8868-7784164C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3C2483-32BC-4150-ABFB-03753621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F97089-92DF-4D4E-9EBE-A5F8AF59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3B8981-0E14-45D1-B2CE-534FA8FA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ADD653-2F9D-4771-B210-D2515B7D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568D-7730-4179-9124-7A0D913A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D8AF9D-DA81-413B-9AAD-BA46016F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1C5244-4B70-4F77-B7AF-AF38D3F0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A5BCD6-CE92-49B0-9D3B-63D36991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BF7B93-AE23-447E-BB88-ECBCC026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0B9655-6B79-4DA2-880B-A186D7F4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D13EFE-A59A-49AD-9B1A-C12D493E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8B74EB-2C07-4A6A-996E-61F8D573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F56E18-1C45-4E68-8E7C-EB6DFEB0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7E5744-8EB7-4250-A014-73B041BA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35EEC8-4DE5-4995-AE2E-BD19F5AB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D65F-7B6C-469F-84CD-36489320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CAEFD2-271C-4219-908B-94715130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C69E0B-1439-42BF-82C4-DA3678FB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7C4963-F302-4A1A-B51A-DCAD6C2F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739CF9-9264-40D4-8234-2CF74796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B65F39-1C19-49F2-BD18-5D28446E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15623D-27E2-468D-B080-7BC04B18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A755C6-0E63-45CE-9848-80D86AEA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061614-F01A-4803-927E-9C426202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87EE08-C271-4C74-BEEE-69C3543A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A35310-7A1C-4DFE-A827-527F0FB0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BF2E-9D11-46C6-9D32-51B1AD3A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9AE1F8-E175-4697-893E-5ACCC6DB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B738DC-7D23-40D9-B7C7-1C134367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2AD2E7-C4A3-46E9-9C52-A90F7661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0CA59C-51D4-406E-A8DC-F8FAEEB8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27118F-BE03-47B2-8D2E-73B19A34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AEB0C4-9AC6-427C-89F4-7B6AA57D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437349-65A1-45D6-9F85-E11BF447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771DC9-4651-4940-A90E-89F0D4CA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4D4C23-9B17-41C8-B787-3C7A9330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5E973F-24BA-4EEB-9088-ABD8FF75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DA98-2D99-48E3-99CC-CBD20598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C9D5B4-6390-4777-B423-5C6EC9EC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46F7-CA86-4673-AC32-1105811F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32E2-6854-4AAD-9F32-ED0F41ED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6DBF-B5D8-4A67-BA8B-F1CC9BC5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320F-49E3-4845-9756-DCC8BA0A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0ED6-413E-4254-84D2-EE7B7AF5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9D5E-3C1F-43C3-A16A-F9601C50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1B5A1-0DB3-45AD-AE61-4CEE913E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B213B-CBC9-4037-B023-AAAB8DD8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D11CB-9A0C-4D8F-BEC0-DD0E4D18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B59B-2C15-440D-9952-B2A11EC8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8F439-3B6E-4F6D-A41A-2A86BA67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68E5-ED16-4C9A-9A95-71F1E618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F427-31EC-4D32-AABF-39207E1F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569BA-B32F-4ACD-B4AB-A33D44FC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F21F7-09BA-4621-A356-86D153F3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52D6-DA6F-4F6F-A19F-A19E1735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1A0C-85C0-4A53-8C8B-C479AB4F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26D82-B136-40C1-9921-2C41DA5F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467F4-FB05-47AF-88AD-2A93449A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AA025-6D4C-4B16-8111-C9666CE2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AFAD8-D57E-4B57-BABB-FC80E543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B7C24-0E98-4A01-B428-B23F0C9A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09693-90F5-4E1A-8D4F-E0B11E8A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3BDDC-79D0-42E0-B38F-6E803216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799ED-3778-40AE-A85C-6C4538EC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526F-C5A9-4D94-A8E1-17E586B1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9906D-678F-45E8-B256-49F6B88F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CA8D9-6C67-4DC2-932E-233118A3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67DFF-8378-4F84-9EE1-176519FB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A8868-B9A1-4860-AA41-C8E4178E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96318-9EBC-4049-B60E-49EC6D56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2D99A-4019-4E42-91AA-5EC095A6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2C849-DC24-447C-97CD-C2DFE1A1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507FE-6EED-4D74-B1A7-FD92C305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CE82F-B893-40BC-9678-2214521F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DD32A-CC7A-42E5-B838-D7D1919D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C8235-ABA6-4AD4-B398-052D581A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A4046-0389-460F-B75E-1941EB55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4AEEA-A714-4F0E-8A06-8975B5F4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70F91-6324-457C-8F6B-E87C6C15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B08ED-C1D3-4DF5-AF4E-C7570AF3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FCD7A-3786-4463-9F41-2A793A6D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EEA7E-BC3D-4A82-943E-48D0A86D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5A484-6904-49B5-B735-2C3A2D8E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3320E-2CAC-4510-A9FC-0D93248F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67DDD-AB12-4BD0-8245-00322F60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03258-6285-41DC-B081-59052B3A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40E41-4640-4D01-9D41-4406F52C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D17E1-9FC9-47BB-9779-B923FB49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420BB-D0FE-4A0A-98E6-84E031A2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FE41C-83FC-435C-9EF6-88D1A273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A6F9C-BE7C-46D8-A58E-6F4E0F8B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FDDF3-9125-441E-AD91-AA543D29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E2D8B-0F00-4B75-9270-FA62C14F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3DAC8-4702-43B3-8E0A-12E8A5CD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E7869-D416-4FEA-90B7-A33B0589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64045-3A25-475A-AAE5-9417EF0E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709A9-B217-41ED-A06E-68CA7C30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AF393-24E0-4C66-9FEA-9285943A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45F61-E8C4-4862-940B-07B323BE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E2B8B-C252-4F16-94F9-786C52A2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B4474-9414-49DA-9F5D-2B605A3E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91D3C-F1EE-48D7-B350-30D2CCCB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C61D0-9BCC-46CF-881C-70E1FF09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FF36C-A78E-4B10-B3D8-F5845B35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09425-0D16-4774-9E3F-8E455CD2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07469-63A6-4B7B-87DD-9ED8C088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182BC-5734-4CF8-BEEE-37714C45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88BD7-E7F1-49B2-9CA8-EAEF4AA6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C3C8-D8A2-4A79-B680-AFDA17D10A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9E9F-F9DD-453B-8757-405688C3E6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1675-6948-41CF-B94D-AB0C44A814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B8A9-05FD-43A6-B0CF-A6EB1664EA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DDEB-6B16-4CD3-B0C4-FEA4B27E0C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7680-2D61-42C8-B727-DDD23EFC2B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5D84-4B64-4115-A6F8-0495B5FEF0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76E6-AEEB-4179-B330-247AE514F2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BC22-1A11-43E9-A09D-36575908CB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3440-AC41-4DAA-A569-9D9C985570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5996-84BD-49E1-BB87-28166A03E2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CAF2-7F3D-4534-AEEA-9D1BD9F2BE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39CA-4DE3-4A42-AE40-A7E0A29C95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8605-E92D-4D2B-B6E7-8028849230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08E1-952F-4319-8165-A2B2006BAA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8747-A9C2-4A1B-9064-5BB965FF07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AD04-A476-4A71-8FC4-306247A62D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655B-2A11-41EB-92C7-49A2ACC964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A6D8-1EF0-4020-913F-52970B15A9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A717-7581-4EF7-9C56-7B6A21B105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0933-D361-4B4B-AE79-1F271E85CF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361B-DB70-405A-9212-D9FD7483E5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FC95-9F21-47C5-BA55-98AE8EA398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BDA2-793F-4996-AD64-6193B94BB7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3" descr="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矩形 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Picture 3" descr=""/>
          <p:cNvPicPr/>
          <p:nvPr/>
        </p:nvPicPr>
        <p:blipFill>
          <a:blip r:embed="rId16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3" descr="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beijing/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tubiao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xiazai/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powerpoint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word/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excel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图片 9" descr=""/>
          <p:cNvPicPr/>
          <p:nvPr/>
        </p:nvPicPr>
        <p:blipFill>
          <a:blip r:embed="rId5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1027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Picture 10" descr="png-0644"/>
          <p:cNvPicPr/>
          <p:nvPr/>
        </p:nvPicPr>
        <p:blipFill>
          <a:blip r:embed="rId6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1" descr="png-0652"/>
          <p:cNvPicPr/>
          <p:nvPr/>
        </p:nvPicPr>
        <p:blipFill>
          <a:blip r:embed="rId7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f2015</cp:lastModifiedBy>
  <dcterms:modified xsi:type="dcterms:W3CDTF">2015-09-14T08:47:0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