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8F10-7D1C-4C9F-A9A8-19842FAE6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9E70-BDAA-42F2-8D7F-D4428BA6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32B2-8218-44A4-90C9-2DF3D1E1F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FD41-E3E2-4277-9EB0-1AA59BB9E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3DBF-01F9-4B94-A4F4-43D6B126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6F55-5AE3-49A6-BC05-6088145E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378C-40D1-4775-A2E1-1474858B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585C-E9EC-421F-96EA-8BDF75AD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2890-2872-4D87-9E99-30B3715A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27CD-7CFF-440C-9A46-CD614120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01D3-4051-4E08-AFAD-824FA061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EB1F-05D4-47C9-8EAB-065A8AF8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C607-5EF4-4297-8915-3438F35DDB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5724360" y="3414600"/>
            <a:ext cx="42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1071720" y="2565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3016440" y="2805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5321520" y="22766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7375680" y="2781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1403280" y="1700280"/>
            <a:ext cx="34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2562120" y="3187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1769760" y="46274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877000" y="2755800"/>
            <a:ext cx="12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6855480" y="422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5816520" y="5734080"/>
            <a:ext cx="9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5364000" y="1413000"/>
            <a:ext cx="345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6588000" y="4076640"/>
            <a:ext cx="22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08000" y="3502080"/>
            <a:ext cx="23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739800" y="578016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6372360" y="595008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1:53:25Z</dcterms:created>
  <dc:creator>ppt宝藏</dc:creator>
  <dc:description/>
  <cp:keywords/>
  <dc:language>en-US</dc:language>
  <cp:lastModifiedBy>clf2015</cp:lastModifiedBy>
  <cp:lastPrinted>1899-12-30T00:00:00Z</cp:lastPrinted>
  <dcterms:modified xsi:type="dcterms:W3CDTF">2015-09-08T07:20:48Z</dcterms:modified>
  <cp:revision>3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