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9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7.wmf" ContentType="image/x-wmf"/>
  <Override PartName="/ppt/media/image20.jpeg" ContentType="image/jpeg"/>
  <Override PartName="/ppt/media/image6.jpeg" ContentType="image/jpeg"/>
  <Override PartName="/ppt/media/image27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jpeg" ContentType="image/jpeg"/>
  <Override PartName="/ppt/media/image28.jpeg" ContentType="image/jpeg"/>
  <Override PartName="/ppt/media/image26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.gif" ContentType="image/gif"/>
  <Override PartName="/ppt/media/image18.jpeg" ContentType="image/jpeg"/>
  <Override PartName="/ppt/media/image15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7EC6A-09D2-4636-96A1-4F07E6787E9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学习第三自然段时出示。点击红字、白字都有链接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8E4A-60A0-4A1D-A6B1-636569BA8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B02C-7A83-4436-9EDE-BF9311009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7F80-8E4B-4402-A050-2ED588BEE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2033-0314-4927-8D43-4A6F55512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9948-F211-4DE4-AE51-CC8356A9D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BF05-CAF1-408F-A764-E94BD49BD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2E92-2B05-432A-9ECE-3E929C7A2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346B-F20D-49C3-BD3D-90D3FDF03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040A-0547-4E38-936B-EEAC5DC4C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2C7A-FF9D-43EB-9845-DCD37E462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7180-0A8C-436E-A778-529069DBE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D9FA-945A-4D57-9748-DD09DF871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C5411-0371-45E6-A086-84CBADF6F5F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166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1042920" y="1557360"/>
            <a:ext cx="705816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781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楷体_GB2312"/>
              </a:rPr>
              <a:t>29   </a:t>
            </a:r>
            <a:r>
              <a:rPr b="1" lang="zh-CN" sz="66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楷体_GB2312"/>
              </a:rPr>
              <a:t>呼风唤雨的世纪</a:t>
            </a:r>
            <a:endParaRPr b="1" lang="en-US" sz="6600" spc="1" strike="noStrike">
              <a:ln w="9360">
                <a:solidFill>
                  <a:srgbClr val="00008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162864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小刚，你今年多大了？（      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海上日出难道不是伟大的奇观吗？（         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是谁来呼风唤雨呢？当然是人类。（          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2195640" y="4723920"/>
            <a:ext cx="201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A.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设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6836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A.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设问  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B.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疑问   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C.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反问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24000" y="260280"/>
            <a:ext cx="8459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世纪以前的上百万年的时间里，人类社会又是什么样的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8360" y="3207240"/>
            <a:ext cx="8136000" cy="131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类在上百万年的历史中，一直生活在一个依赖自然的农耕社会。那时没有电灯，没有电视，没有收音机，也没有汽车。人们只能在神话中用“千里眼”“顺风耳”和腾云驾雾的神仙，来寄托自己的美好愿望。</a:t>
            </a:r>
            <a:r>
              <a:rPr b="1" lang="zh-CN" sz="4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564000" y="2565360"/>
            <a:ext cx="194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依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84720" y="2565360"/>
            <a:ext cx="273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农耕社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24000" y="1928520"/>
            <a:ext cx="860400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同学们，请结合你读过的书或者看过的影视资料，想一想，当提到“农耕社会” 时，你想到了什么样的画面？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农耕生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692280"/>
            <a:ext cx="4495680" cy="25336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5613480" y="0"/>
            <a:ext cx="3530520" cy="31734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0" y="3198960"/>
            <a:ext cx="4191120" cy="36590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4644720" y="3951000"/>
            <a:ext cx="4041720" cy="21747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5"/>
          <a:stretch/>
        </p:blipFill>
        <p:spPr>
          <a:xfrm>
            <a:off x="4191120" y="3144960"/>
            <a:ext cx="4952880" cy="37130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24000" y="1052640"/>
            <a:ext cx="8494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那时没有电灯，没有电视，没有收音机，也没有汽车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64000" y="1052640"/>
            <a:ext cx="144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没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4000" y="1700280"/>
            <a:ext cx="144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没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56000" y="1052640"/>
            <a:ext cx="151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没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08360" y="1700280"/>
            <a:ext cx="187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也没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35280" y="2492280"/>
            <a:ext cx="15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排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11280" y="3716280"/>
            <a:ext cx="813600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个人在孤岛上生活，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没有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没有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没有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也没有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真的很孤独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948360" y="364500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快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472428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亲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75280" y="4221000"/>
            <a:ext cx="142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嬉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835280" y="422100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温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250920" y="1052640"/>
            <a:ext cx="874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那时没有电灯，没有电视，没有收音机，也没有汽车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4000" y="3068640"/>
            <a:ext cx="882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那时没有电灯，没有电视，没有收音机，也没有汽车…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900000" y="2593080"/>
            <a:ext cx="7345440" cy="131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人类在上百万年的历史中，一直生活在一个依赖自然的农耕社会。那时没有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 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没有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没有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也没有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08000" y="1700280"/>
            <a:ext cx="889308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人们只能在神话中用“千里眼”“顺风耳”和腾云驾雾的神仙，来寄托自己的美好愿望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79280" y="548280"/>
            <a:ext cx="896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世纪的这一百年又是什么样的？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2881800"/>
            <a:ext cx="896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世纪，人类登上月球，潜入深海，洞察百亿光年外的天体，探索原子核世界的奥秘；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世纪，电视、程控电话、因特网以及民航飞机、高速火车、远洋船舶等，日益把人类居住的星球变成联系紧密的“地球村”。</a:t>
            </a:r>
            <a:r>
              <a:rPr b="1" lang="zh-CN" sz="3600" spc="-1" strike="noStrike">
                <a:solidFill>
                  <a:srgbClr val="333399"/>
                </a:solidFill>
                <a:latin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872880" y="472428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66"/>
                </a:solidFill>
                <a:latin typeface="Arial"/>
              </a:rPr>
              <a:t>地球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635280" y="3573360"/>
            <a:ext cx="5040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50920" y="4149720"/>
            <a:ext cx="84978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0" y="5373720"/>
            <a:ext cx="5580000" cy="712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50920" y="4797360"/>
            <a:ext cx="86407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5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332000" y="620640"/>
            <a:ext cx="691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在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世纪一百年的时间里，人类利用现代科学技术获得那么多奇迹般的、出乎意料的发现和发明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815360" y="3357720"/>
            <a:ext cx="42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出乎意料：超出人们考虑的范围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351480" y="184464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99"/>
                </a:solidFill>
                <a:latin typeface="Arial"/>
              </a:rPr>
              <a:t>出乎意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041560" y="24210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发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554640" y="24210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发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50920" y="3933720"/>
            <a:ext cx="889308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09480" y="1066680"/>
            <a:ext cx="807732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改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变  </a:t>
            </a:r>
            <a:r>
              <a:rPr b="1" lang="zh-CN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程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度   依</a:t>
            </a:r>
            <a:r>
              <a:rPr b="1" lang="zh-CN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赖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农</a:t>
            </a:r>
            <a:r>
              <a:rPr b="1" lang="zh-CN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耕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社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腾云</a:t>
            </a:r>
            <a:r>
              <a:rPr b="1" lang="zh-CN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驾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雾   </a:t>
            </a:r>
            <a:r>
              <a:rPr b="1" lang="zh-CN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幻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想   </a:t>
            </a:r>
            <a:r>
              <a:rPr b="1" lang="zh-CN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潜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入深海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原子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楷体_GB2312"/>
              </a:rPr>
              <a:t>核</a:t>
            </a: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楷体_GB2312"/>
              </a:rPr>
              <a:t>  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程</a:t>
            </a:r>
            <a:r>
              <a:rPr b="1" lang="zh-CN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控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电话  </a:t>
            </a:r>
            <a:r>
              <a:rPr b="1" lang="zh-CN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联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系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哲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学  </a:t>
            </a:r>
            <a:r>
              <a:rPr b="1" lang="zh-CN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归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根到底    船</a:t>
            </a:r>
            <a:r>
              <a:rPr b="1" lang="zh-CN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609480"/>
            <a:ext cx="130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ǎ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77120" y="60948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ē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876920" y="609480"/>
            <a:ext cx="106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à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828800" y="1905120"/>
            <a:ext cx="123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ji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505320" y="1905120"/>
            <a:ext cx="157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hu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à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638680" y="1905120"/>
            <a:ext cx="145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qi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410840" y="3276720"/>
            <a:ext cx="137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h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45800" y="3200400"/>
            <a:ext cx="185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à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486400" y="3200400"/>
            <a:ext cx="124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li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91520" y="4587840"/>
            <a:ext cx="160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zh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86000" y="4572000"/>
            <a:ext cx="134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gu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906520" y="4572000"/>
            <a:ext cx="137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b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486440" y="609480"/>
            <a:ext cx="211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ché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260280"/>
            <a:ext cx="889308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发现：</a:t>
            </a:r>
            <a:r>
              <a:rPr b="1" lang="zh-CN" sz="4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经过研究、探索等，看到或找到前人没有看到的事物或规律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2637000"/>
            <a:ext cx="914400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发明：</a:t>
            </a:r>
            <a:r>
              <a:rPr b="1" lang="zh-CN" sz="4400" spc="-1" strike="noStrike">
                <a:solidFill>
                  <a:srgbClr val="0000cc"/>
                </a:solidFill>
                <a:latin typeface="Arial"/>
                <a:ea typeface="楷体_GB2312"/>
              </a:rPr>
              <a:t>人们创造出来的新事物或新方法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771640" y="3429000"/>
            <a:ext cx="37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（原先不存在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987640" y="1628640"/>
            <a:ext cx="410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（原先存在的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835280" y="4581360"/>
            <a:ext cx="14396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发现</a:t>
            </a:r>
            <a:endParaRPr b="1" lang="en-US" sz="1800" spc="1" strike="noStrike">
              <a:ln w="9360">
                <a:solidFill>
                  <a:srgbClr val="ff33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835280" y="5445000"/>
            <a:ext cx="14396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发明</a:t>
            </a:r>
            <a:endParaRPr b="1" lang="en-US" sz="1800" spc="1" strike="noStrike">
              <a:ln w="9360">
                <a:solidFill>
                  <a:srgbClr val="ff33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5292720" y="4581360"/>
            <a:ext cx="1440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cc"/>
                  </a:solidFill>
                  <a:miter/>
                </a:ln>
                <a:solidFill>
                  <a:srgbClr val="0000cc"/>
                </a:solidFill>
                <a:latin typeface="宋体"/>
              </a:rPr>
              <a:t>发觉</a:t>
            </a:r>
            <a:endParaRPr b="1" lang="en-US" sz="1800" spc="1" strike="noStrike">
              <a:ln w="9360">
                <a:solidFill>
                  <a:srgbClr val="0000cc"/>
                </a:solidFill>
                <a:miter/>
              </a:ln>
              <a:solidFill>
                <a:srgbClr val="0000cc"/>
              </a:solidFill>
              <a:latin typeface="宋体"/>
              <a:ea typeface="宋体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292720" y="5445000"/>
            <a:ext cx="1440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cc"/>
                  </a:solidFill>
                  <a:miter/>
                </a:ln>
                <a:solidFill>
                  <a:srgbClr val="0000cc"/>
                </a:solidFill>
                <a:latin typeface="宋体"/>
              </a:rPr>
              <a:t>创造</a:t>
            </a:r>
            <a:endParaRPr b="1" lang="en-US" sz="1800" spc="1" strike="noStrike">
              <a:ln w="9360">
                <a:solidFill>
                  <a:srgbClr val="0000cc"/>
                </a:solidFill>
                <a:miter/>
              </a:ln>
              <a:solidFill>
                <a:srgbClr val="0000cc"/>
              </a:solidFill>
              <a:latin typeface="宋体"/>
              <a:ea typeface="宋体"/>
            </a:endParaRPr>
          </a:p>
        </p:txBody>
      </p:sp>
      <p:cxnSp>
        <p:nvCxnSpPr>
          <p:cNvPr id="137" name=""/>
          <p:cNvCxnSpPr/>
          <p:nvPr/>
        </p:nvCxnSpPr>
        <p:spPr>
          <a:xfrm>
            <a:off x="3348000" y="4797000"/>
            <a:ext cx="1729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lg" type="stealth" w="lg"/>
            <a:tailEnd len="lg" type="stealth" w="lg"/>
          </a:ln>
        </p:spPr>
      </p:cxnSp>
      <p:cxnSp>
        <p:nvCxnSpPr>
          <p:cNvPr id="138" name=""/>
          <p:cNvCxnSpPr/>
          <p:nvPr/>
        </p:nvCxnSpPr>
        <p:spPr>
          <a:xfrm>
            <a:off x="3348000" y="5660640"/>
            <a:ext cx="1729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lg" type="stealth" w="lg"/>
            <a:tailEnd len="lg" type="stealth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6240" y="609120"/>
            <a:ext cx="8537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选词填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　　　　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发明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　　发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爱迪生（       ）金属丝通电后会发出强烈的白光，于是他（　　）了电灯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科学家（　　）蝙蝠能发出超声波，于是（　　）了雷达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843280" y="2349360"/>
            <a:ext cx="157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发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443640" y="2997360"/>
            <a:ext cx="157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发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843280" y="4300560"/>
            <a:ext cx="17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发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419640" y="4941720"/>
            <a:ext cx="150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发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1523160"/>
            <a:ext cx="8185320" cy="131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世纪，人类登上月球，潜入深海，洞察百亿光年外的天体，探索原子核世界的奥秘；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世纪，电视、程控电话、因特网以及民航飞机、高速火车、远洋船舶等，日益把人类居住的星球变成联系紧密的“地球村”。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164080" y="404640"/>
            <a:ext cx="72900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发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042920" y="692280"/>
            <a:ext cx="669780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9280" y="1341360"/>
            <a:ext cx="741708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79280" y="1916280"/>
            <a:ext cx="460872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48360" y="1916280"/>
            <a:ext cx="251928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79280" y="2565360"/>
            <a:ext cx="75614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179280" y="3068280"/>
            <a:ext cx="6337440" cy="730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177040" y="1989000"/>
            <a:ext cx="72900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发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4596480"/>
            <a:ext cx="799164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世纪人类发现了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射线、相对论、量子理论等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5850720"/>
            <a:ext cx="831708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世纪人类发明了微波炉、洗衣机、空调、手机、拉链、彩色胶片等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-5189760"/>
            <a:ext cx="30168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948360" y="1142640"/>
            <a:ext cx="20512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忽如一夜春风来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千树万树梨花开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16436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6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2104920" y="90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2394000"/>
            <a:ext cx="8610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诗句“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忽如一夜</a:t>
            </a:r>
            <a:r>
              <a:rPr b="1" lang="zh-CN" sz="54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春风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来，千树万树</a:t>
            </a:r>
            <a:r>
              <a:rPr b="1" lang="zh-CN" sz="54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梨花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开。”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这里有什么作用？说明什么问题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600200" y="30456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  <a:ea typeface="楷体_GB2312"/>
              </a:rPr>
              <a:t>结合课文理解句子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219320" y="1523880"/>
            <a:ext cx="6629400" cy="763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826920" y="907920"/>
            <a:ext cx="8020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“</a:t>
            </a: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春风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”指的是科技带来的人类生活的美好春天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9640" y="3141720"/>
            <a:ext cx="8020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“</a:t>
            </a: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梨花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”指无数的发明创造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2556000" y="692280"/>
            <a:ext cx="3381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</a:rPr>
              <a:t>忽如一夜春风来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</a:rPr>
              <a:t>千树万树梨花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24000" y="3376440"/>
            <a:ext cx="8496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这一句作为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承上启下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的过渡句，说明了现代科学技术的成就为人们的生活带来翻天覆地的变化，以及那份意想不到的惊喜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250920" y="0"/>
            <a:ext cx="85341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白雪歌送武判官归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【唐】 岑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北风卷地白草折，胡天八月即飞雪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忽如一夜春风来，千树万树梨花开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散入珠帘湿罗幕，狐裘不暖锦衾薄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将军角弓不得控，都护铁衣冷难着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瀚海阑干千尺冰，愁云惨淡万里凝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中军置酒饮归客，胡琴琵琶与羌笛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纷纷暮雪下辕门，风掣红旗冻不翻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轮台东门送君去，去时雪满天山路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山回路转不见君，雪上空留马行处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祖先的幻想纷纷变成了现实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62120" y="990720"/>
            <a:ext cx="4114800" cy="32922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724360" y="765000"/>
            <a:ext cx="2883240" cy="58676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762120" y="3505320"/>
            <a:ext cx="4362480" cy="3028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1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94216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 txBox="1"/>
          <p:nvPr/>
        </p:nvSpPr>
        <p:spPr>
          <a:xfrm>
            <a:off x="250920" y="5516640"/>
            <a:ext cx="5184720" cy="106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6781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人类登上月球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27511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黑体"/>
              </a:rPr>
              <a:t>读一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23640" y="1268280"/>
            <a:ext cx="85690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寄托      改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呼风唤雨    科学技术　大大改观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农耕社会　 腾云驾雾　百年历程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美好愿望    洞察天体    探索奥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程控电话    远洋船舶    归根到底　　 创造奇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 txBox="1"/>
          <p:nvPr/>
        </p:nvSpPr>
        <p:spPr>
          <a:xfrm>
            <a:off x="684360" y="5084640"/>
            <a:ext cx="7632720" cy="1347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7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人造卫星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826920" y="549360"/>
            <a:ext cx="4176720" cy="348444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4643280" y="3860640"/>
            <a:ext cx="3888000" cy="259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5435640" y="3573360"/>
            <a:ext cx="3708360" cy="328464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804000" cy="45417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 txBox="1"/>
          <p:nvPr/>
        </p:nvSpPr>
        <p:spPr>
          <a:xfrm>
            <a:off x="0" y="4797360"/>
            <a:ext cx="5832360" cy="142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6781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潜入深海  探索奥秘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5183280" cy="37321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826920" y="4365720"/>
            <a:ext cx="3745080" cy="22683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651640" y="1341360"/>
            <a:ext cx="2952720" cy="439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780000" cy="283536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3564000" y="1341360"/>
            <a:ext cx="4032360" cy="302436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3"/>
          <a:stretch/>
        </p:blipFill>
        <p:spPr>
          <a:xfrm>
            <a:off x="5780160" y="4221000"/>
            <a:ext cx="3363840" cy="26370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 txBox="1"/>
          <p:nvPr/>
        </p:nvSpPr>
        <p:spPr>
          <a:xfrm>
            <a:off x="4140360" y="260280"/>
            <a:ext cx="352872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3968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程控电话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68360" y="3284640"/>
            <a:ext cx="215892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电脑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1835280" y="5516640"/>
            <a:ext cx="3744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因特网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1116000" y="476280"/>
            <a:ext cx="6408720" cy="349236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684360" y="4292640"/>
            <a:ext cx="3301920" cy="20700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4572000" y="4365720"/>
            <a:ext cx="3809880" cy="190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59280" cy="357336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4857840" y="0"/>
            <a:ext cx="4286160" cy="35733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1835280" y="3789360"/>
            <a:ext cx="5688000" cy="279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7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2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7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0" y="1557360"/>
            <a:ext cx="914400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正是这些发现和发明，使人类的生活大大改观，其改变的程度超过了人类历史上百万年的总和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0" y="1241640"/>
            <a:ext cx="914400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人类生活的舒适和方便，是连过去的王公贵族也不敢想的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3893040"/>
            <a:ext cx="914400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请联系生活实际想一想，人类的哪些发明或发现改变了人类的生活，使人类的生活越来越舒适、方便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79280" y="3007080"/>
            <a:ext cx="896472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人类生活的舒适和方便，是连过去的王公贵族也不敢想的。科学在改变着人类的精神文化生活，也在改变着人类的物质生活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6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我们学习过的说明方法有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列数字、举例子、作比较、打比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0" y="6613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为什么说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世纪是个呼风唤雨的世纪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3570480"/>
            <a:ext cx="889308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     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因为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0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世纪的科技成就巨大，而且这些科技成就改变着人类的生活，使人类的生活变得越来越舒适，越来越方便。而这种改变只在短短的一百年间就实现了，超过了人类历史上百万年的总和。所以说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0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世纪是个呼风唤雨的世纪。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9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-1476360" y="260280"/>
            <a:ext cx="10620360" cy="633564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900000" y="1413000"/>
            <a:ext cx="748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黑体"/>
                <a:ea typeface="黑体"/>
              </a:rPr>
              <a:t>20</a:t>
            </a:r>
            <a:r>
              <a:rPr b="1" lang="zh-CN" sz="4400" spc="-1" strike="noStrike">
                <a:solidFill>
                  <a:srgbClr val="ff3300"/>
                </a:solidFill>
                <a:latin typeface="黑体"/>
                <a:ea typeface="黑体"/>
              </a:rPr>
              <a:t>世纪是一个呼风唤雨的世纪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826920" y="3357720"/>
            <a:ext cx="756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黑体"/>
              </a:rPr>
              <a:t>科技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  创造奇迹，改变生活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0" y="516600"/>
            <a:ext cx="9144000" cy="192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既然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世纪是个呼风唤雨的世纪，直接写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世纪的巨大科技成就及给人类生活带来的变化不就行了吗，为什么还要写过去的上百万年呢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3723480"/>
            <a:ext cx="9144000" cy="131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    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作者这样写是用过去的“上百万年”和“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20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世纪”这一百年进行对比，让我们更清楚地知道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20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世纪的科技发展异常迅速，而且取得了巨大的成果。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2292480"/>
            <a:ext cx="914400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归根到底，是科学使得我们这个时代不同于以往任何时代。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世纪是一个呼风唤雨的世纪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048120" y="2971800"/>
            <a:ext cx="4343400" cy="2057400"/>
          </a:xfrm>
          <a:prstGeom prst="cloudCallout">
            <a:avLst>
              <a:gd name="adj1" fmla="val -43750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buClr>
                <a:srgbClr val="0099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11280" y="2276640"/>
            <a:ext cx="8316720" cy="364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能够使其刮风下雨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原指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神仙道士的法力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现在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比喻能够支配大自然或推动社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会前进的力量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64280" y="2205000"/>
            <a:ext cx="204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buClr>
                <a:srgbClr val="0099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呼风唤雨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211640" y="1268280"/>
            <a:ext cx="288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呼风唤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1125360"/>
            <a:ext cx="50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是谁来呼风唤雨呢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788000" y="1125360"/>
            <a:ext cx="41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当然是人类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2205000"/>
            <a:ext cx="46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靠什么呼风唤雨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492600" y="2133720"/>
            <a:ext cx="42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靠的是现代科学技术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635280" y="3645000"/>
            <a:ext cx="201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设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32000" y="4581360"/>
            <a:ext cx="288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自问自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56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6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A.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设问  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B.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疑问   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C.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反问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小刚，你今年多大了？（      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海上日出难道不是伟大的奇观吗？（         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是谁来呼风唤雨呢？当然是人类。（          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0" y="162864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小刚，你今年多大了？（      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海上日出难道不是伟大的奇观吗？（         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是谁来呼风唤雨呢？当然是人类。（          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948360" y="1483920"/>
            <a:ext cx="194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B.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疑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6836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A.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设问  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B.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疑问   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C.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反问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0" y="162864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小刚，你今年多大了？（      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海上日出难道不是伟大的奇观吗？（         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是谁来呼风唤雨呢？当然是人类。（          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2771280" y="3068280"/>
            <a:ext cx="20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C.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反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A.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设问  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B.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疑问   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C.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反问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1T05:50:17Z</dcterms:created>
  <dc:creator>冯淑珍</dc:creator>
  <dc:description/>
  <dc:language>en-US</dc:language>
  <cp:lastModifiedBy>Lenovo User</cp:lastModifiedBy>
  <dcterms:modified xsi:type="dcterms:W3CDTF">2013-01-03T13:59:43Z</dcterms:modified>
  <cp:revision>31</cp:revision>
  <dc:subject/>
  <dc:title>幻灯片 1</dc:title>
</cp:coreProperties>
</file>