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25E-A01D-4EC4-BCCC-4016347F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580-1040-4FCB-B6D8-3854C37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FFC-8EFC-49D7-AC10-C5E3B8E5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9F3-98A3-49BD-82AD-E9E027E9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3E8-7197-4BE5-8FDC-653B4B63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4BA-2758-4902-8EA3-221B6813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732-1CC4-4947-BAB9-919E983E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C77-8E7E-4EA3-963F-2FAECBE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8DF-90F1-4F62-AA39-FDB532CC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A2D-54E9-447A-B922-B18A06C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087-D8FD-4736-909F-160090C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516-8BFA-4646-ABDB-6151DDA3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E1D-3A5E-4416-9754-3A33955A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457200" y="3429000"/>
            <a:ext cx="8153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每天笑一笑，生活跟更美妙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2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5638680"/>
            <a:ext cx="914400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妈妈问他：“今天好不好啊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霍斯吼了一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3"/>
          <p:cNvPicPr/>
          <p:nvPr/>
        </p:nvPicPr>
        <p:blipFill>
          <a:blip r:embed="rId1"/>
          <a:srcRect l="0" t="2311" r="0" b="0"/>
          <a:stretch/>
        </p:blipFill>
        <p:spPr>
          <a:xfrm>
            <a:off x="0" y="0"/>
            <a:ext cx="9156600" cy="6711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0" y="5546880"/>
            <a:ext cx="914400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妈妈说：“你有没有谢谢珍珠阿姨呀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霍斯咚的一声趴在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4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6984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来煮汤吧！”妈妈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5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0" y="5454720"/>
            <a:ext cx="9144000" cy="138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霍斯一动也不动。他正生气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不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煮什么鬼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6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妈妈把锅子装满水放在炉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7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水热了，她撒进一些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8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后，她深深吸一口气，对着锅子尖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9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0" y="5546880"/>
            <a:ext cx="914400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该你啦！”她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于是，霍斯爬上凳子，也对着锅子尖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0"/>
          <p:cNvPicPr/>
          <p:nvPr/>
        </p:nvPicPr>
        <p:blipFill>
          <a:blip r:embed="rId1"/>
          <a:srcRect l="0" t="2311" r="2567" b="0"/>
          <a:stretch/>
        </p:blipFill>
        <p:spPr>
          <a:xfrm>
            <a:off x="0" y="76320"/>
            <a:ext cx="9067680" cy="6711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妈妈叫得更大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1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霍斯吼吼吼了好几声，还对着锅子龇牙咧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"/>
          <p:cNvPicPr/>
          <p:nvPr/>
        </p:nvPicPr>
        <p:blipFill>
          <a:blip r:embed="rId1"/>
          <a:srcRect l="0" t="4527" r="0" b="8966"/>
          <a:stretch/>
        </p:blipFill>
        <p:spPr>
          <a:xfrm>
            <a:off x="0" y="0"/>
            <a:ext cx="9156600" cy="5943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838080" y="53341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霍斯今天有一箩筐不如意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水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23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6984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妈妈对着锅子吐舌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4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6984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霍斯也吐舌头，吐了二十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他拿起汤勺乒乒乓乓地敲锅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6"/>
          <p:cNvPicPr/>
          <p:nvPr/>
        </p:nvPicPr>
        <p:blipFill>
          <a:blip r:embed="rId1"/>
          <a:srcRect l="0" t="2405" r="0" b="0"/>
          <a:stretch/>
        </p:blipFill>
        <p:spPr>
          <a:xfrm>
            <a:off x="-6480" y="76320"/>
            <a:ext cx="9156960" cy="6705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他喷出最大一口火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7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8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后，他笑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29"/>
          <p:cNvPicPr/>
          <p:nvPr/>
        </p:nvPicPr>
        <p:blipFill>
          <a:blip r:embed="rId1"/>
          <a:srcRect l="0" t="3422" r="0" b="0"/>
          <a:stretch/>
        </p:blipFill>
        <p:spPr>
          <a:xfrm>
            <a:off x="-6480" y="152280"/>
            <a:ext cx="9156960" cy="6635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妈妈也笑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0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霍斯问：“我们到底在煮什么汤啊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31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生气汤。”妈妈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81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他想不出第三题的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32"/>
          <p:cNvPicPr/>
          <p:nvPr/>
        </p:nvPicPr>
        <p:blipFill>
          <a:blip r:embed="rId1"/>
          <a:srcRect l="16714" t="0" r="18377" b="0"/>
          <a:stretch/>
        </p:blipFill>
        <p:spPr>
          <a:xfrm>
            <a:off x="1523880" y="-6480"/>
            <a:ext cx="5943600" cy="6870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5546880"/>
            <a:ext cx="914400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们就这样肩并肩在一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搅散了一天的不如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246625_132725015239_2"/>
          <p:cNvPicPr/>
          <p:nvPr/>
        </p:nvPicPr>
        <p:blipFill>
          <a:blip r:embed="rId1"/>
          <a:srcRect l="2682" t="3660" r="728" b="3660"/>
          <a:stretch/>
        </p:blipFill>
        <p:spPr>
          <a:xfrm>
            <a:off x="0" y="0"/>
            <a:ext cx="64962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324120" y="134136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撒点盐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放点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左左左扭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右右扭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深呼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喊一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喷出一口火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啊，我变快乐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304920" y="4724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起来煮“生气汤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6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69840"/>
            <a:ext cx="9156960" cy="6788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琳达给他一封情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7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还有，同学带来一头叫露露的牛，表演的时候踩了他一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8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好像这些加起来还不够倒霉似的，放学时，妈妈居然找珍珠阿姨来接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9"/>
          <p:cNvPicPr/>
          <p:nvPr/>
        </p:nvPicPr>
        <p:blipFill>
          <a:blip r:embed="rId1"/>
          <a:srcRect l="0" t="2311" r="0" b="0"/>
          <a:stretch/>
        </p:blipFill>
        <p:spPr>
          <a:xfrm>
            <a:off x="-6480" y="76320"/>
            <a:ext cx="9156960" cy="6711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珍珠阿姨开车横冲直撞，一路吱吱嘎嘎，差点儿压死三只贵宾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0"/>
          <p:cNvPicPr/>
          <p:nvPr/>
        </p:nvPicPr>
        <p:blipFill>
          <a:blip r:embed="rId1"/>
          <a:srcRect l="0" t="2311" r="0" b="0"/>
          <a:stretch/>
        </p:blipFill>
        <p:spPr>
          <a:xfrm>
            <a:off x="0" y="69840"/>
            <a:ext cx="9156600" cy="6711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霍斯气得想打人！他用力踩了一朵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1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5546880"/>
            <a:ext cx="914400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妈妈对他说：“嗨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霍斯发出“哼”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SUNG</cp:lastModifiedBy>
  <dcterms:modified xsi:type="dcterms:W3CDTF">2013-10-08T14:06:0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