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EF4-9451-441B-AC0A-79C0B6AE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29C-E8F2-4598-9A5E-4C061BA0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56BE-4380-4D33-BC82-96711C0F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AD9-CB33-44D4-AC03-B84671C6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6D77-F108-4689-B018-F46627FB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0B7-38BD-4883-A7A3-DAAC2A2F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15D-BF83-4017-B1BA-6FC1C8ED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D04D-ABB5-4067-BB7E-75E21D7A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1C91-A030-440F-89B2-784F07D1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F44-F5A1-4794-9CC7-D521859F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389-A60C-4E30-AA02-AA5F1A03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0433-F0DD-409B-88B4-ACECABDB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8DEE-BDF5-4697-B0D9-83DB67CD60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87480" y="274680"/>
            <a:ext cx="53672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819000"/>
            <a:ext cx="822960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784080"/>
            <a:ext cx="82296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763560"/>
            <a:ext cx="82296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84440" y="274680"/>
            <a:ext cx="57751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95520" y="274680"/>
            <a:ext cx="59529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06480" y="274680"/>
            <a:ext cx="55292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828720"/>
            <a:ext cx="82296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866880"/>
            <a:ext cx="822960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722160"/>
            <a:ext cx="8229600" cy="49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770040"/>
            <a:ext cx="822960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695160"/>
            <a:ext cx="8229600" cy="50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725400"/>
            <a:ext cx="82296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790560"/>
            <a:ext cx="82296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828720"/>
            <a:ext cx="82296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</cp:lastModifiedBy>
  <dcterms:modified xsi:type="dcterms:W3CDTF">2009-07-22T07:40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