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B67-FEB5-44C8-A90A-13B80E8E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E94-BD93-485F-89A5-2C01FE6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46A-0DB5-48CE-803B-BD16C6CE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7C2-E7C6-481A-8DAF-B4412BFC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593-E477-414C-915F-99D3953E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C24-B1F1-41C6-B71A-CF7586ED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41D-6F75-43DF-888A-82C85F57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429-A25F-43A1-ADD4-299DB72D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6CD-88AD-4F63-8A44-875F7E6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BFA-9A05-4869-BF9D-88B94802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CEA-C9F1-4F61-9524-526135FF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F2A-E3AE-4DE3-B13B-42192973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1677-C64C-4DEB-850B-AAC1683873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photo.blog.sina.com.cn/showpic.html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hoto.blog.sina.com.cn/showpic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961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0"/>
            <a:ext cx="961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20000" cy="6126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60958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8426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896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8930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99727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0"/>
            <a:ext cx="8640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8640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549360"/>
            <a:ext cx="84247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86756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396720" y="189000"/>
            <a:ext cx="93265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072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35488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882000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d6e73ebt72e3dce81736&amp;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5d6e73ebt72e3dce81736&amp;69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25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74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731880"/>
            <a:ext cx="8748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5:53:56Z</dcterms:created>
  <dc:creator>luobo</dc:creator>
  <dc:description/>
  <dc:language>en-US</dc:language>
  <cp:lastModifiedBy>luobo</cp:lastModifiedBy>
  <dcterms:modified xsi:type="dcterms:W3CDTF">2009-09-17T06:15:25Z</dcterms:modified>
  <cp:revision>2</cp:revision>
  <dc:subject/>
  <dc:title>幻灯片 1</dc:title>
</cp:coreProperties>
</file>