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71B4-74B4-4AB4-BB4D-67C927EFF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4778-206F-4402-BDE8-7221F55D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C072-2B99-48AF-BE07-597D3971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DF0D-D8CE-475F-B4FB-214DF69DB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D04E-10EB-4D54-99F3-BC6C1834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685A-3E40-4BBB-97FC-5690F5F9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8AFD-72BE-4EC9-8BF2-D82C88B3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8781-D73B-4F6D-839A-77FF83E0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FE5A-E73F-4EBD-850C-217B04BD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31BD-1FB4-4744-9917-376158FE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5C46-3C0B-4381-8398-D8E8F526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8DAB-6D4E-484D-9544-46C7B929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B54B-FF45-4496-8D9F-71EB28F1D2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187280" y="5805360"/>
            <a:ext cx="244800" cy="244440"/>
          </a:xfrm>
          <a:prstGeom prst="rect">
            <a:avLst/>
          </a:prstGeom>
          <a:ln w="0">
            <a:noFill/>
          </a:ln>
        </p:spPr>
      </p:pic>
    </p:spTree>
  </p:cSld>
  <p:transition advTm="6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24000" y="4437000"/>
            <a:ext cx="820872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看完这个故事，是否觉得这群猴子很笨呢？是否也体会到盲从的可怕。现实中，一个人错误的知见，也可能引发一堆人跟着错误，最后造成不可收拾的悲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 rot="5400000">
            <a:off x="-1019520" y="2898720"/>
            <a:ext cx="5640120" cy="1227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谢谢收看</a:t>
            </a:r>
            <a:endParaRPr b="1" lang="en-US" sz="96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advTm="6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156000" y="4076280"/>
            <a:ext cx="29876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00"/>
                </a:solidFill>
                <a:latin typeface="Arial"/>
              </a:rPr>
              <a:t>从前，有一群猴子住在森林中，森林附近有一口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5013360"/>
            <a:ext cx="55800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有一天晚上，猴子跑到井边去玩，无意中向井里张望，发现井中有月亮的倒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愚笨的猴子以为月亮掉到了水中，于是飞快地跑回森林中，报告猴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我看见月亮掉到井里面去了，我们应该将它救出来。”其它的猴子听到了纷纷地说：“我赞成！我赞成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4000" y="4365720"/>
            <a:ext cx="836280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于是猴王便带着所有的猴子们一起去救月亮。它们商量如何救月亮，一只猴子发表意见说：“我们可以先由一位同伴爬到树上，然后大家由上而下接手，就可以到达井里面救月亮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43280" y="3068280"/>
            <a:ext cx="404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大家赞同它的意见，先爬到一颗靠井边的树，由上而下吊着树枝，最后一只猴子终于碰到了井中的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4000" y="5589360"/>
            <a:ext cx="842472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但经过手一搅动，月亮便不见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4869000"/>
            <a:ext cx="8353440" cy="33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在它发现不对劲的同时，树枝也因为负荷不了一群猴子的重量，终于断裂了，一群笨猴子个个都掉入了井里，丧失了宝贵的生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50:34Z</dcterms:created>
  <dc:creator>zhao</dc:creator>
  <dc:description/>
  <dc:language>en-US</dc:language>
  <cp:lastModifiedBy>zhao</cp:lastModifiedBy>
  <dcterms:modified xsi:type="dcterms:W3CDTF">2010-10-21T07:50:54Z</dcterms:modified>
  <cp:revision>2</cp:revision>
  <dc:subject/>
  <dc:title>幻灯片 1</dc:title>
</cp:coreProperties>
</file>