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7.png" ContentType="image/png"/>
  <Override PartName="/ppt/media/type.wav" ContentType="audio/x-wav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A2C-F150-4748-B2AA-E830FF8A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E35-3C73-4C13-A9A3-130D6BFD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8B2-F0B2-4C9B-9428-7A49931A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A7D-A13C-446C-8897-1F855BC4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C9E-7DF7-4918-8998-53A591F0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565-B5D5-4C95-AFD4-675A7AF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8AF-99EC-44BA-A3E5-3145BE59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BE1-B1E5-4782-898E-3C394403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320-838C-4EF4-B2D0-345C67DD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5E9-A273-461B-B110-091D2985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7D4-C1FC-4CC4-A1B7-B7004D3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F86-134C-4949-AEE4-CAF8429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9A9B-0614-4556-A39E-867C86373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09480" y="1523880"/>
            <a:ext cx="8001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好习惯  好人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"/>
          <p:cNvSpPr/>
          <p:nvPr/>
        </p:nvSpPr>
        <p:spPr>
          <a:xfrm>
            <a:off x="1183680" y="320760"/>
            <a:ext cx="22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（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班家长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月光水岸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00400" y="4572000"/>
            <a:ext cx="5105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外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让孩子在多看报纸、课外读物中识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仅可以积累孩子的语言，而且能巩固课堂上所学的知识，还可以认识其它许多新的汉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让孩子在生活中识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：看电视时鼓励孩子认字；家中的生活用品识字，牙膏、洗衣粉等；去逛超市，认一认物品名称；走在街上，认一认招牌等等，让孩子既有识字能力，又有识字的成果，有了在生活中自主识字的途径、方法，培养孩子的识字的兴趣和主动识字的习惯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三）语文学习中家长与教师的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坚持每天至少抽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时间与孩子交谈，了解孩子一天的学习、生活情况，交谈过程中注意孩子的表达是否正确，语句是否通顺连贯，并示范性的向他介绍一天的见闻，以此培养孩子对生活的观察能力和感受能力，同时锻炼口头表达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鼓励孩子多读、多背古诗、儿歌等，多听、多讲故事，在背诵正确、复叙完整的基础上，进一步做到态度大方、描述绘声绘色。要求背《弟子规》，这也是训练记忆能力的好方法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7020000" y="5373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46480" y="1317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80604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年级学生预习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：把课文读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圈：在课文中圈出生字，划出生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标：标上每个自然段的序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问：在不懂的地方画上小问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预习完成的学生，家长在课题的左上角签上：已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20000" y="5373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1341360"/>
            <a:ext cx="807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     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一年级语文的作业每天其实都是类似的，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会读当天课堂里学的拼音或生字，如果是四会的，也就是识字（二）的还要求会写。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当天所学的拼音或者生字各写两行。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完成自己课外买的辅导教材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根据美国学者研究，即使是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个完全学会的事物，第一天只能记住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60%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第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天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40%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、第三天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30%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而已。可是往后的记忆减少就很慢了，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个月后大概还能记住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20%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，为了不将学过的忘记，复习很有必要。当天复习由于记忆犹新，所以学习过的能记住，也可达到学习的成就感、满足感。如果两三天后才复习，由于记忆已经淡薄，所以效率很差，如果完全不复习的话，学过的就渐渐忘记了。低年级如果每天复习，课业一定跟得上，而且会对功课产生自信。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47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个学生，必定有几个接受能力慢的孩子，而一节课只有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30-40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分钟，所以就需要家长在家里多对他指点了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76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语文上的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020000" y="5373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6922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 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孩子在家里能多读，及时复习巩固，那第二天到学校就能及时到我这里通过检测。这样几次下来，他读书就有劲头了。如果他老是在老师面前读错或者不会写，怎么可能一直很有劲地学习呢？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细心的家长会发现一年级的重点不仅仅是拼音、字、词，还有句子的练习、阅读和写话的练习。由此看出我们语文的学习是由字－词－句－段－篇，只有打好基础知识才能去阅读、写作。学生的成绩差距往往就是阅读和写作的差距。因此我们从一年级起就准备开始让学生练习写日记。每周一篇。可有的学生不会找素材，抓不住重点，记流水帐，将一天中的事情都记下来，因此，家长的指导尤为重要，因为老师不可能一一指导，请家长们理解。孩子的文章写得出色，是跟孩子的平时的观察、阅读和家长辅导分不开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67040" y="1622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50480"/>
            <a:ext cx="746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零用钱和零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不要给孩子零花钱，也不要让孩子带零食和玩具来学校。他们光想着吃和玩了，根本没心思听课。而且他们吃的大多都是一些不健康的垃圾食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心提示：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请家长配合老师教育好孩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绝对是为了你的孩子身心健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孩子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准备一个杯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每天在学校多喝白开水，对身体健康有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4400" y="447840"/>
            <a:ext cx="73915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其他小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培养孩子的自理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育孩子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学会收拾整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育孩子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不乱拿别人东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老师协助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同学之间发生小摩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先要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了解清楚事情的真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不袒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己的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孩子的坏习惯要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及时提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与之谈心，让其改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家长合作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关于成立家长委员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服务宗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领导和团结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班全体家长，以支持学校教育、提高孩子们的综合素质为宗旨，为每一个孩子的健康快乐成长保驾护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组织机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委会会长：蔡公源妈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委会副会长：王森宇爸爸   林靖雅妈妈       吴楷洋妈妈    何梓辰爸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让我们感谢家长们的热心参与，也请各位家长今后能配合家委会的各项工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7120" y="437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8760" y="4076640"/>
            <a:ext cx="498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请家委会会长蔡公源妈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大家简单地聊几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04228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送给家长的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如果说孩子是一艘船，那老师和家长就是一对桨，双桨一起用力，小船方可向前，迫切希望在今后的工作中能得到各位家长的配合和支持。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847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黑体"/>
              </a:rPr>
              <a:t>聊聊孩子的习惯培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些家长最担心的是孩子的成绩是否优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却对习惯不够重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其实培养孩子良好的习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适应小学学习生活的“至关重要的第一步”。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7650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诚挚的感谢您对老师工作的支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92360" y="2997360"/>
            <a:ext cx="609588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306828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04000" y="458136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43120" y="1130400"/>
            <a:ext cx="614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62064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836640"/>
            <a:ext cx="79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一）生活习惯的培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早睡早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有规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之前睡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课程表，自己整理书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备明天要带的学习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值日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: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校，领读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: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校。其他学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: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校，无特殊事情应让孩子自己进校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天出门提醒孩子穿戴整洁，已入队的孩子戴好红领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养成良好的个人卫生习惯，平时自带纸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609480"/>
            <a:ext cx="7315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看电视、玩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孩子都喜欢看电视，许多孩子甚至养成边吃饭，边看电视；边写作业，边看电视的坏习惯！这些都会严重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影响到孩子的思维能力，导致学习、做事注意力不集中，不爱思考，做事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星期一到星期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中午晚上都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不要让孩子看电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作业完成好，吃饭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主动帮家人做家务，可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奖励看半小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！把看电视作为一种奖励，每天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时间不超过半小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星期五、周六周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要用同样的方法对孩子看电视，打游戏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</a:rPr>
              <a:t>有限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二）学习习惯的培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的习惯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养孩子认真写作业的习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孩子放学回家一定要养成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先做作业再玩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习惯，这非常重要，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做作业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要先喝好水，上好厕所，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准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好学习用品（如削好铅笔，准备好橡皮，课本等），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作业过程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要轻易离开书桌。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作业当考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每次作业都要非常认真仔细，作业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要限时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用小闹钟提醒。让孩子自己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独立做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自己先检查，自己发现错误，自己改正错误。家长一旦发现孩子作业有问题，先不要直接给孩子指出错误，更不要给孩子正确答案；要让孩子自己把错误检查出来，自己去纠正。实在弄不懂的，家长也可以给孩子讲解，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不能只找错，不改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家长要培养孩子每天回家先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说清楚作业内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好习惯，作业写完后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主动把作业送来检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好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609480"/>
            <a:ext cx="4495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握笔姿势、写字姿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食指拇指捏着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指四指托着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指在后藏着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笔尖向前斜着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笔杆向后躺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笔就是写字时，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拿起笔，要牢记：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眼一尺，胸一拳，手一寸，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正背直脚放平，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端端正正来写字。 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3919680" cy="5638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听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年级我们迫切要培养的是孩子的倾听能力，现在的情况是，我叫孩子回答问题时，有些孩子会只管自己做自己的事，而不去听别人说。倾听的习惯需要家长和老师共同去培养，家长在家里可以通过给孩子讲讲故事，读读新闻，让孩子渐渐学会去倾听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7280" y="1341000"/>
            <a:ext cx="849636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时老师布置了读书的作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定要您的孩子大声地读出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为家长您应该认真地听，特别是拼音。有的孩子在暑假中可能有接触过，学起来比较轻松，有一部分孩子是第一次接触拼音，对这一部分孩子来说，拼音是比较难学的，家长一定要让孩子在家中多读，多练，老师布置的读的作业一定要按质按量的完成。家长要做好检查、评价的工作。熟能生巧，只要每天坚持读，孩子的拼音就不怕学不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长在接送孩子的路上与孩子聊聊学校里的情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来听听孩子在校的表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来锻炼孩子的说话能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以后写话奠定了基础。老师也会利用课本里的语言训练点，让孩子多进行说话练习，家长还可以引导把孩子说的故事日志发到博客，其他孩子也可以在网上进行评价，这样就形成了一个互动的空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3:48:18Z</dcterms:created>
  <dc:creator>微软用户</dc:creator>
  <dc:description/>
  <dc:language>en-US</dc:language>
  <cp:lastModifiedBy>微软用户</cp:lastModifiedBy>
  <dcterms:modified xsi:type="dcterms:W3CDTF">2013-11-17T14:52:06Z</dcterms:modified>
  <cp:revision>138</cp:revision>
  <dc:subject/>
  <dc:title>六年级英语毕业复习经验交流</dc:title>
</cp:coreProperties>
</file>